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7E43-EBE8-4E47-94BD-2241028AC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9066-58A3-47CB-B2AA-C83C0AC7C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7394-548A-46A4-A94A-BCCAADDA0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A478-99E7-41A1-9081-0F20D77A6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8F674-5EB0-4647-9809-9F1CD8148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B348F-D1D0-42C7-B232-9BA1795E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18F2D-C053-4FBE-A103-5516D931F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1E6ED-E009-454E-9B88-BF5796966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EF771-08FE-4C41-BBE5-EFE2EFB91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A8308-F3B1-48CC-865E-D69B09448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87E67-49D2-48CB-BD28-636DDCBF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A7DB-790A-4FBA-9620-E4F5BD60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CD313-9CB4-43F3-BE97-98F4893E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8E350-B5BB-4ABE-AD90-BCFB180A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FE7A3-ADEB-43FF-92B6-7E910076A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D79D7-0242-4D8B-BB3D-987576F3C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9F781-9BFA-49AF-8F59-7695AED68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52F7-1D2A-47F0-A0A4-E8DBD8267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79AE-3F69-43B2-9F5F-01B26F7D8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0820-590C-4F27-8BE5-42053F596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9B1A-96F4-4423-90BD-C3504AF60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349C-3E12-40F2-81C3-D6B878EC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5762-90F2-462E-ADEF-E2C748D8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3AEB-16A2-49E9-AA9E-929AB76E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FABB4-50FD-49FD-B767-712F68CF11A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417B3-ED5D-4BA1-A755-91A81BD5BE4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etro%20Pow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46880" y="457200"/>
            <a:ext cx="65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IQ53D - Laboratorio de Ingeniería Química II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 rot="19455000">
            <a:off x="3581280" y="1447560"/>
            <a:ext cx="2286000" cy="3276360"/>
          </a:xfrm>
          <a:prstGeom prst="diamond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629400" y="457200"/>
            <a:ext cx="1143000" cy="16002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5410080" y="1371240"/>
            <a:ext cx="1143000" cy="6858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04920" y="4648320"/>
            <a:ext cx="1218960" cy="1752120"/>
            <a:chOff x="304920" y="4648320"/>
            <a:chExt cx="1218960" cy="1752120"/>
          </a:xfrm>
        </p:grpSpPr>
        <p:sp>
          <p:nvSpPr>
            <p:cNvPr id="214" name=""/>
            <p:cNvSpPr/>
            <p:nvPr/>
          </p:nvSpPr>
          <p:spPr>
            <a:xfrm>
              <a:off x="304920" y="4648320"/>
              <a:ext cx="1218960" cy="71388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04920" y="5362200"/>
              <a:ext cx="1218960" cy="103824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6629400" y="1066680"/>
            <a:ext cx="114300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81280" y="5029200"/>
            <a:ext cx="838440" cy="609480"/>
          </a:xfrm>
          <a:custGeom>
            <a:avLst/>
            <a:gdLst/>
            <a:ahLst/>
            <a:rect l="l" t="t" r="r" b="b"/>
            <a:pathLst>
              <a:path w="440" h="624">
                <a:moveTo>
                  <a:pt x="192" y="0"/>
                </a:moveTo>
                <a:cubicBezTo>
                  <a:pt x="120" y="0"/>
                  <a:pt x="0" y="280"/>
                  <a:pt x="0" y="384"/>
                </a:cubicBezTo>
                <a:cubicBezTo>
                  <a:pt x="0" y="488"/>
                  <a:pt x="120" y="624"/>
                  <a:pt x="192" y="624"/>
                </a:cubicBezTo>
                <a:cubicBezTo>
                  <a:pt x="264" y="624"/>
                  <a:pt x="424" y="480"/>
                  <a:pt x="432" y="384"/>
                </a:cubicBezTo>
                <a:cubicBezTo>
                  <a:pt x="440" y="288"/>
                  <a:pt x="264" y="0"/>
                  <a:pt x="192" y="0"/>
                </a:cubicBez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6781680" y="1219320"/>
            <a:ext cx="304920" cy="30456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6858000" y="1218960"/>
            <a:ext cx="609480" cy="6094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7238880" y="1523520"/>
            <a:ext cx="304920" cy="30492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22240" y="588960"/>
            <a:ext cx="321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0458c"/>
                </a:solidFill>
                <a:latin typeface="Tahoma"/>
              </a:rPr>
              <a:t>Filtro Prensa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12760" y="1371600"/>
            <a:ext cx="692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P</a:t>
            </a:r>
            <a:r>
              <a:rPr b="0" lang="es-ES_tradnl" sz="2400" spc="-1" strike="noStrike" baseline="-25000">
                <a:solidFill>
                  <a:srgbClr val="40458c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746800" y="1905120"/>
            <a:ext cx="68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P</a:t>
            </a:r>
            <a:r>
              <a:rPr b="0" lang="es-ES_tradnl" sz="2400" spc="-1" strike="noStrike" baseline="-25000">
                <a:solidFill>
                  <a:srgbClr val="40458c"/>
                </a:solidFill>
                <a:latin typeface="Tahoma"/>
              </a:rPr>
              <a:t>Filt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19455000">
            <a:off x="3352320" y="1600200"/>
            <a:ext cx="2286000" cy="3276720"/>
          </a:xfrm>
          <a:prstGeom prst="diamond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267080" y="4724280"/>
            <a:ext cx="457200" cy="381240"/>
          </a:xfrm>
          <a:custGeom>
            <a:avLst/>
            <a:gdLst/>
            <a:ahLst/>
            <a:rect l="l" t="t" r="r" b="b"/>
            <a:pathLst>
              <a:path w="440" h="624">
                <a:moveTo>
                  <a:pt x="192" y="0"/>
                </a:moveTo>
                <a:cubicBezTo>
                  <a:pt x="120" y="0"/>
                  <a:pt x="0" y="280"/>
                  <a:pt x="0" y="384"/>
                </a:cubicBezTo>
                <a:cubicBezTo>
                  <a:pt x="0" y="488"/>
                  <a:pt x="120" y="624"/>
                  <a:pt x="192" y="624"/>
                </a:cubicBezTo>
                <a:cubicBezTo>
                  <a:pt x="264" y="624"/>
                  <a:pt x="424" y="480"/>
                  <a:pt x="432" y="384"/>
                </a:cubicBezTo>
                <a:cubicBezTo>
                  <a:pt x="440" y="288"/>
                  <a:pt x="264" y="0"/>
                  <a:pt x="192" y="0"/>
                </a:cubicBez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0" y="5410080"/>
            <a:ext cx="914400" cy="609840"/>
          </a:xfrm>
          <a:custGeom>
            <a:avLst/>
            <a:gdLst/>
            <a:ahLst/>
            <a:rect l="l" t="t" r="r" b="b"/>
            <a:pathLst>
              <a:path w="440" h="624">
                <a:moveTo>
                  <a:pt x="192" y="0"/>
                </a:moveTo>
                <a:cubicBezTo>
                  <a:pt x="120" y="0"/>
                  <a:pt x="0" y="280"/>
                  <a:pt x="0" y="384"/>
                </a:cubicBezTo>
                <a:cubicBezTo>
                  <a:pt x="0" y="488"/>
                  <a:pt x="120" y="624"/>
                  <a:pt x="192" y="624"/>
                </a:cubicBezTo>
                <a:cubicBezTo>
                  <a:pt x="264" y="624"/>
                  <a:pt x="424" y="480"/>
                  <a:pt x="432" y="384"/>
                </a:cubicBezTo>
                <a:cubicBezTo>
                  <a:pt x="440" y="288"/>
                  <a:pt x="264" y="0"/>
                  <a:pt x="192" y="0"/>
                </a:cubicBez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505320" y="5791320"/>
            <a:ext cx="2057400" cy="914400"/>
          </a:xfrm>
          <a:custGeom>
            <a:avLst/>
            <a:gdLst>
              <a:gd name="textAreaLeft" fmla="*/ 452160 w 2057400"/>
              <a:gd name="textAreaRight" fmla="*/ 1605240 w 205740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00600" y="6477120"/>
            <a:ext cx="38088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09880" y="6477120"/>
            <a:ext cx="38124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2057400" y="3809880"/>
            <a:ext cx="685800" cy="914400"/>
            <a:chOff x="2057400" y="3809880"/>
            <a:chExt cx="685800" cy="914400"/>
          </a:xfrm>
        </p:grpSpPr>
        <p:sp>
          <p:nvSpPr>
            <p:cNvPr id="231" name=""/>
            <p:cNvSpPr/>
            <p:nvPr/>
          </p:nvSpPr>
          <p:spPr>
            <a:xfrm>
              <a:off x="2057400" y="4191120"/>
              <a:ext cx="609840" cy="533160"/>
            </a:xfrm>
            <a:prstGeom prst="triangle">
              <a:avLst>
                <a:gd name="adj" fmla="val 50000"/>
              </a:avLst>
            </a:prstGeom>
            <a:solidFill>
              <a:srgbClr val="99ccff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057400" y="3809880"/>
              <a:ext cx="685800" cy="685800"/>
            </a:xfrm>
            <a:prstGeom prst="ellipse">
              <a:avLst/>
            </a:prstGeom>
            <a:solidFill>
              <a:srgbClr val="99ccff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2200320" y="3124080"/>
            <a:ext cx="63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Fluj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990720" y="4038120"/>
            <a:ext cx="1066680" cy="6858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038480" y="4267080"/>
            <a:ext cx="457200" cy="381240"/>
          </a:xfrm>
          <a:custGeom>
            <a:avLst/>
            <a:gdLst/>
            <a:ahLst/>
            <a:rect l="l" t="t" r="r" b="b"/>
            <a:pathLst>
              <a:path w="440" h="624">
                <a:moveTo>
                  <a:pt x="192" y="0"/>
                </a:moveTo>
                <a:cubicBezTo>
                  <a:pt x="120" y="0"/>
                  <a:pt x="0" y="280"/>
                  <a:pt x="0" y="384"/>
                </a:cubicBezTo>
                <a:cubicBezTo>
                  <a:pt x="0" y="488"/>
                  <a:pt x="120" y="624"/>
                  <a:pt x="192" y="624"/>
                </a:cubicBezTo>
                <a:cubicBezTo>
                  <a:pt x="264" y="624"/>
                  <a:pt x="424" y="480"/>
                  <a:pt x="432" y="384"/>
                </a:cubicBezTo>
                <a:cubicBezTo>
                  <a:pt x="440" y="288"/>
                  <a:pt x="264" y="0"/>
                  <a:pt x="192" y="0"/>
                </a:cubicBez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597600" y="5867280"/>
            <a:ext cx="557640" cy="305640"/>
            <a:chOff x="597600" y="5867280"/>
            <a:chExt cx="557640" cy="305640"/>
          </a:xfrm>
        </p:grpSpPr>
        <p:grpSp>
          <p:nvGrpSpPr>
            <p:cNvPr id="237" name=""/>
            <p:cNvGrpSpPr/>
            <p:nvPr/>
          </p:nvGrpSpPr>
          <p:grpSpPr>
            <a:xfrm>
              <a:off x="597600" y="5867280"/>
              <a:ext cx="557640" cy="305640"/>
              <a:chOff x="597600" y="5867280"/>
              <a:chExt cx="557640" cy="305640"/>
            </a:xfrm>
          </p:grpSpPr>
          <p:sp>
            <p:nvSpPr>
              <p:cNvPr id="238" name=""/>
              <p:cNvSpPr/>
              <p:nvPr/>
            </p:nvSpPr>
            <p:spPr>
              <a:xfrm flipV="1">
                <a:off x="610200" y="5997240"/>
                <a:ext cx="531720" cy="43920"/>
              </a:xfrm>
              <a:prstGeom prst="line">
                <a:avLst/>
              </a:prstGeom>
              <a:ln w="3168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21314400">
                <a:off x="603360" y="5878080"/>
                <a:ext cx="275400" cy="151920"/>
              </a:xfrm>
              <a:custGeom>
                <a:avLst/>
                <a:gdLst/>
                <a:ahLst/>
                <a:rect l="l" t="t" r="r" b="b"/>
                <a:pathLst>
                  <a:path w="768" h="144">
                    <a:moveTo>
                      <a:pt x="0" y="144"/>
                    </a:moveTo>
                    <a:cubicBezTo>
                      <a:pt x="152" y="72"/>
                      <a:pt x="304" y="0"/>
                      <a:pt x="432" y="0"/>
                    </a:cubicBezTo>
                    <a:cubicBezTo>
                      <a:pt x="560" y="0"/>
                      <a:pt x="712" y="120"/>
                      <a:pt x="768" y="144"/>
                    </a:cubicBezTo>
                  </a:path>
                </a:pathLst>
              </a:custGeom>
              <a:noFill/>
              <a:ln w="3168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10459800">
                <a:off x="889920" y="6008400"/>
                <a:ext cx="258120" cy="151920"/>
              </a:xfrm>
              <a:custGeom>
                <a:avLst/>
                <a:gdLst/>
                <a:ahLst/>
                <a:rect l="l" t="t" r="r" b="b"/>
                <a:pathLst>
                  <a:path w="768" h="144">
                    <a:moveTo>
                      <a:pt x="0" y="144"/>
                    </a:moveTo>
                    <a:cubicBezTo>
                      <a:pt x="152" y="72"/>
                      <a:pt x="304" y="0"/>
                      <a:pt x="432" y="0"/>
                    </a:cubicBezTo>
                    <a:cubicBezTo>
                      <a:pt x="560" y="0"/>
                      <a:pt x="712" y="120"/>
                      <a:pt x="768" y="144"/>
                    </a:cubicBezTo>
                  </a:path>
                </a:pathLst>
              </a:custGeom>
              <a:noFill/>
              <a:ln w="3168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850320" y="5968440"/>
              <a:ext cx="51480" cy="101160"/>
            </a:xfrm>
            <a:prstGeom prst="ellipse">
              <a:avLst/>
            </a:prstGeom>
            <a:noFill/>
            <a:ln w="316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 flipV="1">
            <a:off x="914400" y="3352320"/>
            <a:ext cx="0" cy="26672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5486400"/>
            <a:ext cx="455040" cy="302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636357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6363578"/>
              </a:path>
            </a:pathLst>
          </a:custGeom>
          <a:noFill/>
          <a:ln w="9360">
            <a:solidFill>
              <a:srgbClr val="40458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2438280" y="3047760"/>
            <a:ext cx="1828800" cy="106668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0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040" y="1752120"/>
            <a:ext cx="7010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1143000" y="8380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Filtro Prens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90720" y="1676520"/>
            <a:ext cx="6607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OBJETIVO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studiar un filtro prensa, para determinar las características de la filtración, tipo de torta, porosidad, resistencia específica, constante de filtración, Volumen equivalente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1219320" y="3886200"/>
                <a:ext cx="6248160" cy="13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C</m:t>
                        </m:r>
                        <m:r>
                          <m:t xml:space="preserve">v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ΔP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C</m:t>
                    </m:r>
                    <m:f>
                      <m:num>
                        <m:r>
                          <m:t xml:space="preserve">v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ΔP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975600" y="5791320"/>
            <a:ext cx="374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Alan Foust, George Brown, Vían-Oca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 flipV="1">
            <a:off x="1523880" y="1752480"/>
            <a:ext cx="0" cy="373392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3880" y="5486400"/>
            <a:ext cx="53341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752480" y="3505320"/>
            <a:ext cx="304812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          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       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    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   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741920" y="28954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04040" y="25146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1676520" y="2133720"/>
            <a:ext cx="4800600" cy="31240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44120" y="1981080"/>
            <a:ext cx="83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dV/d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38080" y="2362320"/>
            <a:ext cx="22860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554520" y="57913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V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38080" y="99072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V  v/s  t                       Gráfico  dV/dt  v/s  V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362320" y="1219320"/>
            <a:ext cx="152388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3" name=""/>
          <p:cNvGraphicFramePr/>
          <p:nvPr/>
        </p:nvGraphicFramePr>
        <p:xfrm>
          <a:off x="1066680" y="457200"/>
          <a:ext cx="7543800" cy="563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57200"/>
                    <a:ext cx="7543800" cy="563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filtros_prensa" descr=""/>
          <p:cNvPicPr/>
          <p:nvPr/>
        </p:nvPicPr>
        <p:blipFill>
          <a:blip r:embed="rId1"/>
          <a:stretch/>
        </p:blipFill>
        <p:spPr>
          <a:xfrm>
            <a:off x="304920" y="0"/>
            <a:ext cx="8534160" cy="66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2:20:09Z</dcterms:created>
  <dc:creator>Leonardo Valenzuela</dc:creator>
  <dc:description/>
  <dc:language>en-US</dc:language>
  <cp:lastModifiedBy>LI2</cp:lastModifiedBy>
  <dcterms:modified xsi:type="dcterms:W3CDTF">2008-08-12T21:43:41Z</dcterms:modified>
  <cp:revision>331</cp:revision>
  <dc:subject/>
  <dc:title>Reactor Agitado</dc:title>
</cp:coreProperties>
</file>