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DA5B-D5BA-4DD8-A8E0-00F6C66D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596E-DEB7-4FA3-84EC-8BA6496F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B8A9-00BB-4A6A-A87E-13C9EE9A6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9F64-D110-4214-BC16-5D3D78FD8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8F6B-01B6-4F63-A5A1-B2985C04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30DB-B558-4EF6-ADD9-A75AE323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BD88-55F6-43EA-A3BD-F26BC0BA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AA50-D7B7-42A8-8DEB-CCDBA5DA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4B65-D4AF-4540-8A03-12441883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AB6D-5980-4844-AB9B-B5ECB1B6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C3FD-0DC2-4F81-B08A-364CD092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B5E1-3301-4FD2-B05C-84F27884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2EA0-3799-45D0-AACD-1C547B24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6A24-65A3-4676-BE96-45791F4C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C9DB-DDB7-4BF8-A79E-6DBAD550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C65B-5F78-4741-B7F6-EC2FC335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BC2A-765C-4576-95AD-48C6FE54D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A0D9-8CC5-4BD7-8677-4841E76A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8F18-96C2-450C-8E9B-57843E65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8F5A-FB4E-48AF-A72B-397B5A0B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BA75-B0DD-4F98-BBD0-3F9B515D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9C57-F000-4A76-AF18-62F390FA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4EC8-A91B-44C4-B4BC-DEA8FB85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6895-234D-42CE-AD89-FCE5399A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F946-603D-45E5-8A28-B182976A2A6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AB51-7852-42D2-AA3F-BBED3A2E341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etro%20Pow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46880" y="457200"/>
            <a:ext cx="65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Q53D - Laboratorio de Ingeniería Química II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 rot="19455000">
            <a:off x="3581280" y="1447560"/>
            <a:ext cx="2286000" cy="3276360"/>
          </a:xfrm>
          <a:prstGeom prst="diamond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629400" y="457200"/>
            <a:ext cx="1143000" cy="16002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410080" y="1371240"/>
            <a:ext cx="1143000" cy="6858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04920" y="4648320"/>
            <a:ext cx="1218960" cy="1752120"/>
            <a:chOff x="304920" y="4648320"/>
            <a:chExt cx="1218960" cy="1752120"/>
          </a:xfrm>
        </p:grpSpPr>
        <p:sp>
          <p:nvSpPr>
            <p:cNvPr id="214" name=""/>
            <p:cNvSpPr/>
            <p:nvPr/>
          </p:nvSpPr>
          <p:spPr>
            <a:xfrm>
              <a:off x="304920" y="4648320"/>
              <a:ext cx="1218960" cy="7138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4920" y="5362200"/>
              <a:ext cx="1218960" cy="103824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6629400" y="1066680"/>
            <a:ext cx="11430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81280" y="5029200"/>
            <a:ext cx="838440" cy="609480"/>
          </a:xfrm>
          <a:custGeom>
            <a:avLst/>
            <a:gdLst/>
            <a:ahLst/>
            <a:rect l="l" t="t" r="r" b="b"/>
            <a:pathLst>
              <a:path w="440" h="624">
                <a:moveTo>
                  <a:pt x="192" y="0"/>
                </a:moveTo>
                <a:cubicBezTo>
                  <a:pt x="120" y="0"/>
                  <a:pt x="0" y="280"/>
                  <a:pt x="0" y="384"/>
                </a:cubicBezTo>
                <a:cubicBezTo>
                  <a:pt x="0" y="488"/>
                  <a:pt x="120" y="624"/>
                  <a:pt x="192" y="624"/>
                </a:cubicBezTo>
                <a:cubicBezTo>
                  <a:pt x="264" y="624"/>
                  <a:pt x="424" y="480"/>
                  <a:pt x="432" y="384"/>
                </a:cubicBezTo>
                <a:cubicBezTo>
                  <a:pt x="440" y="288"/>
                  <a:pt x="264" y="0"/>
                  <a:pt x="192" y="0"/>
                </a:cubicBez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781680" y="1219320"/>
            <a:ext cx="304920" cy="3045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858000" y="1218960"/>
            <a:ext cx="609480" cy="6094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7238880" y="1523520"/>
            <a:ext cx="304920" cy="3049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22240" y="588960"/>
            <a:ext cx="32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458c"/>
                </a:solidFill>
                <a:latin typeface="Tahoma"/>
              </a:rPr>
              <a:t>Filtro Prensa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12760" y="1371600"/>
            <a:ext cx="69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746800" y="1905120"/>
            <a:ext cx="68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Filt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9455000">
            <a:off x="3352320" y="1600200"/>
            <a:ext cx="2286000" cy="3276720"/>
          </a:xfrm>
          <a:prstGeom prst="diamond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67080" y="4724280"/>
            <a:ext cx="457200" cy="381240"/>
          </a:xfrm>
          <a:custGeom>
            <a:avLst/>
            <a:gdLst/>
            <a:ahLst/>
            <a:rect l="l" t="t" r="r" b="b"/>
            <a:pathLst>
              <a:path w="440" h="624">
                <a:moveTo>
                  <a:pt x="192" y="0"/>
                </a:moveTo>
                <a:cubicBezTo>
                  <a:pt x="120" y="0"/>
                  <a:pt x="0" y="280"/>
                  <a:pt x="0" y="384"/>
                </a:cubicBezTo>
                <a:cubicBezTo>
                  <a:pt x="0" y="488"/>
                  <a:pt x="120" y="624"/>
                  <a:pt x="192" y="624"/>
                </a:cubicBezTo>
                <a:cubicBezTo>
                  <a:pt x="264" y="624"/>
                  <a:pt x="424" y="480"/>
                  <a:pt x="432" y="384"/>
                </a:cubicBezTo>
                <a:cubicBezTo>
                  <a:pt x="440" y="288"/>
                  <a:pt x="264" y="0"/>
                  <a:pt x="192" y="0"/>
                </a:cubicBez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0" y="5410080"/>
            <a:ext cx="914400" cy="609840"/>
          </a:xfrm>
          <a:custGeom>
            <a:avLst/>
            <a:gdLst/>
            <a:ahLst/>
            <a:rect l="l" t="t" r="r" b="b"/>
            <a:pathLst>
              <a:path w="440" h="624">
                <a:moveTo>
                  <a:pt x="192" y="0"/>
                </a:moveTo>
                <a:cubicBezTo>
                  <a:pt x="120" y="0"/>
                  <a:pt x="0" y="280"/>
                  <a:pt x="0" y="384"/>
                </a:cubicBezTo>
                <a:cubicBezTo>
                  <a:pt x="0" y="488"/>
                  <a:pt x="120" y="624"/>
                  <a:pt x="192" y="624"/>
                </a:cubicBezTo>
                <a:cubicBezTo>
                  <a:pt x="264" y="624"/>
                  <a:pt x="424" y="480"/>
                  <a:pt x="432" y="384"/>
                </a:cubicBezTo>
                <a:cubicBezTo>
                  <a:pt x="440" y="288"/>
                  <a:pt x="264" y="0"/>
                  <a:pt x="192" y="0"/>
                </a:cubicBez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05320" y="5791320"/>
            <a:ext cx="2057400" cy="914400"/>
          </a:xfrm>
          <a:custGeom>
            <a:avLst/>
            <a:gdLst>
              <a:gd name="textAreaLeft" fmla="*/ 452160 w 2057400"/>
              <a:gd name="textAreaRight" fmla="*/ 1605240 w 205740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00600" y="647712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9880" y="647712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057400" y="3809880"/>
            <a:ext cx="685800" cy="914400"/>
            <a:chOff x="2057400" y="3809880"/>
            <a:chExt cx="685800" cy="914400"/>
          </a:xfrm>
        </p:grpSpPr>
        <p:sp>
          <p:nvSpPr>
            <p:cNvPr id="231" name=""/>
            <p:cNvSpPr/>
            <p:nvPr/>
          </p:nvSpPr>
          <p:spPr>
            <a:xfrm>
              <a:off x="2057400" y="4191120"/>
              <a:ext cx="609840" cy="5331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57400" y="3809880"/>
              <a:ext cx="685800" cy="685800"/>
            </a:xfrm>
            <a:prstGeom prst="ellipse">
              <a:avLst/>
            </a:prstGeom>
            <a:solidFill>
              <a:srgbClr val="99ccff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2200320" y="3124080"/>
            <a:ext cx="63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Fluj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990720" y="4038120"/>
            <a:ext cx="1066680" cy="6858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038480" y="4267080"/>
            <a:ext cx="457200" cy="381240"/>
          </a:xfrm>
          <a:custGeom>
            <a:avLst/>
            <a:gdLst/>
            <a:ahLst/>
            <a:rect l="l" t="t" r="r" b="b"/>
            <a:pathLst>
              <a:path w="440" h="624">
                <a:moveTo>
                  <a:pt x="192" y="0"/>
                </a:moveTo>
                <a:cubicBezTo>
                  <a:pt x="120" y="0"/>
                  <a:pt x="0" y="280"/>
                  <a:pt x="0" y="384"/>
                </a:cubicBezTo>
                <a:cubicBezTo>
                  <a:pt x="0" y="488"/>
                  <a:pt x="120" y="624"/>
                  <a:pt x="192" y="624"/>
                </a:cubicBezTo>
                <a:cubicBezTo>
                  <a:pt x="264" y="624"/>
                  <a:pt x="424" y="480"/>
                  <a:pt x="432" y="384"/>
                </a:cubicBezTo>
                <a:cubicBezTo>
                  <a:pt x="440" y="288"/>
                  <a:pt x="264" y="0"/>
                  <a:pt x="192" y="0"/>
                </a:cubicBez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97600" y="5867280"/>
            <a:ext cx="557640" cy="305640"/>
            <a:chOff x="597600" y="5867280"/>
            <a:chExt cx="557640" cy="305640"/>
          </a:xfrm>
        </p:grpSpPr>
        <p:grpSp>
          <p:nvGrpSpPr>
            <p:cNvPr id="237" name=""/>
            <p:cNvGrpSpPr/>
            <p:nvPr/>
          </p:nvGrpSpPr>
          <p:grpSpPr>
            <a:xfrm>
              <a:off x="597600" y="5867280"/>
              <a:ext cx="557640" cy="305640"/>
              <a:chOff x="597600" y="5867280"/>
              <a:chExt cx="557640" cy="305640"/>
            </a:xfrm>
          </p:grpSpPr>
          <p:sp>
            <p:nvSpPr>
              <p:cNvPr id="238" name=""/>
              <p:cNvSpPr/>
              <p:nvPr/>
            </p:nvSpPr>
            <p:spPr>
              <a:xfrm flipV="1">
                <a:off x="610200" y="5997240"/>
                <a:ext cx="531720" cy="43920"/>
              </a:xfrm>
              <a:prstGeom prst="line">
                <a:avLst/>
              </a:prstGeom>
              <a:ln w="3168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21314400">
                <a:off x="603360" y="5878080"/>
                <a:ext cx="275400" cy="15192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144"/>
                    </a:moveTo>
                    <a:cubicBezTo>
                      <a:pt x="152" y="72"/>
                      <a:pt x="304" y="0"/>
                      <a:pt x="432" y="0"/>
                    </a:cubicBezTo>
                    <a:cubicBezTo>
                      <a:pt x="560" y="0"/>
                      <a:pt x="712" y="120"/>
                      <a:pt x="768" y="144"/>
                    </a:cubicBezTo>
                  </a:path>
                </a:pathLst>
              </a:custGeom>
              <a:noFill/>
              <a:ln w="3168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0459800">
                <a:off x="889920" y="6008400"/>
                <a:ext cx="258120" cy="151920"/>
              </a:xfrm>
              <a:custGeom>
                <a:avLst/>
                <a:gdLst/>
                <a:ahLst/>
                <a:rect l="l" t="t" r="r" b="b"/>
                <a:pathLst>
                  <a:path w="768" h="144">
                    <a:moveTo>
                      <a:pt x="0" y="144"/>
                    </a:moveTo>
                    <a:cubicBezTo>
                      <a:pt x="152" y="72"/>
                      <a:pt x="304" y="0"/>
                      <a:pt x="432" y="0"/>
                    </a:cubicBezTo>
                    <a:cubicBezTo>
                      <a:pt x="560" y="0"/>
                      <a:pt x="712" y="120"/>
                      <a:pt x="768" y="144"/>
                    </a:cubicBezTo>
                  </a:path>
                </a:pathLst>
              </a:custGeom>
              <a:noFill/>
              <a:ln w="31680">
                <a:solidFill>
                  <a:srgbClr val="40458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850320" y="5968440"/>
              <a:ext cx="51480" cy="101160"/>
            </a:xfrm>
            <a:prstGeom prst="ellipse">
              <a:avLst/>
            </a:prstGeom>
            <a:noFill/>
            <a:ln w="316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 flipV="1">
            <a:off x="914400" y="3352320"/>
            <a:ext cx="0" cy="26672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" y="5486400"/>
            <a:ext cx="455040" cy="302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636357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6363578"/>
              </a:path>
            </a:pathLst>
          </a:custGeom>
          <a:noFill/>
          <a:ln w="9360">
            <a:solidFill>
              <a:srgbClr val="40458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438280" y="3047760"/>
            <a:ext cx="1828800" cy="106668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1143000" y="838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iltro Prens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1676520"/>
            <a:ext cx="660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OBJETIV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tudiar un filtro prensa, para determinar las características de la filtración, tipo de torta, porosidad, resistencia específica, constante de filtración, Volumen equivalen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219320" y="3886200"/>
                <a:ext cx="624816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ΔP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C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ΔP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975600" y="5791320"/>
            <a:ext cx="37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Alan Foust, George Brown, Vían-Oca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 flipV="1">
            <a:off x="1523880" y="1752480"/>
            <a:ext cx="0" cy="37339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5486400"/>
            <a:ext cx="53341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752480" y="3505320"/>
            <a:ext cx="30481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      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   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41920" y="28954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04040" y="2514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676520" y="2133720"/>
            <a:ext cx="4800600" cy="31240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44120" y="19810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V/d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8080" y="2362320"/>
            <a:ext cx="2286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4520" y="5791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8080" y="9907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  v/s  t                       Gráfico  dV/dt  v/s  V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362320" y="1219320"/>
            <a:ext cx="152388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1066680" y="457200"/>
          <a:ext cx="7543800" cy="563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57200"/>
                    <a:ext cx="7543800" cy="56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filtros_prensa" descr="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6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8-08-12T21:43:41Z</dcterms:modified>
  <cp:revision>331</cp:revision>
  <dc:subject/>
  <dc:title>Reactor Agitado</dc:title>
</cp:coreProperties>
</file>