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8FA-D38B-4D5C-A170-E7FB26B0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ECF-C750-4680-B047-3FB960F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722-83DA-4466-BB22-403942F3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593-3A4A-4095-98F3-13FD94E7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586-670C-4CDA-9BAB-21F82E76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651A-1BC0-4B25-93FA-22214638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5108-2D74-48E1-AF60-7DEDF5B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FC48-05EB-47D5-A338-EEF983A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90DD-2887-4368-A571-B0AFC00A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0B5-A85B-4923-886B-C9E8BA0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F6A-AAF7-4351-B7C7-212655E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3DD-767B-4264-B4BA-045F21D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55B-EE03-438E-835D-13CCE79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738-F1D9-45F6-BF7D-DB62815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A28-DE02-4339-AF7F-10F9AB50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E677-143D-4BA3-B5C8-9D5D3D12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A478-162F-46EB-B547-4B9E3713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2B-9ED2-4421-86EC-0B2BDD7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5C3-9995-4D7F-981D-9B0AA21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69B-733B-4E2B-96DC-EA68579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790-8B20-459E-81D0-0FC5E4A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BE2-592E-4C05-92CA-E5C78E8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AA6-8925-4995-BE83-EE2C2E3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B4F-9723-46A3-AFE2-F7287D9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B547-E6DE-4C70-B85B-DC2288BDE3E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2956-EC64-4BE0-A4DC-65C1087CC18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ruebas experimentales que pueden realizar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696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13T13:23:42Z</dcterms:modified>
  <cp:revision>33</cp:revision>
  <dc:subject/>
  <dc:title>Electro-obtención (EW)</dc:title>
</cp:coreProperties>
</file>