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AE5-3CD9-4F4C-A718-9C45E227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1E5-85F0-48DB-8AFD-03D933B5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008-545B-404C-9550-547836FE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CBB-2A6D-4E2D-9C86-A3B3BAF7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AC36-A43B-4BF1-BCE4-B2A047F0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B9DF-B86D-4669-A68D-BDB54067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DC71-3CB2-41FA-944D-01F92C64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44E1-2BEC-4052-A47E-90354379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D2A3-0652-4A7F-85E4-3EEF400F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FEC2-08E1-4055-B9F7-FECEAEB4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30FE-9D5D-48B7-86A6-0873F20E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B86-13D7-4BA6-82BE-E9499BA8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4DD7-7887-438D-BA95-06C17B15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8AD8-FA05-4A82-AE6A-BC68312B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E522-25EE-4CA2-8F9E-2D230C69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B3C0-8D13-406C-8644-668DD7A6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FF9F-0344-43F0-B4A4-FCA52356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FB6-38E6-4FBC-9784-F24736C0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76F-B75C-4D2E-B53B-1526E9DC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D50-4A84-4BBA-9BBF-837566AE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2DE-1976-4B30-9E83-57929BBA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CCE-86A9-4090-9489-74F556C0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FB1-E2AB-4C42-9E6B-89826DBC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01C-42CA-4264-8E37-B59CBE39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01D1-D1C7-4143-A61D-ADC220F784E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6B9B-9610-413A-BB89-3E49C8A3FD3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ESTILAC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paración de una mezcla etanol-agua en una columna de destilación de plat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Pruebas experimentales que pueden realizars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razón de refluj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onstruir un diagrama de operación (X-Y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el número de platos teóric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terminar la eficiencia de la column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258920" y="260280"/>
            <a:ext cx="66960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1024560"/>
            <a:ext cx="863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destilación se define como la separación de los componentes más volátiles de los menos volátiles mediante un proceso de vaporización y condensación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destilación es el método más usado para separar mezclas líquida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l equilibrio líquido vapor es la relación de la composición de la fase de vapor y la fase de líquid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atos confiables de equilibrio líquido vapor son básicos para el diseño de una columna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5987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de Destilació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9810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tilación simple: se utiliza una etapa de equilibrio simple para obtener la separ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69991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828800"/>
            <a:ext cx="82296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accionamiento de múltiple etapa: se usa para incrementar la separación respecto de la destilación sim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72744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1024560"/>
            <a:ext cx="863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Método gráfico de McCabe-Thiel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3668760" cy="3716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62720" y="3276720"/>
            <a:ext cx="20001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as columnas de destilación (también llamadas torres) proporcionan el área de contacto entre las corrientes de líquido descendente y vapor ascendente y por lo tanto constituyen una aproximación hacia el equilibrio líquido-vapor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lumnas de platos: existen dos tipos de columna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lato de flujo cruzad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lato a contra fluj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6160" y="1041480"/>
            <a:ext cx="38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LUMNAS DE DESTIL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Tipos de plat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latborb" descr="plato de barboteo"/>
          <p:cNvPicPr/>
          <p:nvPr/>
        </p:nvPicPr>
        <p:blipFill>
          <a:blip r:embed="rId2"/>
          <a:stretch/>
        </p:blipFill>
        <p:spPr>
          <a:xfrm>
            <a:off x="914400" y="205740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latvalv" descr="plato de válvulas"/>
          <p:cNvPicPr/>
          <p:nvPr/>
        </p:nvPicPr>
        <p:blipFill>
          <a:blip r:embed="rId3"/>
          <a:stretch/>
        </p:blipFill>
        <p:spPr>
          <a:xfrm>
            <a:off x="3124080" y="205740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platperf" descr="plato perforado"/>
          <p:cNvPicPr/>
          <p:nvPr/>
        </p:nvPicPr>
        <p:blipFill>
          <a:blip r:embed="rId4"/>
          <a:stretch/>
        </p:blipFill>
        <p:spPr>
          <a:xfrm>
            <a:off x="5562720" y="2133720"/>
            <a:ext cx="1743120" cy="99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3639600"/>
            <a:ext cx="86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Borboteo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   Válvulas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erforado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Economía de la destilació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quilibrio líquido-vapor favor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osición de la aliment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úmero de componentes a separa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querimientos de purez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ión absoluta de la destil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/>
  <dc:description/>
  <dc:language>en-US</dc:language>
  <cp:lastModifiedBy>usuario</cp:lastModifiedBy>
  <dcterms:modified xsi:type="dcterms:W3CDTF">2008-08-13T13:23:42Z</dcterms:modified>
  <cp:revision>33</cp:revision>
  <dc:subject/>
  <dc:title>Electro-obtención (EW)</dc:title>
</cp:coreProperties>
</file>