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AB7-4AD7-47A0-BFF3-50A89188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C9D-3019-4CBA-AD3D-C6DA62BB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7A6-076C-4C19-816D-8BB860E4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F0C-26C0-4E80-A490-E6AB3543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8707-2FBC-4F38-9B00-5406BFF78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523C-8126-4C01-8851-098FEA21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1EAA-9607-4100-9974-88705689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D0C2-A30E-4AAA-827B-B03EB536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2CFA-93C8-4525-AEDD-8139D921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5BE6-5754-4E6D-BE0B-AE2CFA98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D7C6-2F0E-4941-BA44-ABC2155E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1736-7312-43C1-AC25-EFC3FC70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EC61-5ACB-4FF3-9199-D2E623D4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8767-ACEF-4AEA-93FD-78E368B9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405B-627E-4B93-A24C-95B3A72D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00C9-5C77-497A-9559-8269667F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3D93-832C-421B-BF75-C28144F5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B534-0013-4A67-98B6-29A55894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EEC-B7C0-4B59-8C93-B78FA561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AC8-21B9-47FE-8510-8AA89C7B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6C1-A05A-468B-86C9-1F24EED8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DC5-A479-4726-A57B-34AE9343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F859-41B9-4A8D-B970-FBA6854B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344-A23B-4B65-9704-C10083AA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787E-18EA-41D6-8F4A-52AEAB15B40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451F-D316-4D31-A5F8-4CE0A430F1E6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ESTILACI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Laboratorio de Ingeniería Química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Arial"/>
              </a:rPr>
              <a:t>IQ-53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Arial"/>
              </a:rPr>
              <a:t>2008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uebas experimenta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Separación de una mezcla etanol-agua en una columna de destilación de plat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Pruebas experimentales que pueden realizars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la razón de reflujo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Construir un diagrama de operación (X-Y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Determinar el número de platos teóric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eterminar la eficiencia de la columna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258920" y="260280"/>
            <a:ext cx="66960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1024560"/>
            <a:ext cx="8637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RODUCCIÓN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destilación se define como la separación de los componentes más volátiles de los menos volátiles mediante un proceso de vaporización y condensación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destilación es el método más usado para separar mezclas líquidas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El equilibrio líquido vapor es la relación de la composición de la fase de vapor y la fase de líquido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atos confiables de equilibrio líquido vapor son básicos para el diseño de una columna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00200" y="1143000"/>
            <a:ext cx="5987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Proceso de Destilació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76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9810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tilación simple: se utiliza una etapa de equilibrio simple para obtener la separació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33520" y="2971800"/>
            <a:ext cx="699912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4920" y="83808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828800"/>
            <a:ext cx="8229600" cy="18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accionamiento de múltiple etapa: se usa para incrementar la separación respecto de la destilación sim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819520" y="2743200"/>
            <a:ext cx="372744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1024560"/>
            <a:ext cx="8637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Método gráfico de McCabe-Thiele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3668760" cy="3716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62720" y="3276720"/>
            <a:ext cx="200016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as columnas de destilación (también llamadas torres) proporcionan el área de contacto entre las corrientes de líquido descendente y vapor ascendente y por lo tanto constituyen una aproximación hacia el equilibrio líquido-vapor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lumnas de platos: existen dos tipos de columna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lato de flujo cruzad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lato a contra flujo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6160" y="1041480"/>
            <a:ext cx="38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COLUMNAS DE DESTIL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"/>
              </a:rPr>
              <a:t>Tipos de plato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platborb" descr="plato de barboteo"/>
          <p:cNvPicPr/>
          <p:nvPr/>
        </p:nvPicPr>
        <p:blipFill>
          <a:blip r:embed="rId2"/>
          <a:stretch/>
        </p:blipFill>
        <p:spPr>
          <a:xfrm>
            <a:off x="914400" y="2057400"/>
            <a:ext cx="1743120" cy="990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latvalv" descr="plato de válvulas"/>
          <p:cNvPicPr/>
          <p:nvPr/>
        </p:nvPicPr>
        <p:blipFill>
          <a:blip r:embed="rId3"/>
          <a:stretch/>
        </p:blipFill>
        <p:spPr>
          <a:xfrm>
            <a:off x="3124080" y="2057400"/>
            <a:ext cx="1743120" cy="990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7004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platperf" descr="plato perforado"/>
          <p:cNvPicPr/>
          <p:nvPr/>
        </p:nvPicPr>
        <p:blipFill>
          <a:blip r:embed="rId4"/>
          <a:stretch/>
        </p:blipFill>
        <p:spPr>
          <a:xfrm>
            <a:off x="5562720" y="2133720"/>
            <a:ext cx="1743120" cy="990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920" y="3639600"/>
            <a:ext cx="863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Borboteo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   Válvulas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Perforado</a:t>
            </a:r>
            <a:r>
              <a:rPr b="0" lang="es-ES_tradnl" sz="20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Economía de la destilación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quilibrio líquido-vapor favorab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osición de la aliment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úmero de componentes a separar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querimientos de purez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resión absoluta de la destilació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21:08:52Z</dcterms:created>
  <dc:creator/>
  <dc:description/>
  <dc:language>en-US</dc:language>
  <cp:lastModifiedBy>usuario</cp:lastModifiedBy>
  <dcterms:modified xsi:type="dcterms:W3CDTF">2008-08-13T13:23:42Z</dcterms:modified>
  <cp:revision>33</cp:revision>
  <dc:subject/>
  <dc:title>Electro-obtención (EW)</dc:title>
</cp:coreProperties>
</file>