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29E-4F71-4952-8A15-0BF9ECD5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014-7B62-4604-8319-F236C58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9DD-F747-4C68-97AC-30B16204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05F-3180-42FA-ABB7-9AA875ED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AAA9-D84E-41BC-9CD5-2EA2A6E4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E92-37EE-4ACE-86CC-89DD38D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CF7-455C-426A-B2B5-1C0389C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BE98-20FE-45EC-9D72-6C71333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306C-6A8A-4DBD-AE8A-64C8D52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9194-696C-403E-BBF0-BD8E82F3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3D41-6193-4FF9-9EB8-F1DE9F2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146-05B8-44E6-93EA-C3CEAFE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588-129A-41E4-A3E8-70D1FA2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532A-2966-4194-8CAF-6235128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DB22-24AE-4CC5-B237-DD53E509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278-5659-4CA6-BDB2-32F382F2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F62D-6169-4DD9-A1FC-7BC4F849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A50-A8D5-464B-856F-202BC9C2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932-F344-469D-AE66-5E66CBA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E5C-790B-4F90-B09E-69CC5A2C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886-B0DE-4A97-A9D8-17721797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55D-8C25-4CC9-9E78-5D1094F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DD0-78EF-4024-B184-579DDAD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3F9-DAB9-41E2-ABBF-95D3A16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2617-778B-48C8-BAFB-FC6B326BFE4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305-DADD-4351-A4E5-032D6EF1216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ruebas experimentales que pueden realizar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696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13T13:23:42Z</dcterms:modified>
  <cp:revision>33</cp:revision>
  <dc:subject/>
  <dc:title>Electro-obtención (EW)</dc:title>
</cp:coreProperties>
</file>