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2EE-9B47-4FCC-8ADD-5B618444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6F7-CB61-4A7F-98F2-F2F1DA7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C50-2E10-42C6-8ADE-404226C8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D7D-4947-415B-8229-FBE5036C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94C-8539-4783-B1C8-F4BD165F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5A26-6BB8-4E62-B3F6-376AD141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6B58-3958-40E6-992F-0912216D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AF81-2C3D-4C81-BD91-9940A93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939-4B43-41EF-BE38-C4BCD856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EDCE-C70A-48F5-969D-C34D9DA7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9D4-4DDF-4270-A463-958CD39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2F2-C5AF-4186-AA0C-5FCEA4A4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3EA2-9055-4B66-B62E-35D8940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9E5F-8DB6-4D26-87EA-5DC5506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06D4-C4BD-45B3-8C7B-9DCA11E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3B4B-FB95-493C-8E19-FB926BE7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9AAE-20C9-471B-BD6A-98C64C96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1CC-ECC0-41D9-9E9D-2221705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BA1-ACAF-4173-85F8-4A1BB47F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FE9-0187-4C8B-9922-6A33BEBE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0A7-C1AB-4401-9DFF-700436E8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C8A-C8B9-4B53-B960-4955312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11F-B69B-41F9-A8B2-25D02798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2C3-0293-4C2A-8D8A-E8693E52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D86-A788-4218-B105-B2D480F1F0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735-A6D1-40A2-89AE-DFA2E3FEEC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175248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tercambiador de Calor por Convecció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ire - Sóli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8640" y="449568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onvección: El calor se transporta a través de un Flu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66680" y="6858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2209680"/>
            <a:ext cx="6400800" cy="4041000"/>
            <a:chOff x="1371600" y="2209680"/>
            <a:chExt cx="6400800" cy="4041000"/>
          </a:xfrm>
        </p:grpSpPr>
        <p:sp>
          <p:nvSpPr>
            <p:cNvPr id="211" name=""/>
            <p:cNvSpPr/>
            <p:nvPr/>
          </p:nvSpPr>
          <p:spPr>
            <a:xfrm>
              <a:off x="1371600" y="4267080"/>
              <a:ext cx="5333760" cy="10666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0960" y="32000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96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7960" y="3047760"/>
              <a:ext cx="2210040" cy="1219320"/>
            </a:xfrm>
            <a:custGeom>
              <a:avLst/>
              <a:gdLst/>
              <a:ahLst/>
              <a:rect l="l" t="t" r="r" b="b"/>
              <a:pathLst>
                <a:path w="1392" h="768">
                  <a:moveTo>
                    <a:pt x="0" y="768"/>
                  </a:moveTo>
                  <a:cubicBezTo>
                    <a:pt x="240" y="752"/>
                    <a:pt x="480" y="736"/>
                    <a:pt x="672" y="672"/>
                  </a:cubicBezTo>
                  <a:cubicBezTo>
                    <a:pt x="864" y="608"/>
                    <a:pt x="1032" y="496"/>
                    <a:pt x="1152" y="384"/>
                  </a:cubicBezTo>
                  <a:cubicBezTo>
                    <a:pt x="1272" y="272"/>
                    <a:pt x="1332" y="136"/>
                    <a:pt x="139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560" y="3504960"/>
              <a:ext cx="1371600" cy="1219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886200" y="4267080"/>
              <a:ext cx="76176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360" y="4876560"/>
              <a:ext cx="1828800" cy="137160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624"/>
                  </a:moveTo>
                  <a:cubicBezTo>
                    <a:pt x="160" y="416"/>
                    <a:pt x="320" y="208"/>
                    <a:pt x="384" y="192"/>
                  </a:cubicBezTo>
                  <a:cubicBezTo>
                    <a:pt x="448" y="176"/>
                    <a:pt x="312" y="560"/>
                    <a:pt x="384" y="528"/>
                  </a:cubicBezTo>
                  <a:cubicBezTo>
                    <a:pt x="456" y="496"/>
                    <a:pt x="736" y="96"/>
                    <a:pt x="81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5790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123720" y="2819160"/>
              <a:ext cx="28954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2285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160" y="373356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wal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6760" y="220968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bu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14600" y="1447920"/>
            <a:ext cx="5502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Q = h A (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 - 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609480"/>
            <a:ext cx="55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udio experimen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286000"/>
            <a:ext cx="1371600" cy="396252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cubicBezTo>
                  <a:pt x="160" y="276"/>
                  <a:pt x="320" y="120"/>
                  <a:pt x="384" y="96"/>
                </a:cubicBezTo>
                <a:cubicBezTo>
                  <a:pt x="448" y="72"/>
                  <a:pt x="328" y="304"/>
                  <a:pt x="384" y="288"/>
                </a:cubicBezTo>
                <a:cubicBezTo>
                  <a:pt x="440" y="272"/>
                  <a:pt x="664" y="48"/>
                  <a:pt x="7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0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81280"/>
            <a:ext cx="144756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114800" y="464832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952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80360" y="1749960"/>
            <a:ext cx="2392920" cy="465840"/>
            <a:chOff x="2880360" y="1749960"/>
            <a:chExt cx="2392920" cy="465840"/>
          </a:xfrm>
        </p:grpSpPr>
        <p:grpSp>
          <p:nvGrpSpPr>
            <p:cNvPr id="232" name=""/>
            <p:cNvGrpSpPr/>
            <p:nvPr/>
          </p:nvGrpSpPr>
          <p:grpSpPr>
            <a:xfrm>
              <a:off x="2880360" y="1749960"/>
              <a:ext cx="2392920" cy="465840"/>
              <a:chOff x="2880360" y="1749960"/>
              <a:chExt cx="2392920" cy="46584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899440" y="1882800"/>
                <a:ext cx="2354040" cy="19584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314400">
                <a:off x="2887560" y="1800000"/>
                <a:ext cx="121932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459800">
                <a:off x="4121640" y="1931400"/>
                <a:ext cx="114300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962520" y="1904760"/>
              <a:ext cx="228600" cy="15228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057400" y="2743200"/>
            <a:ext cx="19051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5791320"/>
            <a:ext cx="190476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9560" y="53118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5880" y="2187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14800" y="243792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4800" y="144792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876920"/>
            <a:ext cx="106668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724280"/>
            <a:ext cx="304920" cy="304920"/>
          </a:xfrm>
          <a:prstGeom prst="ellipse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447920" y="838080"/>
          <a:ext cx="6553080" cy="52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55308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04T16:37:32Z</dcterms:modified>
  <cp:revision>338</cp:revision>
  <dc:subject/>
  <dc:title>Reactor Agitado</dc:title>
</cp:coreProperties>
</file>