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A6B-FE9F-4505-8DFA-A9F427EF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86B-042D-4770-BAE5-9FC8804E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4BA-67DF-4446-83B2-89EA3487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5D7-B1B7-494F-954B-07E3AC17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5964-C1EA-4307-8763-54D592F1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E137-E078-48AD-94E4-70C3E926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1A6A-7A5A-4847-BC1D-C5A80A11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284C-D876-422E-AE25-1C346CE3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2C52-77E6-454C-B7A7-64287F3A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9D59-CC07-4017-9C91-63C63F91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4382-2056-465A-86CB-F190EB38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32A-5EEA-41D1-AB74-7E3031A9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5B90-A4C6-43E0-ADC2-9708FFFC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C03F-2579-4DB7-A967-C84DA67E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5A12-64CA-4754-870F-3804473C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CEA6-9C29-425D-A98C-3B402401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D758-082A-4539-862B-8EBAA0A8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51B-DC02-404E-A2A2-BB1A8472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CE86-550A-4B60-A3B6-91434123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0A60-1473-4796-B7CA-70546646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224-DDE8-4272-9096-E1F43F7E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787-402D-4A71-8C07-A8841C03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1F82-A236-4195-A245-5A5B6284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BC9-F9B3-4AD1-B84A-8DF742CC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48A4-8E76-43B9-9A85-A78E63BD4D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EB44-9963-4B66-9040-F88661BC118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38080" y="175248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tercambiador de Calor por Convecció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ire - Sólid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8640" y="449568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Convección: El calor se transporta a través de un Flui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66680" y="68580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so de Convección sobre superfic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371600" y="2209680"/>
            <a:ext cx="6400800" cy="4041000"/>
            <a:chOff x="1371600" y="2209680"/>
            <a:chExt cx="6400800" cy="4041000"/>
          </a:xfrm>
        </p:grpSpPr>
        <p:sp>
          <p:nvSpPr>
            <p:cNvPr id="211" name=""/>
            <p:cNvSpPr/>
            <p:nvPr/>
          </p:nvSpPr>
          <p:spPr>
            <a:xfrm>
              <a:off x="1371600" y="4267080"/>
              <a:ext cx="5333760" cy="10666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90960" y="32000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096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47960" y="3047760"/>
              <a:ext cx="2210040" cy="1219320"/>
            </a:xfrm>
            <a:custGeom>
              <a:avLst/>
              <a:gdLst/>
              <a:ahLst/>
              <a:rect l="l" t="t" r="r" b="b"/>
              <a:pathLst>
                <a:path w="1392" h="768">
                  <a:moveTo>
                    <a:pt x="0" y="768"/>
                  </a:moveTo>
                  <a:cubicBezTo>
                    <a:pt x="240" y="752"/>
                    <a:pt x="480" y="736"/>
                    <a:pt x="672" y="672"/>
                  </a:cubicBezTo>
                  <a:cubicBezTo>
                    <a:pt x="864" y="608"/>
                    <a:pt x="1032" y="496"/>
                    <a:pt x="1152" y="384"/>
                  </a:cubicBezTo>
                  <a:cubicBezTo>
                    <a:pt x="1272" y="272"/>
                    <a:pt x="1332" y="136"/>
                    <a:pt x="139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90560" y="3504960"/>
              <a:ext cx="1371600" cy="1219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886200" y="4267080"/>
              <a:ext cx="76176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6360" y="4876560"/>
              <a:ext cx="1828800" cy="137160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624"/>
                  </a:moveTo>
                  <a:cubicBezTo>
                    <a:pt x="160" y="416"/>
                    <a:pt x="320" y="208"/>
                    <a:pt x="384" y="192"/>
                  </a:cubicBezTo>
                  <a:cubicBezTo>
                    <a:pt x="448" y="176"/>
                    <a:pt x="312" y="560"/>
                    <a:pt x="384" y="528"/>
                  </a:cubicBezTo>
                  <a:cubicBezTo>
                    <a:pt x="456" y="496"/>
                    <a:pt x="736" y="96"/>
                    <a:pt x="81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24280" y="5790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123720" y="2819160"/>
              <a:ext cx="289548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22856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2160" y="373356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ahoma"/>
                </a:rPr>
                <a:t>T</a:t>
              </a:r>
              <a:r>
                <a:rPr b="0" lang="es-ES_tradnl" sz="2400" spc="-1" strike="noStrike" baseline="-25000">
                  <a:solidFill>
                    <a:srgbClr val="40458c"/>
                  </a:solidFill>
                  <a:latin typeface="Tahoma"/>
                </a:rPr>
                <a:t>wal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6760" y="220968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ahoma"/>
                </a:rPr>
                <a:t>T</a:t>
              </a:r>
              <a:r>
                <a:rPr b="0" lang="es-ES_tradnl" sz="2400" spc="-1" strike="noStrike" baseline="-25000">
                  <a:solidFill>
                    <a:srgbClr val="40458c"/>
                  </a:solidFill>
                  <a:latin typeface="Tahoma"/>
                </a:rPr>
                <a:t>bul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514600" y="1447920"/>
            <a:ext cx="5502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Q = h A (T</a:t>
            </a:r>
            <a:r>
              <a:rPr b="0" lang="es-ES_tradnl" sz="3600" spc="-1" strike="noStrike" baseline="-25000">
                <a:solidFill>
                  <a:srgbClr val="40458c"/>
                </a:solidFill>
                <a:latin typeface="Tahoma"/>
              </a:rPr>
              <a:t>b</a:t>
            </a: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 - T</a:t>
            </a:r>
            <a:r>
              <a:rPr b="0" lang="es-ES_tradnl" sz="3600" spc="-1" strike="noStrike" baseline="-25000">
                <a:solidFill>
                  <a:srgbClr val="40458c"/>
                </a:solidFill>
                <a:latin typeface="Tahoma"/>
              </a:rPr>
              <a:t>w</a:t>
            </a: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66680" y="609480"/>
            <a:ext cx="55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udio experiment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2286000"/>
            <a:ext cx="1371600" cy="396252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4191120"/>
            <a:ext cx="1143000" cy="685800"/>
          </a:xfrm>
          <a:custGeom>
            <a:avLst/>
            <a:gdLst/>
            <a:ahLst/>
            <a:rect l="l" t="t" r="r" b="b"/>
            <a:pathLst>
              <a:path w="720" h="432">
                <a:moveTo>
                  <a:pt x="0" y="432"/>
                </a:moveTo>
                <a:cubicBezTo>
                  <a:pt x="160" y="276"/>
                  <a:pt x="320" y="120"/>
                  <a:pt x="384" y="96"/>
                </a:cubicBezTo>
                <a:cubicBezTo>
                  <a:pt x="448" y="72"/>
                  <a:pt x="328" y="304"/>
                  <a:pt x="384" y="288"/>
                </a:cubicBezTo>
                <a:cubicBezTo>
                  <a:pt x="440" y="272"/>
                  <a:pt x="664" y="48"/>
                  <a:pt x="7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0680" y="3809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3581280"/>
            <a:ext cx="144756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114800" y="464832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495288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880360" y="1749960"/>
            <a:ext cx="2392920" cy="465840"/>
            <a:chOff x="2880360" y="1749960"/>
            <a:chExt cx="2392920" cy="465840"/>
          </a:xfrm>
        </p:grpSpPr>
        <p:grpSp>
          <p:nvGrpSpPr>
            <p:cNvPr id="232" name=""/>
            <p:cNvGrpSpPr/>
            <p:nvPr/>
          </p:nvGrpSpPr>
          <p:grpSpPr>
            <a:xfrm>
              <a:off x="2880360" y="1749960"/>
              <a:ext cx="2392920" cy="465840"/>
              <a:chOff x="2880360" y="1749960"/>
              <a:chExt cx="2392920" cy="465840"/>
            </a:xfrm>
          </p:grpSpPr>
          <p:sp>
            <p:nvSpPr>
              <p:cNvPr id="233" name=""/>
              <p:cNvSpPr/>
              <p:nvPr/>
            </p:nvSpPr>
            <p:spPr>
              <a:xfrm flipV="1">
                <a:off x="2899440" y="1882800"/>
                <a:ext cx="2354040" cy="195840"/>
              </a:xfrm>
              <a:prstGeom prst="line">
                <a:avLst/>
              </a:prstGeom>
              <a:ln w="316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1314400">
                <a:off x="2887560" y="1800000"/>
                <a:ext cx="1219320" cy="22824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cubicBezTo>
                      <a:pt x="152" y="72"/>
                      <a:pt x="304" y="0"/>
                      <a:pt x="432" y="0"/>
                    </a:cubicBezTo>
                    <a:cubicBezTo>
                      <a:pt x="560" y="0"/>
                      <a:pt x="712" y="120"/>
                      <a:pt x="768" y="144"/>
                    </a:cubicBezTo>
                  </a:path>
                </a:pathLst>
              </a:custGeom>
              <a:noFill/>
              <a:ln w="316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0459800">
                <a:off x="4121640" y="1931400"/>
                <a:ext cx="1143000" cy="22824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cubicBezTo>
                      <a:pt x="152" y="72"/>
                      <a:pt x="304" y="0"/>
                      <a:pt x="432" y="0"/>
                    </a:cubicBezTo>
                    <a:cubicBezTo>
                      <a:pt x="560" y="0"/>
                      <a:pt x="712" y="120"/>
                      <a:pt x="768" y="144"/>
                    </a:cubicBezTo>
                  </a:path>
                </a:pathLst>
              </a:custGeom>
              <a:noFill/>
              <a:ln w="316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962520" y="1904760"/>
              <a:ext cx="228600" cy="152280"/>
            </a:xfrm>
            <a:prstGeom prst="ellipse">
              <a:avLst/>
            </a:prstGeom>
            <a:noFill/>
            <a:ln w="316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057400" y="2743200"/>
            <a:ext cx="19051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5791320"/>
            <a:ext cx="190476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9560" y="531180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5880" y="2187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114800" y="2437920"/>
            <a:ext cx="0" cy="8384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114800" y="144792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876920"/>
            <a:ext cx="106668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4724280"/>
            <a:ext cx="304920" cy="304920"/>
          </a:xfrm>
          <a:prstGeom prst="ellipse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4100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447920" y="838080"/>
          <a:ext cx="6553080" cy="527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6553080" cy="52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DCP04817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8-08-04T16:37:32Z</dcterms:modified>
  <cp:revision>338</cp:revision>
  <dc:subject/>
  <dc:title>Reactor Agitado</dc:title>
</cp:coreProperties>
</file>