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AECA-6235-4E67-8B78-F317B63B7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3C10-D3F7-4A1A-ABE7-6FBED54D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A36B-BC08-46F9-A8E5-18283E283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9D3F-E0E2-4D6E-98FF-3E0F1372A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4E4D-ED3A-4F54-9B07-475FE35D6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24FD-F709-4CF0-BD7E-59AC92B9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36A4-9244-4CB7-9F41-326E54F3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3DCC-C3EC-469C-85EF-34D2326A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EF80-51DC-4DBA-88CD-885A8A61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5874-48E0-4816-8F04-715AF112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1F8A-C826-4ED3-8F00-64CA6400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3452-09FE-4B96-BE95-2ED361BC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B85A-A2C2-4966-90F1-A1F398E2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7CEC-17B2-4F6F-A95C-4050C6C2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2CE9-30FC-4DE0-8E76-E8AD16DA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8436-3FD3-41DA-87E7-D8E67AA0F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2F23-ACDB-4468-97E3-7D4245BC9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AEA5-40F9-4E97-9063-6A268467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566E-8933-4ACD-8970-34FF37F6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694A-452E-465D-884E-C26AF188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BD84-7E54-4273-B93E-32D874D2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A60B-0392-43BB-AB3F-8F1990F7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D268-6D4A-4B32-8BA1-7D0EE423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8D60-242A-441A-8B02-5DBECC30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D4A4-A391-45A0-9ADF-F5DBFCE7F7C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A6EC-EC73-4A63-B577-E0D6F6147F2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838080" y="1752480"/>
            <a:ext cx="7772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Intercambiador de Calor por Convecció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ire - Sólid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8640" y="4495680"/>
            <a:ext cx="856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Convección: El calor se transporta a través de un Flui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066680" y="685800"/>
            <a:ext cx="556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aso de Convección sobre superfici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371600" y="2209680"/>
            <a:ext cx="6400800" cy="4041000"/>
            <a:chOff x="1371600" y="2209680"/>
            <a:chExt cx="6400800" cy="4041000"/>
          </a:xfrm>
        </p:grpSpPr>
        <p:sp>
          <p:nvSpPr>
            <p:cNvPr id="211" name=""/>
            <p:cNvSpPr/>
            <p:nvPr/>
          </p:nvSpPr>
          <p:spPr>
            <a:xfrm>
              <a:off x="1371600" y="4267080"/>
              <a:ext cx="5333760" cy="10666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90960" y="32000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40458c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09680" y="312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40458c"/>
                  </a:solidFill>
                  <a:latin typeface="Tahoma"/>
                </a:rPr>
                <a:t>K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647960" y="3047760"/>
              <a:ext cx="2210040" cy="1219320"/>
            </a:xfrm>
            <a:custGeom>
              <a:avLst/>
              <a:gdLst/>
              <a:ahLst/>
              <a:rect l="l" t="t" r="r" b="b"/>
              <a:pathLst>
                <a:path w="1392" h="768">
                  <a:moveTo>
                    <a:pt x="0" y="768"/>
                  </a:moveTo>
                  <a:cubicBezTo>
                    <a:pt x="240" y="752"/>
                    <a:pt x="480" y="736"/>
                    <a:pt x="672" y="672"/>
                  </a:cubicBezTo>
                  <a:cubicBezTo>
                    <a:pt x="864" y="608"/>
                    <a:pt x="1032" y="496"/>
                    <a:pt x="1152" y="384"/>
                  </a:cubicBezTo>
                  <a:cubicBezTo>
                    <a:pt x="1272" y="272"/>
                    <a:pt x="1332" y="136"/>
                    <a:pt x="1392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90560" y="3504960"/>
              <a:ext cx="1371600" cy="12193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3886200" y="4267080"/>
              <a:ext cx="761760" cy="838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76360" y="4876560"/>
              <a:ext cx="1828800" cy="1371600"/>
            </a:xfrm>
            <a:custGeom>
              <a:avLst/>
              <a:gdLst/>
              <a:ahLst/>
              <a:rect l="l" t="t" r="r" b="b"/>
              <a:pathLst>
                <a:path w="816" h="624">
                  <a:moveTo>
                    <a:pt x="0" y="624"/>
                  </a:moveTo>
                  <a:cubicBezTo>
                    <a:pt x="160" y="416"/>
                    <a:pt x="320" y="208"/>
                    <a:pt x="384" y="192"/>
                  </a:cubicBezTo>
                  <a:cubicBezTo>
                    <a:pt x="448" y="176"/>
                    <a:pt x="312" y="560"/>
                    <a:pt x="384" y="528"/>
                  </a:cubicBezTo>
                  <a:cubicBezTo>
                    <a:pt x="456" y="496"/>
                    <a:pt x="736" y="96"/>
                    <a:pt x="816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24280" y="5790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Tahoma"/>
                </a:rPr>
                <a:t>Q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3123720" y="2819160"/>
              <a:ext cx="2895480" cy="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22856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40458c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62160" y="373356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40458c"/>
                  </a:solidFill>
                  <a:latin typeface="Tahoma"/>
                </a:rPr>
                <a:t>T</a:t>
              </a:r>
              <a:r>
                <a:rPr b="0" lang="es-ES_tradnl" sz="2400" spc="-1" strike="noStrike" baseline="-25000">
                  <a:solidFill>
                    <a:srgbClr val="40458c"/>
                  </a:solidFill>
                  <a:latin typeface="Tahoma"/>
                </a:rPr>
                <a:t>wal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76760" y="2209680"/>
              <a:ext cx="129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40458c"/>
                  </a:solidFill>
                  <a:latin typeface="Tahoma"/>
                </a:rPr>
                <a:t>T</a:t>
              </a:r>
              <a:r>
                <a:rPr b="0" lang="es-ES_tradnl" sz="2400" spc="-1" strike="noStrike" baseline="-25000">
                  <a:solidFill>
                    <a:srgbClr val="40458c"/>
                  </a:solidFill>
                  <a:latin typeface="Tahoma"/>
                </a:rPr>
                <a:t>bulk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2514600" y="1447920"/>
            <a:ext cx="5502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458c"/>
                </a:solidFill>
                <a:latin typeface="Tahoma"/>
              </a:rPr>
              <a:t>Q = h A (T</a:t>
            </a:r>
            <a:r>
              <a:rPr b="0" lang="es-ES_tradnl" sz="3600" spc="-1" strike="noStrike" baseline="-25000">
                <a:solidFill>
                  <a:srgbClr val="40458c"/>
                </a:solidFill>
                <a:latin typeface="Tahoma"/>
              </a:rPr>
              <a:t>b</a:t>
            </a:r>
            <a:r>
              <a:rPr b="0" lang="es-ES_tradnl" sz="3600" spc="-1" strike="noStrike">
                <a:solidFill>
                  <a:srgbClr val="40458c"/>
                </a:solidFill>
                <a:latin typeface="Tahoma"/>
              </a:rPr>
              <a:t> - T</a:t>
            </a:r>
            <a:r>
              <a:rPr b="0" lang="es-ES_tradnl" sz="3600" spc="-1" strike="noStrike" baseline="-25000">
                <a:solidFill>
                  <a:srgbClr val="40458c"/>
                </a:solidFill>
                <a:latin typeface="Tahoma"/>
              </a:rPr>
              <a:t>w</a:t>
            </a:r>
            <a:r>
              <a:rPr b="0" lang="es-ES_tradnl" sz="36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066680" y="609480"/>
            <a:ext cx="55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tudio experiment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52680" y="2286000"/>
            <a:ext cx="1371600" cy="3962520"/>
          </a:xfrm>
          <a:prstGeom prst="rect">
            <a:avLst/>
          </a:pr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05120" y="4191120"/>
            <a:ext cx="1143000" cy="685800"/>
          </a:xfrm>
          <a:custGeom>
            <a:avLst/>
            <a:gdLst/>
            <a:ahLst/>
            <a:rect l="l" t="t" r="r" b="b"/>
            <a:pathLst>
              <a:path w="720" h="432">
                <a:moveTo>
                  <a:pt x="0" y="432"/>
                </a:moveTo>
                <a:cubicBezTo>
                  <a:pt x="160" y="276"/>
                  <a:pt x="320" y="120"/>
                  <a:pt x="384" y="96"/>
                </a:cubicBezTo>
                <a:cubicBezTo>
                  <a:pt x="448" y="72"/>
                  <a:pt x="328" y="304"/>
                  <a:pt x="384" y="288"/>
                </a:cubicBezTo>
                <a:cubicBezTo>
                  <a:pt x="440" y="272"/>
                  <a:pt x="664" y="48"/>
                  <a:pt x="72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00680" y="38098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3581280"/>
            <a:ext cx="144756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114800" y="4648320"/>
            <a:ext cx="0" cy="8380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91120" y="4952880"/>
            <a:ext cx="3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880360" y="1749960"/>
            <a:ext cx="2392920" cy="465840"/>
            <a:chOff x="2880360" y="1749960"/>
            <a:chExt cx="2392920" cy="465840"/>
          </a:xfrm>
        </p:grpSpPr>
        <p:grpSp>
          <p:nvGrpSpPr>
            <p:cNvPr id="232" name=""/>
            <p:cNvGrpSpPr/>
            <p:nvPr/>
          </p:nvGrpSpPr>
          <p:grpSpPr>
            <a:xfrm>
              <a:off x="2880360" y="1749960"/>
              <a:ext cx="2392920" cy="465840"/>
              <a:chOff x="2880360" y="1749960"/>
              <a:chExt cx="2392920" cy="465840"/>
            </a:xfrm>
          </p:grpSpPr>
          <p:sp>
            <p:nvSpPr>
              <p:cNvPr id="233" name=""/>
              <p:cNvSpPr/>
              <p:nvPr/>
            </p:nvSpPr>
            <p:spPr>
              <a:xfrm flipV="1">
                <a:off x="2899440" y="1882800"/>
                <a:ext cx="2354040" cy="195840"/>
              </a:xfrm>
              <a:prstGeom prst="line">
                <a:avLst/>
              </a:prstGeom>
              <a:ln w="316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1314400">
                <a:off x="2887560" y="1800000"/>
                <a:ext cx="1219320" cy="228240"/>
              </a:xfrm>
              <a:custGeom>
                <a:avLst/>
                <a:gdLst/>
                <a:ahLst/>
                <a:rect l="l" t="t" r="r" b="b"/>
                <a:pathLst>
                  <a:path w="768" h="144">
                    <a:moveTo>
                      <a:pt x="0" y="144"/>
                    </a:moveTo>
                    <a:cubicBezTo>
                      <a:pt x="152" y="72"/>
                      <a:pt x="304" y="0"/>
                      <a:pt x="432" y="0"/>
                    </a:cubicBezTo>
                    <a:cubicBezTo>
                      <a:pt x="560" y="0"/>
                      <a:pt x="712" y="120"/>
                      <a:pt x="768" y="144"/>
                    </a:cubicBezTo>
                  </a:path>
                </a:pathLst>
              </a:custGeom>
              <a:noFill/>
              <a:ln w="3168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0459800">
                <a:off x="4121640" y="1931400"/>
                <a:ext cx="1143000" cy="228240"/>
              </a:xfrm>
              <a:custGeom>
                <a:avLst/>
                <a:gdLst/>
                <a:ahLst/>
                <a:rect l="l" t="t" r="r" b="b"/>
                <a:pathLst>
                  <a:path w="768" h="144">
                    <a:moveTo>
                      <a:pt x="0" y="144"/>
                    </a:moveTo>
                    <a:cubicBezTo>
                      <a:pt x="152" y="72"/>
                      <a:pt x="304" y="0"/>
                      <a:pt x="432" y="0"/>
                    </a:cubicBezTo>
                    <a:cubicBezTo>
                      <a:pt x="560" y="0"/>
                      <a:pt x="712" y="120"/>
                      <a:pt x="768" y="144"/>
                    </a:cubicBezTo>
                  </a:path>
                </a:pathLst>
              </a:custGeom>
              <a:noFill/>
              <a:ln w="3168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3962520" y="1904760"/>
              <a:ext cx="228600" cy="152280"/>
            </a:xfrm>
            <a:prstGeom prst="ellipse">
              <a:avLst/>
            </a:prstGeom>
            <a:noFill/>
            <a:ln w="316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057400" y="2743200"/>
            <a:ext cx="19051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33720" y="5791320"/>
            <a:ext cx="190476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059560" y="531180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35880" y="218772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114800" y="2437920"/>
            <a:ext cx="0" cy="83844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114800" y="1447920"/>
            <a:ext cx="0" cy="3808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19720" y="4876920"/>
            <a:ext cx="106668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86400" y="4724280"/>
            <a:ext cx="304920" cy="304920"/>
          </a:xfrm>
          <a:prstGeom prst="ellipse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905120" y="533520"/>
            <a:ext cx="54100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1447920" y="838080"/>
          <a:ext cx="6553080" cy="527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838080"/>
                    <a:ext cx="6553080" cy="527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DCP04817" descr=""/>
          <p:cNvPicPr/>
          <p:nvPr/>
        </p:nvPicPr>
        <p:blipFill>
          <a:blip r:embed="rId1"/>
          <a:stretch/>
        </p:blipFill>
        <p:spPr>
          <a:xfrm>
            <a:off x="-914400" y="-685800"/>
            <a:ext cx="1097280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8-08-04T16:37:32Z</dcterms:modified>
  <cp:revision>338</cp:revision>
  <dc:subject/>
  <dc:title>Reactor Agitado</dc:title>
</cp:coreProperties>
</file>