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60D-A61E-4D3F-B84B-B8DDEDE0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3E2-B3BC-45D3-B379-F4BDA68E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D52-59F4-4D1E-83AF-D454A2C8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EA4-CAFA-4EFA-B109-B1E6E619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754-8856-4923-BCA3-B1BEF0B3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908-BD98-4166-AC2B-3250736B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EA1-C2BB-449D-974F-9FCE813A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CB9-C8CA-4D3E-A1FD-3E5D93B6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C4C-61CD-47C6-88F9-7422D0E5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C82-23A6-44DE-ACA6-F7B3C57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A3B-7870-4CE3-8D19-3EA98D5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9B5-210C-4391-BE8A-7E742F4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5A3B-01B8-4656-93DE-41AEF1FEA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5.jpeg"/><Relationship Id="rId3" Type="http://schemas.openxmlformats.org/officeDocument/2006/relationships/slide" Target="slide2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osmos.com.mx/ultra/2892/pigmentos.gif&amp;imgrefurl=http://www.cosmos.com.mx/ultra/2892/&amp;h=169&amp;w=169&amp;sz=26&amp;hl=es&amp;start=6&amp;tbnid=Ld9fQ-ND4pZwSM:&amp;tbnh=99&amp;tbnw=99&amp;prev=/images%3Fq%3Dpigmentos%26gbv%3D2%26svnum%3D10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directoalpaladar.com/images/colorantes_alimentarios_varios.jpg&amp;imgrefurl=http://www.directoalpaladar.com/2006/09/14-natraceutical-group-presenta-un-nuevo-y-beneficioso-colorante&amp;h=221&amp;w=217&amp;sz=13&amp;hl=es&amp;start=2&amp;tbnid=J1apQjtC4fxXqM:&amp;tbnh=107&amp;tbnw=105&amp;prev=/images%3Fq%3Dcolorantes%26gbv%3D2%26svnum%3D10%26hl%3Des%26sa%3D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 Equip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quipo es un secador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puesto en 4 bandejas, el qu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mite controlar la velocidad y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mperatura del flujo de aire,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cual es impulsado por un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cuenta con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za digital que permi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en el tiempo la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 sólido, y por lo tanto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rdida de humed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con velocímetr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de paletas 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2480" y="836280"/>
            <a:ext cx="76802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 un Psicrómetro se determinan las temperaturas del flujo de aire 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 secado,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idad de agua evapo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ecado de un material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ede verificar haciendo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gráficos de perfiles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v/s Tiempo de seca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ado experimentalment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velocidad del secado de 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stra se puede determi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iendo uso de las siguient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r medio de una curv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 contenid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umedad y tiemp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Haciendo una curva de Velocida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cada por la diferencia de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 de do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ividido por el peri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tiempo entre las éstas) v/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 proce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77320" y="30481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172360" y="9079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266" h="21600">
                <a:moveTo>
                  <a:pt x="10606" y="3985"/>
                </a:moveTo>
                <a:lnTo>
                  <a:pt x="17604" y="3985"/>
                </a:lnTo>
                <a:lnTo>
                  <a:pt x="21660" y="7484"/>
                </a:lnTo>
                <a:lnTo>
                  <a:pt x="21660" y="17615"/>
                </a:lnTo>
                <a:lnTo>
                  <a:pt x="10606" y="17615"/>
                </a:lnTo>
                <a:close/>
              </a:path>
              <a:path fill="darken" w="32266" h="21600">
                <a:moveTo>
                  <a:pt x="17604" y="3985"/>
                </a:moveTo>
                <a:lnTo>
                  <a:pt x="21660" y="7484"/>
                </a:lnTo>
                <a:lnTo>
                  <a:pt x="17604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153280" y="20574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7493"/>
                </a:moveTo>
                <a:lnTo>
                  <a:pt x="10045" y="7493"/>
                </a:lnTo>
                <a:lnTo>
                  <a:pt x="10045" y="12828"/>
                </a:lnTo>
                <a:cubicBezTo>
                  <a:pt x="10045" y="13751"/>
                  <a:pt x="10846" y="14482"/>
                  <a:pt x="11882" y="14482"/>
                </a:cubicBezTo>
                <a:lnTo>
                  <a:pt x="13544" y="14482"/>
                </a:lnTo>
                <a:cubicBezTo>
                  <a:pt x="14580" y="14482"/>
                  <a:pt x="15380" y="13751"/>
                  <a:pt x="15380" y="12828"/>
                </a:cubicBezTo>
                <a:lnTo>
                  <a:pt x="15380" y="7493"/>
                </a:lnTo>
                <a:lnTo>
                  <a:pt x="13544" y="7493"/>
                </a:lnTo>
                <a:lnTo>
                  <a:pt x="17052" y="3985"/>
                </a:lnTo>
                <a:lnTo>
                  <a:pt x="20724" y="7493"/>
                </a:lnTo>
                <a:lnTo>
                  <a:pt x="18888" y="7493"/>
                </a:lnTo>
                <a:lnTo>
                  <a:pt x="18888" y="12828"/>
                </a:lnTo>
                <a:cubicBezTo>
                  <a:pt x="18888" y="15596"/>
                  <a:pt x="16312" y="18155"/>
                  <a:pt x="13544" y="18155"/>
                </a:cubicBezTo>
                <a:lnTo>
                  <a:pt x="11882" y="18155"/>
                </a:lnTo>
                <a:cubicBezTo>
                  <a:pt x="9114" y="18155"/>
                  <a:pt x="6537" y="15596"/>
                  <a:pt x="653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001000" y="4114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iodo de inducción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ando un sólido se coloca en 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fa de secado, comienza a absorber calor e incrementa su temperatura hasta la fijada para el secado. A medida que la temperatura aumenta, la humedad se evapora y se empieza a enfriar 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5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steriormente la velocidad de enfriamiento y calentamiento se igualan y la temperatura se estabiliza, la Tbh del aire secante será igual a la temperatura alcanzad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eriodo de velocidad const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temperatura se estabilizará y permanecerá constante siempre y cuando haya una capa de humedad remanente en la superficie d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916360" y="256536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los punto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humedad de evaporación de la superficie se reemplaza por el agua de difusión del interior del sólido a una velocidad igual a la de evaporación, aquí la velocidad de secado/unidad de superficie es constant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924360" y="1628640"/>
            <a:ext cx="71280" cy="21600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216000"/>
              <a:gd name="textAreaBottom" fmla="*/ 211680 h 216000"/>
            </a:gdLst>
            <a:ahLst/>
            <a:rect l="textAreaLeft" t="textAreaTop" r="textAreaRight" b="textAreaBottom"/>
            <a:pathLst>
              <a:path w="21600" h="65234">
                <a:moveTo>
                  <a:pt x="0" y="0"/>
                </a:moveTo>
                <a:lnTo>
                  <a:pt x="21600" y="0"/>
                </a:lnTo>
                <a:lnTo>
                  <a:pt x="21600" y="65234"/>
                </a:lnTo>
                <a:lnTo>
                  <a:pt x="0" y="65234"/>
                </a:lnTo>
                <a:close/>
              </a:path>
              <a:path fill="lightenLess" w="21600" h="652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5234">
                <a:moveTo>
                  <a:pt x="21600" y="0"/>
                </a:moveTo>
                <a:lnTo>
                  <a:pt x="21600" y="65234"/>
                </a:lnTo>
                <a:lnTo>
                  <a:pt x="20200" y="63834"/>
                </a:lnTo>
                <a:lnTo>
                  <a:pt x="20200" y="1400"/>
                </a:lnTo>
                <a:close/>
              </a:path>
              <a:path fill="darkenLess" w="21600" h="65234">
                <a:moveTo>
                  <a:pt x="21600" y="65234"/>
                </a:moveTo>
                <a:lnTo>
                  <a:pt x="0" y="65234"/>
                </a:lnTo>
                <a:lnTo>
                  <a:pt x="1400" y="63834"/>
                </a:lnTo>
                <a:lnTo>
                  <a:pt x="20200" y="63834"/>
                </a:lnTo>
                <a:close/>
              </a:path>
              <a:path fill="lighten" w="21600" h="65234">
                <a:moveTo>
                  <a:pt x="0" y="65234"/>
                </a:moveTo>
                <a:lnTo>
                  <a:pt x="0" y="0"/>
                </a:lnTo>
                <a:lnTo>
                  <a:pt x="1400" y="1400"/>
                </a:lnTo>
                <a:lnTo>
                  <a:pt x="1400" y="63834"/>
                </a:lnTo>
                <a:close/>
              </a:path>
              <a:path fill="darken" w="21600" h="65234">
                <a:moveTo>
                  <a:pt x="3794" y="25611"/>
                </a:moveTo>
                <a:lnTo>
                  <a:pt x="17806" y="32617"/>
                </a:lnTo>
                <a:lnTo>
                  <a:pt x="3794" y="396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Periodo de decaimiento de velocid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l agua de la superficie no se reemplazará más para mantener la capa. Pequeñas manchas empiezan a parecer y la velocidad del secado comienza a deca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203640" y="285264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esto se le llama contenido de humedad crítica. Entre los punto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l contenido y número de manchas del secado crece y cae la velocidad de seca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523880" y="4952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8406"/>
                </a:moveTo>
                <a:lnTo>
                  <a:pt x="16843" y="8406"/>
                </a:lnTo>
                <a:lnTo>
                  <a:pt x="21265" y="3794"/>
                </a:lnTo>
                <a:lnTo>
                  <a:pt x="21265" y="17806"/>
                </a:lnTo>
                <a:lnTo>
                  <a:pt x="16843" y="13194"/>
                </a:lnTo>
                <a:lnTo>
                  <a:pt x="12413" y="13194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26426" y="10800"/>
                </a:lnTo>
              </a:path>
              <a:path fill="darken" w="38839" h="21600">
                <a:moveTo>
                  <a:pt x="22919" y="8406"/>
                </a:moveTo>
                <a:lnTo>
                  <a:pt x="26426" y="5639"/>
                </a:lnTo>
              </a:path>
              <a:path fill="darken" w="38839" h="21600">
                <a:moveTo>
                  <a:pt x="22919" y="13194"/>
                </a:moveTo>
                <a:lnTo>
                  <a:pt x="264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ontenido de humedad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 donde finaliza el periodo de velocidad constante. Aquí, el agua de superficie del sólido esta totalmente evaporada y la velocidad de secado dependerá de la difusión de humedad a la superficie del sóli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lo anterior, este punto depende de la porosidad y del tamaño de partícula del sólido que se esta secan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a velocidad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ado es cero y comienza la humedad de equilibrio poniénd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ólido en equilibrio con 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exter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a remoción de hume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una sustancia, involucran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fenómenos de transferenci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lor y masa, en for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158436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12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02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365720"/>
            <a:ext cx="2238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r una corriente de ai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ente por sobre el material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el tipo de produc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que buscam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89000"/>
            <a:ext cx="2189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5372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semillas los niveles s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LICEO INDUSTRIAL</cp:lastModifiedBy>
  <dcterms:modified xsi:type="dcterms:W3CDTF">2008-08-04T18:51:34Z</dcterms:modified>
  <cp:revision>12</cp:revision>
  <dc:subject/>
  <dc:title>El proceso de secado consiste en la remoción de humedad de una sustancia, involucrando los fenómenos de transferencia de calor y masa, en forma simultanea.</dc:title>
</cp:coreProperties>
</file>