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F83-6172-44AA-90E4-AE42ACD0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BAD-C2B0-47BE-93C2-9422CC0A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7F0-BAE2-4D9A-8C7E-DDF796A1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536-8DD2-49A2-934F-C8814F4F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D9A1-A383-4E06-AA2C-2ACD3F16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2BDE-1A18-41F7-9E1F-27295C7D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7DD9-A259-45AF-BA87-4FE02CCE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C320-5AFA-47A7-89FD-5ED8C77C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DB8B-C84D-415C-BF61-F725354C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C1E0-A50B-4F8D-9D93-7A989499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F124-0164-44C7-B80A-452A59E0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6D9-06A5-41A9-88DC-388D9B09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95F1-9DC1-452B-BB8B-A4EA891B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1FCC-DB4D-4EEA-9745-DA1D20AE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8F58-E2FE-465B-98F5-E8508F18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04A-F611-4F4D-B460-1EA9E6FD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5F9C-20E2-47DC-B905-E2A44593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58E-F028-4ED3-8BAF-84BDC3ED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4C3-D7E0-4A00-A12A-1FAB8241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C8B-E305-4BA7-B565-51265CFA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F4B-5ACE-44CE-AF0C-57DCC5F3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C27-B2D4-4D2C-8171-B6CD6391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CA2-D50F-49F9-909C-79D0F593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BE8-2C26-4268-B6DD-044CA353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7B72-01A6-4ACB-9D83-A5FF6FCC335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D22E-ECBA-43A3-94C7-5672B9E8EE1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, fuente de poder y multimetro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realizan se puede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sulfur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57520" y="1976400"/>
            <a:ext cx="56289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2697120" cy="177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7640" y="227664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23745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8360" y="1219320"/>
            <a:ext cx="766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86040" y="1119240"/>
            <a:ext cx="53719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47760" y="843120"/>
            <a:ext cx="484848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generación de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usuario</cp:lastModifiedBy>
  <dcterms:modified xsi:type="dcterms:W3CDTF">2008-08-06T15:58:29Z</dcterms:modified>
  <cp:revision>22</cp:revision>
  <dc:subject/>
  <dc:title>Electro-obtención (EW)</dc:title>
</cp:coreProperties>
</file>