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4D9-D6E8-487B-9592-17913ECE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272-3276-42C9-B605-F9306D15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476-6A90-4399-A7E9-F249AB79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237-714D-46C9-BEB4-43A1A6BA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BD7-622D-4849-85BA-DAF4DE1A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2F16-8303-4D7A-B2F5-D48A4050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127E-6202-4132-AA18-0052AE7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8239-1E4E-4ECA-80C9-CC9CC4E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D12-2273-44F4-A44A-803BF652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1946-16E8-446B-A455-1C2B151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095B-41B5-489B-A412-5EB74C80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9C7-6B88-42A1-8697-ABE8A5DD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131C-0ACA-4829-AC88-C599901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AF39-7BEB-42E6-AB65-AE517E1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3820-BB24-4A5F-89BD-6DA072D3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B0A4-36A9-4030-810B-4F7EEBCF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2D4D-9B80-444C-9521-CAB5D4CE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DB8-E3BA-4CD2-AFC2-E07B617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19D-7129-454C-ABDE-415DBC12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1DA-D973-4FAF-95D0-F40A8783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8DE-CFC6-47C7-A8DE-3019AA6E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F69-D225-4760-A4C8-AA7D1B98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DDD-56F6-4467-A3EE-9F1E0BA6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32B-200C-42DD-9D88-32C22FA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EB9B-EB09-4868-A7BE-39ABFFED2FC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43B-938D-4101-AA22-42500435CAF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, fuente de poder y multimetro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realizan se puede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sulfur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57520" y="1976400"/>
            <a:ext cx="5628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697120" cy="177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23745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8360" y="1219320"/>
            <a:ext cx="766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86040" y="1119240"/>
            <a:ext cx="53719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47760" y="843120"/>
            <a:ext cx="484848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generación de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06T15:58:29Z</dcterms:modified>
  <cp:revision>22</cp:revision>
  <dc:subject/>
  <dc:title>Electro-obtención (EW)</dc:title>
</cp:coreProperties>
</file>