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B2F-B7FB-4914-BE8C-DF5601D1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7FF-8AA9-4F44-A754-C24AC85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FBF-1CE2-4513-BEB2-FA813CBF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8AA-191E-4198-939B-B63AC324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A7AF-778A-4D71-A75C-89D6043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DE6A-2D45-4310-A67C-CDC5F45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427-3B4F-4B49-AA07-A8649AA4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12AA-037F-4C91-9429-B20E95C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BB0-70B9-40B2-B08B-8CB1BED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D510-1918-4229-8170-D9119414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A564-F98F-4E01-B4C0-9FF68E7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138-CDAE-4F3B-ACEE-B0A20C2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D6AC-5AAC-44EB-8B4F-C8146BF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4350-28D5-44EA-A0FE-E84EDA4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B90E-FABF-45A1-8807-1B5A9FF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C3F-ACDD-47A1-BC7D-D4A54432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A851-52E1-470F-A6EC-C1B6A62B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49F-301B-4FA1-AA6B-F46A017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246-E6FE-457D-83AD-EA0B8E64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274-3339-4235-942C-E6524E5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6E6-E59B-4D8F-AE9A-51E811C7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CCC-AD21-4E01-8161-00B4997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67A-DE04-4823-8FCA-22765061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C3E-DD93-4730-8C3B-F72062B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A71-BF63-4E41-ACC1-3C3D771DFAE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E15A-4D46-479D-AE08-60EB9E6BE19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, fuente de poder y multimetro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realizan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sulfur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7520" y="1976400"/>
            <a:ext cx="5628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697120" cy="177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237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360" y="1219320"/>
            <a:ext cx="766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86040" y="1119240"/>
            <a:ext cx="5371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47760" y="843120"/>
            <a:ext cx="48484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06T15:58:29Z</dcterms:modified>
  <cp:revision>22</cp:revision>
  <dc:subject/>
  <dc:title>Electro-obtención (EW)</dc:title>
</cp:coreProperties>
</file>