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147-9A53-460A-A995-68232E4D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BC9-07E2-4D1F-A342-8D3C1FF8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D49-129C-48D7-9B70-BE3BFED4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67EE-3299-4677-886F-AE2FD1D0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C29F-C59E-4CC0-87A7-6CE84251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ED5F-458D-4C9D-90C7-FDE3DAD6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4E32-2148-46DE-8462-58098386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D367-1DBA-4270-890D-78D68097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40F3-6EB1-404B-B016-A2F9B7D1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9C9F-A021-4EA9-BD0D-B4382B30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33E1-6F8E-433F-AE4E-54A31C30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E84E-BF7E-4780-8C46-96ED494E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A138-887F-425D-A1EE-5AE1428C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9B8A-53D8-4976-B275-08D513F5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EB9A-7583-45B0-B993-BFBFB12C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9FEF-A357-4AD0-9EDA-57639415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0EBF-662E-4085-90FF-1E2BE435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422-7290-4B04-A437-C899CFCD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AFF-0A3A-40D3-9AD6-184E1F08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7231-9967-4341-B80C-2D7DDAAB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F522-6AEF-4344-BF2B-A61CCECD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FF53-BCF5-4D05-8FDF-4C5BE96A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5C8-F008-4BD8-9F0E-30B057AB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285F-1995-4BEF-AA02-70D1E3A9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D1BA-2BB7-4451-9EE4-DD6D7509432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D2E9-C745-4744-9CEC-1AEA429A88D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Electro-obtención (EW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boratorio de Ingeniería Química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Q-53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83808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cuación de Farada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05120" y="1752480"/>
                <a:ext cx="434340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  <m:r>
                          <m:rPr>
                            <m:lit/>
                            <m:nor/>
                          </m:rPr>
                          <m:t xml:space="preserve">ensida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iente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ramos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raday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 velocidad de deposición sobre el cátodo depende de la intensidad de corriente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n el caso de existir otro par redox en la celda, se verá afectada la velocidad de deposición del metal de interés, i.e. la eficienci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Equipo de Laboratori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l laboratorio cuenta con una celda de EW, fuente de poder y multimetro. Se cuanta además con bombas peristálticas y baño termostático para recircular electrolito a la temperatura desea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uebas experiment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ntro de las pruebas experimentales que se realizan se puede menciona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ción de la eficiencia de la operación, en función de la concentración de otros iones en solu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la curva de corriente-potencial para la electro-deposición del cobre, determinando regiones con distintos tipos de contro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studiar el efecto de variables como la temperatura y acidez en la eficiencia de oper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28170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               </a:t>
            </a: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¿Pregunta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oceso para minerales sulfurados de Cob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828800"/>
          <a:ext cx="24163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828800"/>
                    <a:ext cx="2416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finalidad de la electro-obtención es producir cátodos de cobre de alta pureza (comercializables) a partir de una solución cargada de Cu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57520" y="1976400"/>
            <a:ext cx="56289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2697120" cy="177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227640" y="2276640"/>
            <a:ext cx="1714680" cy="1428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780000" y="3933720"/>
            <a:ext cx="23745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38360" y="1219320"/>
            <a:ext cx="7667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886040" y="1119240"/>
            <a:ext cx="537192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47760" y="843120"/>
            <a:ext cx="484848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Fundamentos de la operación 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operación se basa en la deposición electroquímica del cobre sobre la superficie catódi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Se presentan dos reacciones, una catódica y otra anódi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reacción catódica produce deposición del cobre mientras que la reacción anódica produce electrólisis del agua, con la consiguiente generación de protones y oxígeno gaseos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Reacciones en 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76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451240" y="2325600"/>
                <a:ext cx="3479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066680" y="32004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ra que la reacción catódica pueda proceder se necesita que exista una reacción anódic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851120" y="4495680"/>
                <a:ext cx="4959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2</m:t>
                    </m:r>
                    <m:r>
                      <m:t xml:space="preserve">O</m:t>
                    </m:r>
                    <m:r>
                      <m:t xml:space="preserve">⇔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½ </m:t>
                    </m:r>
                    <m:r>
                      <m:t xml:space="preserve">O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21:08:52Z</dcterms:created>
  <dc:creator/>
  <dc:description/>
  <dc:language>en-US</dc:language>
  <cp:lastModifiedBy>usuario</cp:lastModifiedBy>
  <dcterms:modified xsi:type="dcterms:W3CDTF">2008-08-06T15:58:29Z</dcterms:modified>
  <cp:revision>22</cp:revision>
  <dc:subject/>
  <dc:title>Electro-obtención (EW)</dc:title>
</cp:coreProperties>
</file>