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665-70A5-4BAF-8BC2-C3A3B38442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4BF-21B4-4230-A979-0BD8573FFA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EDD-BFC1-4F4F-8F9E-82BD2F46E2C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99E-A61B-48A9-8FEC-A41A6025272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17A-5301-42CC-A1E0-C3A2CC4A38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00C1-318A-4E3E-BDAD-C458E001E88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F306-4B35-4D67-A3F2-AA5348548F9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D03D-89FE-40EB-B30D-25C4F15BDD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7DD-9ADF-437D-A336-3C3C2DB4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D2E-1F97-49EB-8F6B-4F96717E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B6D-AA48-4998-8791-8DA5FC88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999-04BC-4CB7-98D5-02FAD58B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7506-D058-4B9D-A2CA-ADC61790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09D-1D81-4A58-A3D6-1DA81E8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B0C7-E5BC-4DBC-BF67-4B6DB2DC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B92-1DEA-4C24-AA7A-99A3756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FC02-B349-4532-A9C5-2B216114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901-A336-4DBE-877D-4389784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70BF-A5ED-4644-9E23-C48B6D4D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EAC-B7AE-404E-8C99-0EEF151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5610-59A6-4F5F-9B82-7299A8E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E3B0-7AE6-4480-872A-691FCC5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D7D3-7E0D-40DA-A6E0-EE94E7E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3E4E-1999-44C2-9AB9-92C47C94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9D2-745A-4183-AB8D-DDC951E3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4ED73-095C-4969-949B-A124217C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66BBE-73D7-4C69-BC97-64A82A1C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86AFA-9D42-4B56-A886-1478EBA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B7821-742F-41CB-ACD1-817287E8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C6A7D-9999-4354-85E0-42F9285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FF5-387C-4B19-96F3-2390D064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4A7EC-02E3-4308-BCFE-AF7DAE6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24A5E-629C-4444-B83D-606A84C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1E7FB-AE80-404A-8F28-54D7B5F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12171-FC26-4364-B8AB-76AA8E3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09A57-A126-4165-94FC-84581EF3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DC62E-1C62-4C23-9577-33056995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C9D47-735E-4CC3-B153-232E9A57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FC19F-F838-4F3D-965C-F35E4338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70CD3-6C6F-4B9D-A173-7D19447F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AFFDD-CD37-4275-8B78-42B2EC1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1C3-5CD5-4812-99A8-D179B904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2B005-1CCE-4DC9-B4F7-D89BFACB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F6DA1-4621-4B08-B5FB-A8579C0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693F2-472C-483E-9536-1D4B5D45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F7DC9-B073-437C-8173-9AD7C36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A688E-0BD0-4FC9-BBFC-B33B9A4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D5CE6-20AE-40F0-B642-3AEF633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649ED-27FC-48F8-A2C8-E5C8DA5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A9F16-D58E-45D6-807A-0F869D6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18555-F5A2-4E30-9931-BF439B6C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EC301-B07E-4F3F-81BB-4A20380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9A2-DDF4-450F-91CD-FF51195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B85A9-0A38-45A4-93F1-788CE2B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0C5CA-0080-408B-899F-97DFFDB7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F69DF-4C1D-40F7-90F0-26C9D19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7FBA3-4D2D-40DB-B128-92A152A4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AEB2D-F4C2-4000-8F20-BCBE3560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F72CA-5CE9-4BC6-ABFA-E2BBF4D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710D7-3439-4772-A1CE-86DCC94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3376F-6276-4214-8493-2F6C9D3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31D2C-816C-4841-92AE-47D83A38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83267-6DD8-4EFD-B89E-CB284CAC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8E5-812F-491D-85E1-C3463F99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7E7EB-AB39-44B7-8A31-E3BA2ED4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38DBD-8273-4150-90E0-81416CB6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0DC9-3ED0-4C63-B653-402B5ED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BFD2A-77DC-4AEE-A699-AFE3DDD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26F6-5DFF-460F-911D-36711A66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F75EB-584D-44DC-A837-1CAEFF6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DE83-BB1E-40CE-9BF9-419E65A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4F04A-2B53-4C6E-8281-44AAC91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D8A08-2E62-40A7-8577-6B1C8AA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64D8-B4C5-4EFD-A3C5-E9395FD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BC8-0874-4F3D-B564-FFDD3256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63BD-88C8-4302-A57D-D845089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8243-40E1-4313-90C0-28D32457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71D9F-E4A6-49E2-A101-0EDA38B8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09555-589F-4D35-8ED0-981BE61E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4FED7-90A8-491F-BA1D-9721A7A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C24C0-0AA9-47A4-A27C-80554414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2A1C6-BD3B-49D1-9BEF-4FADD05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EB89A-92A8-4B29-936E-01749CF9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7C5C3-27B1-45F9-9C95-66BB6BB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86273-6674-4B92-AE07-98B781E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5F1-7FA5-4060-A13E-35E484D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5ADC9-E66F-42A3-80D1-9AAE52F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52D52-ADD8-4EB3-A2C9-71B0E43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CB83A-FFF2-4DB7-861F-174841B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7B9F7-372C-4E66-8A40-2476E809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DE605-C29F-4D1B-9786-EA10B3BD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C6633-F20B-4AE1-B727-66160319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EB52-3E10-4D8A-B43A-B53B9E4C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663E-D3DC-416B-A277-56177F7B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DB2E8-0CA6-418B-8EE4-0218E290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E637-6AA9-4DA8-AEFE-FEBB8C2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139-B768-43AE-9189-78022D7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E68D-2C24-47BE-AE8B-2AA7B32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00BD-20D4-4446-B64C-CFD9EE5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8CC9A-5269-4175-A9F2-0BE98CD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AA67F-30D0-4B09-B206-418726B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644C2-F1D1-45A4-AB1D-D49C9A1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737A-F515-4E6D-BFB2-0A6A3F3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96FF8-316B-48B0-98E6-B5FD2012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C76-7F4A-44F0-9537-612DC10ECF1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74AD-68D8-4CF3-B14D-BC973F48F1EC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BC24-0B3E-4110-BA9A-AEB20B19D472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07E5-E2B7-4EA2-A690-8AC45DDAD22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C81E-B8D2-411C-AAB9-ABBD3A16E9E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2D51-A78D-43FD-A243-35C19478921F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712A-16A7-4DD4-BA5A-8B9580CC5724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774-B262-477B-83FC-524717950F5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Propiedad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6 Rectángulo"/>
          <p:cNvSpPr/>
          <p:nvPr/>
        </p:nvSpPr>
        <p:spPr>
          <a:xfrm>
            <a:off x="2937600" y="230508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3 CuadroTexto"/>
          <p:cNvSpPr/>
          <p:nvPr/>
        </p:nvSpPr>
        <p:spPr>
          <a:xfrm>
            <a:off x="510840" y="287640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513720" y="3357720"/>
            <a:ext cx="23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1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g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 CuadroTexto"/>
          <p:cNvSpPr/>
          <p:nvPr/>
        </p:nvSpPr>
        <p:spPr>
          <a:xfrm>
            <a:off x="615240" y="394812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0 Flecha derecha"/>
          <p:cNvSpPr/>
          <p:nvPr/>
        </p:nvSpPr>
        <p:spPr>
          <a:xfrm>
            <a:off x="3348000" y="3959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 CuadroTexto"/>
          <p:cNvSpPr/>
          <p:nvPr/>
        </p:nvSpPr>
        <p:spPr>
          <a:xfrm>
            <a:off x="3928320" y="394812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13 Rectángulo"/>
          <p:cNvSpPr/>
          <p:nvPr/>
        </p:nvSpPr>
        <p:spPr>
          <a:xfrm>
            <a:off x="6088680" y="394812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4 Flecha derecha"/>
          <p:cNvSpPr/>
          <p:nvPr/>
        </p:nvSpPr>
        <p:spPr>
          <a:xfrm>
            <a:off x="3357720" y="4572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393624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6 Rectángulo"/>
          <p:cNvSpPr/>
          <p:nvPr/>
        </p:nvSpPr>
        <p:spPr>
          <a:xfrm>
            <a:off x="5175360" y="4572000"/>
            <a:ext cx="204948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CuadroTexto"/>
          <p:cNvSpPr/>
          <p:nvPr/>
        </p:nvSpPr>
        <p:spPr>
          <a:xfrm>
            <a:off x="518040" y="528624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emisores sel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 CuadroTexto"/>
          <p:cNvSpPr/>
          <p:nvPr/>
        </p:nvSpPr>
        <p:spPr>
          <a:xfrm>
            <a:off x="554400" y="573408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9 Flecha derecha"/>
          <p:cNvSpPr/>
          <p:nvPr/>
        </p:nvSpPr>
        <p:spPr>
          <a:xfrm>
            <a:off x="3357720" y="5764320"/>
            <a:ext cx="35712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3 CuadroTexto"/>
          <p:cNvSpPr/>
          <p:nvPr/>
        </p:nvSpPr>
        <p:spPr>
          <a:xfrm>
            <a:off x="3938040" y="575136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21 Rectángulo"/>
          <p:cNvSpPr/>
          <p:nvPr/>
        </p:nvSpPr>
        <p:spPr>
          <a:xfrm>
            <a:off x="6103080" y="575136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2 Flecha derecha"/>
          <p:cNvSpPr/>
          <p:nvPr/>
        </p:nvSpPr>
        <p:spPr>
          <a:xfrm>
            <a:off x="3367080" y="63770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3945960" y="6377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4 Rectángulo"/>
          <p:cNvSpPr/>
          <p:nvPr/>
        </p:nvSpPr>
        <p:spPr>
          <a:xfrm>
            <a:off x="5200200" y="6377040"/>
            <a:ext cx="2316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 (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6 Rectángulo"/>
          <p:cNvSpPr/>
          <p:nvPr/>
        </p:nvSpPr>
        <p:spPr>
          <a:xfrm>
            <a:off x="2937600" y="223344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CuadroTexto"/>
          <p:cNvSpPr/>
          <p:nvPr/>
        </p:nvSpPr>
        <p:spPr>
          <a:xfrm>
            <a:off x="510840" y="294804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15520" y="335772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3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negro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 CuadroTexto"/>
          <p:cNvSpPr/>
          <p:nvPr/>
        </p:nvSpPr>
        <p:spPr>
          <a:xfrm>
            <a:off x="536760" y="394812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→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0 Flecha derecha"/>
          <p:cNvSpPr/>
          <p:nvPr/>
        </p:nvSpPr>
        <p:spPr>
          <a:xfrm>
            <a:off x="2000160" y="41432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2511720" y="4091040"/>
            <a:ext cx="45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 la radiación absorbida por el plano o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536760" y="430524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→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 CuadroTexto"/>
          <p:cNvSpPr/>
          <p:nvPr/>
        </p:nvSpPr>
        <p:spPr>
          <a:xfrm>
            <a:off x="2536560" y="4448160"/>
            <a:ext cx="172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, si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2704320" y="4876920"/>
            <a:ext cx="29696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→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–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→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4948560" y="2500200"/>
            <a:ext cx="33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son grises no toda l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nte es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4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5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7 Conector recto"/>
          <p:cNvSpPr/>
          <p:nvPr/>
        </p:nvSpPr>
        <p:spPr>
          <a:xfrm flipH="1">
            <a:off x="1428480" y="25711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18 Conector recto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9 Conector recto"/>
          <p:cNvSpPr/>
          <p:nvPr/>
        </p:nvSpPr>
        <p:spPr>
          <a:xfrm flipH="1">
            <a:off x="1428480" y="29995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0 Conector recto"/>
          <p:cNvSpPr/>
          <p:nvPr/>
        </p:nvSpPr>
        <p:spPr>
          <a:xfrm flipH="1">
            <a:off x="1428480" y="32140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21 Conector recto"/>
          <p:cNvSpPr/>
          <p:nvPr/>
        </p:nvSpPr>
        <p:spPr>
          <a:xfrm flipH="1">
            <a:off x="1428480" y="3428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22 Conector recto"/>
          <p:cNvSpPr/>
          <p:nvPr/>
        </p:nvSpPr>
        <p:spPr>
          <a:xfrm flipH="1">
            <a:off x="1428480" y="36424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23 Conector recto"/>
          <p:cNvSpPr/>
          <p:nvPr/>
        </p:nvSpPr>
        <p:spPr>
          <a:xfrm flipH="1">
            <a:off x="1428480" y="38570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24 Conector recto"/>
          <p:cNvSpPr/>
          <p:nvPr/>
        </p:nvSpPr>
        <p:spPr>
          <a:xfrm flipH="1">
            <a:off x="1428480" y="40712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25 Conector recto"/>
          <p:cNvSpPr/>
          <p:nvPr/>
        </p:nvSpPr>
        <p:spPr>
          <a:xfrm flipH="1">
            <a:off x="1428480" y="42854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26 Conector recto"/>
          <p:cNvSpPr/>
          <p:nvPr/>
        </p:nvSpPr>
        <p:spPr>
          <a:xfrm flipH="1">
            <a:off x="1428480" y="4500720"/>
            <a:ext cx="21420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28 Conector recto"/>
          <p:cNvSpPr/>
          <p:nvPr/>
        </p:nvSpPr>
        <p:spPr>
          <a:xfrm flipH="1" flipV="1">
            <a:off x="3786120" y="25714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2 Conector recto"/>
          <p:cNvSpPr/>
          <p:nvPr/>
        </p:nvSpPr>
        <p:spPr>
          <a:xfrm flipH="1" flipV="1">
            <a:off x="3786120" y="27856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3 Conector recto"/>
          <p:cNvSpPr/>
          <p:nvPr/>
        </p:nvSpPr>
        <p:spPr>
          <a:xfrm flipH="1" flipV="1">
            <a:off x="3786120" y="29998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4 Conector recto"/>
          <p:cNvSpPr/>
          <p:nvPr/>
        </p:nvSpPr>
        <p:spPr>
          <a:xfrm flipH="1" flipV="1">
            <a:off x="3786120" y="32144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35 Conector recto"/>
          <p:cNvSpPr/>
          <p:nvPr/>
        </p:nvSpPr>
        <p:spPr>
          <a:xfrm flipH="1" flipV="1">
            <a:off x="3786120" y="34286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36 Conector recto"/>
          <p:cNvSpPr/>
          <p:nvPr/>
        </p:nvSpPr>
        <p:spPr>
          <a:xfrm flipH="1" flipV="1">
            <a:off x="3786120" y="36428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7 Conector recto"/>
          <p:cNvSpPr/>
          <p:nvPr/>
        </p:nvSpPr>
        <p:spPr>
          <a:xfrm flipH="1" flipV="1">
            <a:off x="3786120" y="38574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8 Conector recto"/>
          <p:cNvSpPr/>
          <p:nvPr/>
        </p:nvSpPr>
        <p:spPr>
          <a:xfrm flipH="1" flipV="1">
            <a:off x="3786120" y="40716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9 Conector recto"/>
          <p:cNvSpPr/>
          <p:nvPr/>
        </p:nvSpPr>
        <p:spPr>
          <a:xfrm flipH="1" flipV="1">
            <a:off x="3786120" y="42858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0 Conector recto"/>
          <p:cNvSpPr/>
          <p:nvPr/>
        </p:nvSpPr>
        <p:spPr>
          <a:xfrm flipH="1" flipV="1">
            <a:off x="3786120" y="4500720"/>
            <a:ext cx="21456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4945320" y="3344760"/>
            <a:ext cx="33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amos que se cumple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Kirchhof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3 CuadroTexto"/>
          <p:cNvSpPr/>
          <p:nvPr/>
        </p:nvSpPr>
        <p:spPr>
          <a:xfrm>
            <a:off x="558720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694944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1869120" y="5702400"/>
            <a:ext cx="482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pongamos qu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l calor es emitido de izquierda a der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48 Flecha derecha"/>
          <p:cNvSpPr/>
          <p:nvPr/>
        </p:nvSpPr>
        <p:spPr>
          <a:xfrm>
            <a:off x="242892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3 CuadroTexto"/>
          <p:cNvSpPr/>
          <p:nvPr/>
        </p:nvSpPr>
        <p:spPr>
          <a:xfrm>
            <a:off x="2074680" y="38671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55d7e"/>
                </a:solidFill>
                <a:latin typeface="Arial"/>
              </a:rPr>
              <a:t>Calor de 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86400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 CuadroTexto"/>
          <p:cNvSpPr/>
          <p:nvPr/>
        </p:nvSpPr>
        <p:spPr>
          <a:xfrm>
            <a:off x="400716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28760" y="2286000"/>
          <a:ext cx="8215200" cy="4237200"/>
        </p:xfrm>
        <a:graphic>
          <a:graphicData uri="http://schemas.openxmlformats.org/drawingml/2006/table">
            <a:tbl>
              <a:tblPr/>
              <a:tblGrid>
                <a:gridCol w="2214360"/>
                <a:gridCol w="2000160"/>
                <a:gridCol w="2143440"/>
                <a:gridCol w="1857240"/>
              </a:tblGrid>
              <a:tr h="28584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1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 2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mite: Є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 baseline="30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3 CuadroTexto"/>
          <p:cNvSpPr/>
          <p:nvPr/>
        </p:nvSpPr>
        <p:spPr>
          <a:xfrm>
            <a:off x="485640" y="214308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810800" y="2696040"/>
            <a:ext cx="5001480" cy="345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→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1 +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+ (1-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.......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3 CuadroTexto"/>
          <p:cNvSpPr/>
          <p:nvPr/>
        </p:nvSpPr>
        <p:spPr>
          <a:xfrm>
            <a:off x="444960" y="3357720"/>
            <a:ext cx="28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ma de la serie geométr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2214720" y="3857760"/>
                <a:ext cx="4257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3 CuadroTexto"/>
          <p:cNvSpPr/>
          <p:nvPr/>
        </p:nvSpPr>
        <p:spPr>
          <a:xfrm>
            <a:off x="414000" y="487692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3214800" y="5429160"/>
                <a:ext cx="236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CuadroTexto"/>
          <p:cNvSpPr/>
          <p:nvPr/>
        </p:nvSpPr>
        <p:spPr>
          <a:xfrm>
            <a:off x="429840" y="2143080"/>
            <a:ext cx="549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neta desde la superficie 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 la superficie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3 CuadroTexto"/>
          <p:cNvSpPr/>
          <p:nvPr/>
        </p:nvSpPr>
        <p:spPr>
          <a:xfrm>
            <a:off x="499680" y="394812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cuerpo neg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"/>
              <p:cNvSpPr txBox="1"/>
              <p:nvPr/>
            </p:nvSpPr>
            <p:spPr>
              <a:xfrm>
                <a:off x="2367000" y="2714760"/>
                <a:ext cx="4133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6"/>
              <p:cNvSpPr txBox="1"/>
              <p:nvPr/>
            </p:nvSpPr>
            <p:spPr>
              <a:xfrm>
                <a:off x="2786040" y="4549680"/>
                <a:ext cx="3357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3 CuadroTexto"/>
          <p:cNvSpPr/>
          <p:nvPr/>
        </p:nvSpPr>
        <p:spPr>
          <a:xfrm>
            <a:off x="473760" y="523404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ultado obtenido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585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5694480" y="2649600"/>
                <a:ext cx="2173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9" name="3 CuadroTexto"/>
          <p:cNvSpPr/>
          <p:nvPr/>
        </p:nvSpPr>
        <p:spPr>
          <a:xfrm>
            <a:off x="5217840" y="2214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si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3 CuadroTexto"/>
          <p:cNvSpPr/>
          <p:nvPr/>
        </p:nvSpPr>
        <p:spPr>
          <a:xfrm>
            <a:off x="5218560" y="35496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3 CuadroTexto"/>
          <p:cNvSpPr/>
          <p:nvPr/>
        </p:nvSpPr>
        <p:spPr>
          <a:xfrm>
            <a:off x="5874120" y="394812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3 CuadroTexto"/>
          <p:cNvSpPr/>
          <p:nvPr/>
        </p:nvSpPr>
        <p:spPr>
          <a:xfrm>
            <a:off x="4860000" y="4357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929120" y="4786200"/>
                <a:ext cx="3751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4" name="3 CuadroTexto"/>
          <p:cNvSpPr/>
          <p:nvPr/>
        </p:nvSpPr>
        <p:spPr>
          <a:xfrm>
            <a:off x="4812480" y="5549760"/>
            <a:ext cx="245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6072120" y="6019920"/>
                <a:ext cx="135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617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3 CuadroTexto"/>
          <p:cNvSpPr/>
          <p:nvPr/>
        </p:nvSpPr>
        <p:spPr>
          <a:xfrm>
            <a:off x="5218560" y="21258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CuadroTexto"/>
          <p:cNvSpPr/>
          <p:nvPr/>
        </p:nvSpPr>
        <p:spPr>
          <a:xfrm>
            <a:off x="5874120" y="252396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860360" y="2933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5237280" y="3357720"/>
                <a:ext cx="312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4" name="3 CuadroTexto"/>
          <p:cNvSpPr/>
          <p:nvPr/>
        </p:nvSpPr>
        <p:spPr>
          <a:xfrm>
            <a:off x="4763160" y="4264200"/>
            <a:ext cx="280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6286680" y="4667400"/>
                <a:ext cx="995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6" name="3 CuadroTexto"/>
          <p:cNvSpPr/>
          <p:nvPr/>
        </p:nvSpPr>
        <p:spPr>
          <a:xfrm>
            <a:off x="4791600" y="5357880"/>
            <a:ext cx="36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escudos de radiació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stas condiciones obtenem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6159600" y="5952960"/>
                <a:ext cx="1260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érdida de Calor de una Person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14 CuadroTexto"/>
          <p:cNvSpPr/>
          <p:nvPr/>
        </p:nvSpPr>
        <p:spPr>
          <a:xfrm>
            <a:off x="398880" y="1714680"/>
            <a:ext cx="83509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a persona que está parada en un cuarto con brisa a 20 °C. Determin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velocidad total de transferencia de calor desde esta persona, si el áre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xpuesta y la temperatura promedio de la superficie exterior de ella son 1,6 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y 29 °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respectivamente, y el coeficiente de transferencia de calor por convección es de 6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962440" cy="3143520"/>
          </a:xfrm>
          <a:prstGeom prst="rect">
            <a:avLst/>
          </a:prstGeom>
          <a:ln w="0">
            <a:noFill/>
          </a:ln>
        </p:spPr>
      </p:pic>
      <p:sp>
        <p:nvSpPr>
          <p:cNvPr id="631" name="16 CuadroTexto"/>
          <p:cNvSpPr/>
          <p:nvPr/>
        </p:nvSpPr>
        <p:spPr>
          <a:xfrm>
            <a:off x="687600" y="3143160"/>
            <a:ext cx="1023480" cy="52020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b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17 CuadroTexto"/>
          <p:cNvSpPr/>
          <p:nvPr/>
        </p:nvSpPr>
        <p:spPr>
          <a:xfrm>
            <a:off x="616680" y="6192720"/>
            <a:ext cx="26236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 la persona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8 CuadroTexto"/>
          <p:cNvSpPr/>
          <p:nvPr/>
        </p:nvSpPr>
        <p:spPr>
          <a:xfrm>
            <a:off x="5386320" y="3286080"/>
            <a:ext cx="14623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86,4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9 CuadroTexto"/>
          <p:cNvSpPr/>
          <p:nvPr/>
        </p:nvSpPr>
        <p:spPr>
          <a:xfrm>
            <a:off x="5450760" y="3805200"/>
            <a:ext cx="132660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81,7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0 CuadroTexto"/>
          <p:cNvSpPr/>
          <p:nvPr/>
        </p:nvSpPr>
        <p:spPr>
          <a:xfrm>
            <a:off x="5385960" y="4448160"/>
            <a:ext cx="14900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168,1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Temperatura de la Superficie de una Alambre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7" name="14 CuadroTexto"/>
          <p:cNvSpPr/>
          <p:nvPr/>
        </p:nvSpPr>
        <p:spPr>
          <a:xfrm>
            <a:off x="441360" y="1714680"/>
            <a:ext cx="8228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 alambre a través del cual circula una corriente tal que la potencia gene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s igual a 10 W (dimensiones del alambre: 5 cm de largo y 0,5 cm de diámet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Sabiendo que se encuentra en un ambiente cuya temperatura es igual a 20 °C, siendo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eficiente de convección del aire igual a 10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, determine la temperatur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l alamb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7 CuadroTexto"/>
          <p:cNvSpPr/>
          <p:nvPr/>
        </p:nvSpPr>
        <p:spPr>
          <a:xfrm>
            <a:off x="617040" y="6192720"/>
            <a:ext cx="22564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l cable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8 CuadroTexto"/>
          <p:cNvSpPr/>
          <p:nvPr/>
        </p:nvSpPr>
        <p:spPr>
          <a:xfrm>
            <a:off x="3895560" y="3429000"/>
            <a:ext cx="13496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2,8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9 CuadroTexto"/>
          <p:cNvSpPr/>
          <p:nvPr/>
        </p:nvSpPr>
        <p:spPr>
          <a:xfrm>
            <a:off x="3959640" y="3929040"/>
            <a:ext cx="12139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7,2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20 CuadroTexto"/>
          <p:cNvSpPr/>
          <p:nvPr/>
        </p:nvSpPr>
        <p:spPr>
          <a:xfrm>
            <a:off x="3885120" y="4591080"/>
            <a:ext cx="13831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ab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377 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Emisividad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CuadroTexto"/>
          <p:cNvSpPr/>
          <p:nvPr/>
        </p:nvSpPr>
        <p:spPr>
          <a:xfrm>
            <a:off x="621360" y="17334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UERP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1 CuadroTexto"/>
          <p:cNvSpPr/>
          <p:nvPr/>
        </p:nvSpPr>
        <p:spPr>
          <a:xfrm>
            <a:off x="630720" y="198756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te menos que cuerpo negro a la misma temperatura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definimos un nuevo concep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5 CuadroTexto"/>
          <p:cNvSpPr/>
          <p:nvPr/>
        </p:nvSpPr>
        <p:spPr>
          <a:xfrm>
            <a:off x="4913640" y="25718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1"/>
              <p:cNvSpPr txBox="1"/>
              <p:nvPr/>
            </p:nvSpPr>
            <p:spPr>
              <a:xfrm>
                <a:off x="5214960" y="3000240"/>
                <a:ext cx="738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11 CuadroTexto"/>
          <p:cNvSpPr/>
          <p:nvPr/>
        </p:nvSpPr>
        <p:spPr>
          <a:xfrm>
            <a:off x="3711240" y="3763800"/>
            <a:ext cx="38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mbién definible para cada longitud de o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3"/>
              <p:cNvSpPr txBox="1"/>
              <p:nvPr/>
            </p:nvSpPr>
            <p:spPr>
              <a:xfrm>
                <a:off x="5205240" y="4145040"/>
                <a:ext cx="866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11 CuadroTexto"/>
          <p:cNvSpPr/>
          <p:nvPr/>
        </p:nvSpPr>
        <p:spPr>
          <a:xfrm>
            <a:off x="509400" y="507204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s características físicas y químicas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total de calor emitido s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25 CuadroTexto"/>
          <p:cNvSpPr/>
          <p:nvPr/>
        </p:nvSpPr>
        <p:spPr>
          <a:xfrm>
            <a:off x="3818520" y="59166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transfiere la energía por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8 Rectángulo redondeado"/>
          <p:cNvSpPr/>
          <p:nvPr/>
        </p:nvSpPr>
        <p:spPr>
          <a:xfrm>
            <a:off x="285840" y="1714680"/>
            <a:ext cx="8358120" cy="16430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CuadroTexto"/>
          <p:cNvSpPr/>
          <p:nvPr/>
        </p:nvSpPr>
        <p:spPr>
          <a:xfrm>
            <a:off x="412920" y="1830240"/>
            <a:ext cx="817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nergía térmica de un cuerpo caliente (fuente a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es convertida en radiación electromagn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y emitida por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viajan a través del medio (fluido o vacío) en línea recta e impactan sobre la superficie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 cuerpo fr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incidentes son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absorb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transmit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y/o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refleja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La fracción de energía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 el cuerpo se convierte en c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3" descr=""/>
          <p:cNvPicPr/>
          <p:nvPr/>
        </p:nvPicPr>
        <p:blipFill>
          <a:blip r:embed="rId1"/>
          <a:stretch/>
        </p:blipFill>
        <p:spPr>
          <a:xfrm>
            <a:off x="428760" y="2836800"/>
            <a:ext cx="6605280" cy="3878280"/>
          </a:xfrm>
          <a:prstGeom prst="rect">
            <a:avLst/>
          </a:prstGeom>
          <a:ln w="19080">
            <a:solidFill>
              <a:srgbClr val="355d7e"/>
            </a:solidFill>
            <a:miter/>
          </a:ln>
        </p:spPr>
      </p:pic>
      <p:sp>
        <p:nvSpPr>
          <p:cNvPr id="382" name="75 Rectángulo"/>
          <p:cNvSpPr/>
          <p:nvPr/>
        </p:nvSpPr>
        <p:spPr>
          <a:xfrm>
            <a:off x="6715080" y="5357880"/>
            <a:ext cx="2286000" cy="1000080"/>
          </a:xfrm>
          <a:prstGeom prst="rect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76 CuadroTexto"/>
          <p:cNvSpPr/>
          <p:nvPr/>
        </p:nvSpPr>
        <p:spPr>
          <a:xfrm>
            <a:off x="6798960" y="5429160"/>
            <a:ext cx="214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transmi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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99320" y="171468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n general solamente consideraremo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absorción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y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reflexión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(cuerpos opac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3786120" y="257184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1 CuadroTexto"/>
          <p:cNvSpPr/>
          <p:nvPr/>
        </p:nvSpPr>
        <p:spPr>
          <a:xfrm>
            <a:off x="500040" y="214776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1 CuadroTexto"/>
          <p:cNvSpPr/>
          <p:nvPr/>
        </p:nvSpPr>
        <p:spPr>
          <a:xfrm>
            <a:off x="485280" y="3273480"/>
            <a:ext cx="81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absorción y la reflexión dependen de las temperaturas de los cuerpos que interactú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longitud de onda más específica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2814480" y="4286160"/>
                <a:ext cx="3043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11 CuadroTexto"/>
          <p:cNvSpPr/>
          <p:nvPr/>
        </p:nvSpPr>
        <p:spPr>
          <a:xfrm>
            <a:off x="476280" y="5027760"/>
            <a:ext cx="3763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abso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e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1 CuadroTexto"/>
          <p:cNvSpPr/>
          <p:nvPr/>
        </p:nvSpPr>
        <p:spPr>
          <a:xfrm>
            <a:off x="1038600" y="594828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A partir de estas propiedade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¿cómo definiría usted un cuerpo neg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 rot="2988000">
            <a:off x="985680" y="3824280"/>
            <a:ext cx="5049720" cy="9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19 Conector recto de flecha"/>
          <p:cNvCxnSpPr/>
          <p:nvPr/>
        </p:nvCxnSpPr>
        <p:spPr>
          <a:xfrm>
            <a:off x="3714840" y="1856880"/>
            <a:ext cx="72000" cy="20012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98" name="22 Conector recto de flecha"/>
          <p:cNvCxnSpPr/>
          <p:nvPr/>
        </p:nvCxnSpPr>
        <p:spPr>
          <a:xfrm>
            <a:off x="3857400" y="3857760"/>
            <a:ext cx="1143720" cy="2160"/>
          </a:xfrm>
          <a:prstGeom prst="straightConnector1">
            <a:avLst/>
          </a:prstGeom>
          <a:ln w="38160">
            <a:solidFill>
              <a:srgbClr val="558bb8"/>
            </a:solidFill>
            <a:miter/>
            <a:tailEnd len="med" type="triangle" w="med"/>
          </a:ln>
        </p:spPr>
      </p:cxnSp>
      <p:cxnSp>
        <p:nvCxnSpPr>
          <p:cNvPr id="399" name="29 Conector recto de flecha"/>
          <p:cNvCxnSpPr/>
          <p:nvPr/>
        </p:nvCxnSpPr>
        <p:spPr>
          <a:xfrm flipH="1">
            <a:off x="3642480" y="3928680"/>
            <a:ext cx="1436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32 Conector recto de flecha"/>
          <p:cNvCxnSpPr/>
          <p:nvPr/>
        </p:nvCxnSpPr>
        <p:spPr>
          <a:xfrm>
            <a:off x="3714840" y="4714920"/>
            <a:ext cx="1715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38 CuadroTexto"/>
          <p:cNvSpPr/>
          <p:nvPr/>
        </p:nvSpPr>
        <p:spPr>
          <a:xfrm>
            <a:off x="3805560" y="185724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00  (energía incid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9 CuadroTexto"/>
          <p:cNvSpPr/>
          <p:nvPr/>
        </p:nvSpPr>
        <p:spPr>
          <a:xfrm>
            <a:off x="5091480" y="366228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0  (energía reflej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0 CuadroTexto"/>
          <p:cNvSpPr/>
          <p:nvPr/>
        </p:nvSpPr>
        <p:spPr>
          <a:xfrm>
            <a:off x="5528520" y="45194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0  (energía absorbida/emit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3 CuadroTexto"/>
          <p:cNvSpPr/>
          <p:nvPr/>
        </p:nvSpPr>
        <p:spPr>
          <a:xfrm>
            <a:off x="3680280" y="22860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3 CuadroTexto"/>
          <p:cNvSpPr/>
          <p:nvPr/>
        </p:nvSpPr>
        <p:spPr>
          <a:xfrm>
            <a:off x="358560" y="1714680"/>
            <a:ext cx="828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íamos que la expresión general para calcular el calor radiativo en cualquier cuerpo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Rectángulo"/>
          <p:cNvSpPr/>
          <p:nvPr/>
        </p:nvSpPr>
        <p:spPr>
          <a:xfrm>
            <a:off x="3786120" y="321480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500040" y="281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además estableci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396720" y="4000680"/>
            <a:ext cx="8142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stablezcamos lo siguiente: supongamos que tenemos dos cuerpo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1 y C2 de áreas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a temperatura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 un medio calient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is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orma libre"/>
          <p:cNvSpPr/>
          <p:nvPr/>
        </p:nvSpPr>
        <p:spPr>
          <a:xfrm>
            <a:off x="2357280" y="455940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0 Forma libre"/>
          <p:cNvSpPr/>
          <p:nvPr/>
        </p:nvSpPr>
        <p:spPr>
          <a:xfrm>
            <a:off x="3143160" y="5857920"/>
            <a:ext cx="69876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1 Forma libre"/>
          <p:cNvSpPr/>
          <p:nvPr/>
        </p:nvSpPr>
        <p:spPr>
          <a:xfrm>
            <a:off x="5016600" y="5214960"/>
            <a:ext cx="69840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3273840" y="60008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5147280" y="5345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4 Conector recto de flecha"/>
          <p:cNvCxnSpPr/>
          <p:nvPr/>
        </p:nvCxnSpPr>
        <p:spPr>
          <a:xfrm flipV="1">
            <a:off x="3857760" y="5928840"/>
            <a:ext cx="429120" cy="2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16 Conector recto de flecha"/>
          <p:cNvCxnSpPr/>
          <p:nvPr/>
        </p:nvCxnSpPr>
        <p:spPr>
          <a:xfrm flipH="1">
            <a:off x="4571280" y="5642640"/>
            <a:ext cx="4294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12 CuadroTexto"/>
          <p:cNvSpPr/>
          <p:nvPr/>
        </p:nvSpPr>
        <p:spPr>
          <a:xfrm>
            <a:off x="3942720" y="60721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4723560" y="57150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21 Conector recto de flecha"/>
          <p:cNvCxnSpPr/>
          <p:nvPr/>
        </p:nvCxnSpPr>
        <p:spPr>
          <a:xfrm flipH="1">
            <a:off x="3714120" y="5285880"/>
            <a:ext cx="1436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3 Conector recto de flecha"/>
          <p:cNvCxnSpPr/>
          <p:nvPr/>
        </p:nvCxnSpPr>
        <p:spPr>
          <a:xfrm>
            <a:off x="4499640" y="5143680"/>
            <a:ext cx="28620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12 CuadroTexto"/>
          <p:cNvSpPr/>
          <p:nvPr/>
        </p:nvSpPr>
        <p:spPr>
          <a:xfrm>
            <a:off x="3539160" y="5214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4610520" y="500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3 CuadroTexto"/>
          <p:cNvSpPr/>
          <p:nvPr/>
        </p:nvSpPr>
        <p:spPr>
          <a:xfrm>
            <a:off x="369720" y="17146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3 CuadroTexto"/>
          <p:cNvSpPr/>
          <p:nvPr/>
        </p:nvSpPr>
        <p:spPr>
          <a:xfrm>
            <a:off x="348480" y="216216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1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CuadroTexto"/>
          <p:cNvSpPr/>
          <p:nvPr/>
        </p:nvSpPr>
        <p:spPr>
          <a:xfrm>
            <a:off x="348480" y="257184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2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329400" y="31431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1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29400" y="35193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2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3 CuadroTexto"/>
          <p:cNvSpPr/>
          <p:nvPr/>
        </p:nvSpPr>
        <p:spPr>
          <a:xfrm>
            <a:off x="320040" y="4071960"/>
            <a:ext cx="345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3861360" y="4071960"/>
            <a:ext cx="49705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 recibido = Calor absorbido – Calor emi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5321520" y="457200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CuadroTexto"/>
          <p:cNvSpPr/>
          <p:nvPr/>
        </p:nvSpPr>
        <p:spPr>
          <a:xfrm>
            <a:off x="5341320" y="505296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174240" y="6000840"/>
            <a:ext cx="54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n estado estacionario (isotérmico): T =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3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6 Flecha derecha"/>
          <p:cNvSpPr/>
          <p:nvPr/>
        </p:nvSpPr>
        <p:spPr>
          <a:xfrm>
            <a:off x="571500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6235920" y="5786280"/>
            <a:ext cx="98532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CuadroTexto"/>
          <p:cNvSpPr/>
          <p:nvPr/>
        </p:nvSpPr>
        <p:spPr>
          <a:xfrm>
            <a:off x="6234480" y="6234120"/>
            <a:ext cx="10310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’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9 Flecha derecha"/>
          <p:cNvSpPr/>
          <p:nvPr/>
        </p:nvSpPr>
        <p:spPr>
          <a:xfrm>
            <a:off x="742968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"/>
              <p:cNvSpPr txBox="1"/>
              <p:nvPr/>
            </p:nvSpPr>
            <p:spPr>
              <a:xfrm>
                <a:off x="7929720" y="5786280"/>
                <a:ext cx="985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384120" y="171468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ahora incorporamos un cuerpo negro a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CuadroTexto"/>
          <p:cNvSpPr/>
          <p:nvPr/>
        </p:nvSpPr>
        <p:spPr>
          <a:xfrm>
            <a:off x="3477600" y="225108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3496680" y="273384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3500280" y="3938760"/>
                <a:ext cx="1792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3 CuadroTexto"/>
          <p:cNvSpPr/>
          <p:nvPr/>
        </p:nvSpPr>
        <p:spPr>
          <a:xfrm>
            <a:off x="3525840" y="3214800"/>
            <a:ext cx="180180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1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1 Flecha derecha"/>
          <p:cNvSpPr/>
          <p:nvPr/>
        </p:nvSpPr>
        <p:spPr>
          <a:xfrm>
            <a:off x="271476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3500280" y="4786200"/>
                <a:ext cx="183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3" name="24 Flecha derecha"/>
          <p:cNvSpPr/>
          <p:nvPr/>
        </p:nvSpPr>
        <p:spPr>
          <a:xfrm>
            <a:off x="271476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3 CuadroTexto"/>
          <p:cNvSpPr/>
          <p:nvPr/>
        </p:nvSpPr>
        <p:spPr>
          <a:xfrm>
            <a:off x="3776040" y="5519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6 Flecha derecha"/>
          <p:cNvSpPr/>
          <p:nvPr/>
        </p:nvSpPr>
        <p:spPr>
          <a:xfrm>
            <a:off x="271476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3500280" y="6000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7" name="28 Rectángulo"/>
          <p:cNvSpPr/>
          <p:nvPr/>
        </p:nvSpPr>
        <p:spPr>
          <a:xfrm>
            <a:off x="571680" y="6448320"/>
            <a:ext cx="78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70c0"/>
                </a:solidFill>
                <a:latin typeface="Arial"/>
              </a:rPr>
              <a:t>En situación isotérmica la emisividad es igual a la absorb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3 CuadroTexto"/>
          <p:cNvSpPr/>
          <p:nvPr/>
        </p:nvSpPr>
        <p:spPr>
          <a:xfrm>
            <a:off x="377280" y="1714680"/>
            <a:ext cx="39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ahora el siguiente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7 Forma libre"/>
          <p:cNvSpPr/>
          <p:nvPr/>
        </p:nvSpPr>
        <p:spPr>
          <a:xfrm>
            <a:off x="2178000" y="205884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8 Forma libre"/>
          <p:cNvSpPr/>
          <p:nvPr/>
        </p:nvSpPr>
        <p:spPr>
          <a:xfrm>
            <a:off x="3000240" y="3143160"/>
            <a:ext cx="1000440" cy="78588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2 CuadroTexto"/>
          <p:cNvSpPr/>
          <p:nvPr/>
        </p:nvSpPr>
        <p:spPr>
          <a:xfrm>
            <a:off x="310140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2 CuadroTexto"/>
          <p:cNvSpPr/>
          <p:nvPr/>
        </p:nvSpPr>
        <p:spPr>
          <a:xfrm>
            <a:off x="4944240" y="2428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2 CuadroTexto"/>
          <p:cNvSpPr/>
          <p:nvPr/>
        </p:nvSpPr>
        <p:spPr>
          <a:xfrm>
            <a:off x="3448800" y="3344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373680" y="43768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 CuadroTexto"/>
          <p:cNvSpPr/>
          <p:nvPr/>
        </p:nvSpPr>
        <p:spPr>
          <a:xfrm>
            <a:off x="345960" y="4692600"/>
            <a:ext cx="607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Importante que sea un cuerpo muy pequeño para que no afecte el med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 CuadroTexto"/>
          <p:cNvSpPr/>
          <p:nvPr/>
        </p:nvSpPr>
        <p:spPr>
          <a:xfrm>
            <a:off x="373680" y="516240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recibido por el cuerpo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769680" y="5805360"/>
            <a:ext cx="74761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 = calor irradiado desde el medio que es absorbido – calor emitido por cuerp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5:22:02Z</dcterms:modified>
  <cp:revision>104</cp:revision>
  <dc:subject/>
  <dc:title>Unidad 1:  Transferencia de calor</dc:title>
</cp:coreProperties>
</file>