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E4C4-9413-44CB-8804-FC02180351D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DE8E-1F99-44C7-99FA-459DF1C0B35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F707-9636-454C-8DFE-A098DD42799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4D5E-0535-424A-A0A5-AA83354146C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A048-26A8-47C8-AACB-A3A2E085169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6E3A-F04A-430F-BA91-EA4CB09FC13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E522-FA66-4F7F-8DFE-1147663B624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3511-226A-4E99-BFD7-383D6324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898-2FA8-4221-9CA0-B4BEB55F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71B2-7712-45EC-8350-71D85B5B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A40-7A95-469D-AABB-ED30C704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D590-DA79-4829-8B30-957F0C2D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A9CE-D49C-42E3-B76B-E781DCAC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6EF9-DBBD-4B68-B1A1-FC087CD0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74E0-ED0A-47B4-B5CB-7806412C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4952-BC73-4E86-8294-EAEC1555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7F63-0BA0-4FB4-B7B8-49DEFEC0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23E5-D78F-4D8C-B44A-4372D351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C625-9E96-4926-B0A9-259E079A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03F5-902A-45DD-8F06-656FBE84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0F30-44B4-4F17-8850-E53438C8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0096-E008-4FA0-988E-E962482B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F015-66F4-42CB-BF52-63CF0867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17C5-DD49-4B4A-A492-E7096F53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A47D7-2B57-4085-B403-F9BA8FD2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001AE-C6EB-440C-A7AB-15E0CD6D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27F0A7-9CDA-4FAB-81AC-845B7D8C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63EAB-5C41-4721-BE49-F3C5748C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E0B50D-65E7-4B7F-B0FA-4D8D008A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63F-F8A7-41C4-B0E1-1EC87C4E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63057B-F7EF-49C2-A76D-3D84F43B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153F9-4F5B-4598-A0B8-001F272E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5EDBD-6555-46FD-AC8A-2DF8E3CA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FAA72-ACA8-4A60-81B5-E1A1B377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72952-56E4-4439-BFA6-8899F5C6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AC63A-BF74-4919-815B-C3EB579E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EC803-E51C-42A9-8218-E022039F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D76F0D-4FC3-4C2E-8DF5-A54F7272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D8D40F-54AE-4831-AADA-BEEFA066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1F5A06-ADE0-4DC8-BB47-2FDFC825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1C08-5627-46B0-8B21-C0994E7C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CEA41A-5C46-4FB5-9BAC-EA75F434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610797-20A7-48FC-BA74-A63DDF19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DFB7E7-9A50-4B9C-AA6A-C777B1AB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F84454-F816-40E0-8665-6513BA88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BD52A1-AD1C-4971-BECF-89CD2FF2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F23EB5-8BE1-4C53-9A39-5CBC3EC7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E97F7F-0F33-427B-AF5E-44EC16EE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05DC38-6143-4390-B03B-8C39D644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D06F89-04DD-4714-9BBA-E721A1BF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7EAB54-54CC-4125-9110-F8956C39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06D-07AA-45BD-9C09-4D7F97A6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3D0993-D7E1-454E-A3FA-BE9C7E39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ECAB31-19AB-4A83-93E6-C398D97C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418C11-CDF1-4CDD-927F-16705EBD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2DDB8-8ECC-4B0F-80E8-D85A7FD9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13A9FD-CBCD-40AC-9197-B8A2F1AA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2E1BB7-311B-4852-9AB8-B7414A06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EBFA88-FA04-4AF3-88E4-A190572F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52CF5B-040E-4357-8462-59ADAAF9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653868-BC1D-4851-B34A-FC351FE8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0B2E4-D63A-4DC2-9D5E-A28F453D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75B-4B35-4B10-918D-F0ACE241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6BB7AB-2994-4ED6-A1C4-3AD7A975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E3BD6-00C6-4502-84ED-32179D99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6ECAF-1908-4443-8418-4F115DB1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F8784-61F2-4BBA-BEA0-9C2A024C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EAFA9-2483-47E4-82E6-EDAEECD2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9AB64-E9F4-4DBE-9DCF-511A79EF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830D1-0371-4365-950C-BEEEF68A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D2AC2-9835-4491-BF12-315382E8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E25C2-FFBF-433B-8AA8-46ADE4BB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78AF6-3243-49F2-AB08-D65A2775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038-7AE1-4439-B885-130AAAF8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EBFD7-079B-4C1F-8B97-00D830D2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51232-5BB8-4504-BF37-2D22A30B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2D000-173B-4618-9692-8B75C32C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E38A3B-0DA4-4A61-A498-6FD13672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52180E-8BA0-4467-84F8-32B561BA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D4B15B-02A8-4CD8-876D-8CC6647D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F30556-C6C4-4851-958C-E3740676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7D9B87-E63B-4D80-90A1-B6A2D3C3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D4C30C-44DB-49C8-AB8A-85AA18AF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6E8FC0-0947-47B2-BC2D-C92D1422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04AD-7164-494C-ABC0-893D65AA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13D24C-239F-440E-AC1C-44197A10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77A8A5-643D-46E7-B41B-3533A684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36DECA-95E1-4F7D-A2EE-B212F05A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C82E3E-DA07-4AC1-A036-41AB86F9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CD81C9-12CD-48A1-83CE-73BF2A6E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4E47F-DF92-456B-8784-CACC3910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BC83C-552C-4B4E-8E82-FEFF92D5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DD2AB-1EC7-4C81-8BFB-B4FE7E3B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2D0D2-9B18-4EEB-B78A-CD558948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743C0-6420-43FE-AFB7-EDADDA04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13FC-29FD-4231-AA5B-1B751B2C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D8B27-CCCE-473B-BEC6-7D248F50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897FC-FCB4-42BC-B0E0-6F1DF8B3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D2478-48D5-4479-8D82-E116C86D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6B6C6-62E3-455E-8467-29F54D99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36B09-73E6-4B50-AF7E-6FD99396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B00D9-9EAE-4991-A870-BB7021BA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8481A-8C94-4174-B69D-CDEEE326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B605-74E2-46E4-94A2-7C756BD2F9AC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C0E2-32F7-47FB-9CD1-6A2B52A717CB}" type="slidenum">
              <a:rPr b="1" lang="es-E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661A-71ED-4888-AB1D-82DF2C36764B}" type="slidenum">
              <a:rPr b="1" lang="es-E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53B3-C17E-4295-B8AF-4E30219C1D41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CA37-CE05-419B-B746-EE92627DE993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E10B-5F50-4031-9B66-BE2BF68E9F91}" type="slidenum">
              <a:rPr b="1" lang="es-E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C2BF-B909-43AD-A103-5FFDB9D41D02}" type="slidenum">
              <a:rPr b="1" lang="es-E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BF8E-41B6-4DE6-BED8-28258B8E7300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3143160"/>
            <a:ext cx="6696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UNIDAD 1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TRANSFERENCIA DE CALOR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14272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Fenómeno de Radiación: Superficies de área finit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5 CuadroTexto"/>
          <p:cNvSpPr/>
          <p:nvPr/>
        </p:nvSpPr>
        <p:spPr>
          <a:xfrm>
            <a:off x="122040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fcfm"/>
          <p:cNvPicPr/>
          <p:nvPr/>
        </p:nvPicPr>
        <p:blipFill>
          <a:blip r:embed="rId1"/>
          <a:stretch/>
        </p:blipFill>
        <p:spPr>
          <a:xfrm>
            <a:off x="76320" y="144360"/>
            <a:ext cx="11430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Cuerpos de Área Finita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714240" y="1650960"/>
            <a:ext cx="797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asta ahora hemos considerado que toda la radiación emitida por cada cuerpo es recibida por el otro. Sin embargo, en Ingeniería los cuerpos tienen área finit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3"/>
          <p:cNvSpPr/>
          <p:nvPr/>
        </p:nvSpPr>
        <p:spPr>
          <a:xfrm>
            <a:off x="571680" y="3000240"/>
            <a:ext cx="797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Sólo una fracción de la energía irradiada por uno de los cuerpos es recibida por el o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 u="sng">
                <a:solidFill>
                  <a:srgbClr val="0070c0"/>
                </a:solidFill>
                <a:uFillTx/>
                <a:latin typeface="Arial"/>
              </a:rPr>
              <a:t>Factor de visión (o de forma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36"/>
              <p:cNvSpPr txBox="1"/>
              <p:nvPr/>
            </p:nvSpPr>
            <p:spPr>
              <a:xfrm>
                <a:off x="3103560" y="4000680"/>
                <a:ext cx="2968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Freeform 41"/>
          <p:cNvSpPr/>
          <p:nvPr/>
        </p:nvSpPr>
        <p:spPr>
          <a:xfrm rot="20616600">
            <a:off x="2433600" y="5408280"/>
            <a:ext cx="1295280" cy="1041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2"/>
          <p:cNvSpPr/>
          <p:nvPr/>
        </p:nvSpPr>
        <p:spPr>
          <a:xfrm rot="19618800">
            <a:off x="5455800" y="5365800"/>
            <a:ext cx="1254240" cy="9237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3"/>
          <p:cNvSpPr/>
          <p:nvPr/>
        </p:nvSpPr>
        <p:spPr>
          <a:xfrm flipV="1">
            <a:off x="3079800" y="5802480"/>
            <a:ext cx="3097080" cy="14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4"/>
          <p:cNvSpPr/>
          <p:nvPr/>
        </p:nvSpPr>
        <p:spPr>
          <a:xfrm flipV="1">
            <a:off x="3079800" y="5081760"/>
            <a:ext cx="288720" cy="86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5"/>
          <p:cNvSpPr/>
          <p:nvPr/>
        </p:nvSpPr>
        <p:spPr>
          <a:xfrm flipH="1" flipV="1">
            <a:off x="5456160" y="5225760"/>
            <a:ext cx="72072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46"/>
          <p:cNvSpPr/>
          <p:nvPr/>
        </p:nvSpPr>
        <p:spPr>
          <a:xfrm>
            <a:off x="3124080" y="5613480"/>
            <a:ext cx="216000" cy="420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47"/>
          <p:cNvSpPr/>
          <p:nvPr/>
        </p:nvSpPr>
        <p:spPr>
          <a:xfrm>
            <a:off x="5877000" y="5540400"/>
            <a:ext cx="135000" cy="420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4549680" y="5873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9"/>
          <p:cNvSpPr/>
          <p:nvPr/>
        </p:nvSpPr>
        <p:spPr>
          <a:xfrm>
            <a:off x="3260880" y="464328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0"/>
          <p:cNvSpPr/>
          <p:nvPr/>
        </p:nvSpPr>
        <p:spPr>
          <a:xfrm>
            <a:off x="5168880" y="479412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37"/>
              <p:cNvSpPr txBox="1"/>
              <p:nvPr/>
            </p:nvSpPr>
            <p:spPr>
              <a:xfrm>
                <a:off x="5554800" y="5369040"/>
                <a:ext cx="333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8"/>
              <p:cNvSpPr txBox="1"/>
              <p:nvPr/>
            </p:nvSpPr>
            <p:spPr>
              <a:xfrm>
                <a:off x="3308400" y="5511960"/>
                <a:ext cx="30780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4" name="Text Box 53"/>
          <p:cNvSpPr/>
          <p:nvPr/>
        </p:nvSpPr>
        <p:spPr>
          <a:xfrm>
            <a:off x="1936080" y="572940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4"/>
          <p:cNvSpPr/>
          <p:nvPr/>
        </p:nvSpPr>
        <p:spPr>
          <a:xfrm>
            <a:off x="6637320" y="5513400"/>
            <a:ext cx="54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57 Flecha abajo"/>
          <p:cNvSpPr/>
          <p:nvPr/>
        </p:nvSpPr>
        <p:spPr>
          <a:xfrm>
            <a:off x="4357800" y="2357280"/>
            <a:ext cx="357120" cy="42876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Factores de Visión entre Cuerpos Negros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554040" y="1747800"/>
            <a:ext cx="79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tiene que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6"/>
              <p:cNvSpPr txBox="1"/>
              <p:nvPr/>
            </p:nvSpPr>
            <p:spPr>
              <a:xfrm>
                <a:off x="1460520" y="2421000"/>
                <a:ext cx="61768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π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7"/>
              <p:cNvSpPr txBox="1"/>
              <p:nvPr/>
            </p:nvSpPr>
            <p:spPr>
              <a:xfrm>
                <a:off x="1476360" y="3789360"/>
                <a:ext cx="62355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π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8"/>
              <p:cNvSpPr txBox="1"/>
              <p:nvPr/>
            </p:nvSpPr>
            <p:spPr>
              <a:xfrm>
                <a:off x="2898720" y="5343480"/>
                <a:ext cx="2816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Text Box 11"/>
          <p:cNvSpPr/>
          <p:nvPr/>
        </p:nvSpPr>
        <p:spPr>
          <a:xfrm>
            <a:off x="3143160" y="598788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70c0"/>
                </a:solidFill>
                <a:latin typeface="Arial"/>
              </a:rPr>
              <a:t>relación de recipr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Configuraciones Típicas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9"/>
          <p:cNvSpPr/>
          <p:nvPr/>
        </p:nvSpPr>
        <p:spPr>
          <a:xfrm>
            <a:off x="611280" y="1521000"/>
            <a:ext cx="79786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uperficies con formas de discos, cuadrados y rectángulos, colocados en forma paralela a cierta distancia entre sí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)   Superficies con formas de discos, cuadrados y rectángulos, colocados en forma paralela a cierta distancia entre sí, pero conectados por paredes re – radiantes, adiabáticas o refractari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0"/>
          <p:cNvSpPr/>
          <p:nvPr/>
        </p:nvSpPr>
        <p:spPr>
          <a:xfrm>
            <a:off x="2305080" y="2711520"/>
            <a:ext cx="123840" cy="11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2"/>
          <p:cNvSpPr/>
          <p:nvPr/>
        </p:nvSpPr>
        <p:spPr>
          <a:xfrm>
            <a:off x="1913760" y="3087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3"/>
          <p:cNvSpPr/>
          <p:nvPr/>
        </p:nvSpPr>
        <p:spPr>
          <a:xfrm>
            <a:off x="3891960" y="3090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4"/>
          <p:cNvSpPr/>
          <p:nvPr/>
        </p:nvSpPr>
        <p:spPr>
          <a:xfrm>
            <a:off x="2449440" y="32828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5"/>
          <p:cNvSpPr/>
          <p:nvPr/>
        </p:nvSpPr>
        <p:spPr>
          <a:xfrm flipV="1">
            <a:off x="2449440" y="292536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6"/>
          <p:cNvSpPr/>
          <p:nvPr/>
        </p:nvSpPr>
        <p:spPr>
          <a:xfrm>
            <a:off x="2449440" y="3497400"/>
            <a:ext cx="122400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7"/>
          <p:cNvSpPr/>
          <p:nvPr/>
        </p:nvSpPr>
        <p:spPr>
          <a:xfrm flipV="1">
            <a:off x="2449440" y="242568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8"/>
          <p:cNvSpPr/>
          <p:nvPr/>
        </p:nvSpPr>
        <p:spPr>
          <a:xfrm>
            <a:off x="2449440" y="363996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9"/>
          <p:cNvSpPr/>
          <p:nvPr/>
        </p:nvSpPr>
        <p:spPr>
          <a:xfrm>
            <a:off x="2397240" y="5473800"/>
            <a:ext cx="161640" cy="108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44"/>
          <p:cNvSpPr/>
          <p:nvPr/>
        </p:nvSpPr>
        <p:spPr>
          <a:xfrm flipV="1">
            <a:off x="2558880" y="5473800"/>
            <a:ext cx="630360" cy="5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45"/>
          <p:cNvSpPr/>
          <p:nvPr/>
        </p:nvSpPr>
        <p:spPr>
          <a:xfrm>
            <a:off x="2558880" y="5986440"/>
            <a:ext cx="50040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9"/>
          <p:cNvSpPr/>
          <p:nvPr/>
        </p:nvSpPr>
        <p:spPr>
          <a:xfrm>
            <a:off x="2397240" y="5329080"/>
            <a:ext cx="1376280" cy="15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50"/>
          <p:cNvSpPr/>
          <p:nvPr/>
        </p:nvSpPr>
        <p:spPr>
          <a:xfrm>
            <a:off x="3189240" y="5473800"/>
            <a:ext cx="441360" cy="5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51"/>
          <p:cNvSpPr/>
          <p:nvPr/>
        </p:nvSpPr>
        <p:spPr>
          <a:xfrm flipV="1">
            <a:off x="3059280" y="5986440"/>
            <a:ext cx="57132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28"/>
              <p:cNvSpPr txBox="1"/>
              <p:nvPr/>
            </p:nvSpPr>
            <p:spPr>
              <a:xfrm>
                <a:off x="5000760" y="5788080"/>
                <a:ext cx="28065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29"/>
              <p:cNvSpPr txBox="1"/>
              <p:nvPr/>
            </p:nvSpPr>
            <p:spPr>
              <a:xfrm>
                <a:off x="5000760" y="3071880"/>
                <a:ext cx="28000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3" name="Rectangle 30"/>
          <p:cNvSpPr/>
          <p:nvPr/>
        </p:nvSpPr>
        <p:spPr>
          <a:xfrm>
            <a:off x="3714840" y="2711520"/>
            <a:ext cx="123840" cy="11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9"/>
          <p:cNvSpPr/>
          <p:nvPr/>
        </p:nvSpPr>
        <p:spPr>
          <a:xfrm>
            <a:off x="2397240" y="6558120"/>
            <a:ext cx="1376280" cy="15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3611520" y="5486400"/>
            <a:ext cx="162000" cy="108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55 Conector recto de flecha"/>
          <p:cNvCxnSpPr/>
          <p:nvPr/>
        </p:nvCxnSpPr>
        <p:spPr>
          <a:xfrm>
            <a:off x="2558520" y="5985000"/>
            <a:ext cx="100116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7" name="Text Box 32"/>
          <p:cNvSpPr/>
          <p:nvPr/>
        </p:nvSpPr>
        <p:spPr>
          <a:xfrm>
            <a:off x="2048760" y="5843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3"/>
          <p:cNvSpPr/>
          <p:nvPr/>
        </p:nvSpPr>
        <p:spPr>
          <a:xfrm>
            <a:off x="3847320" y="5846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Factor de Intercambio (Gráficos)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890640" y="1714680"/>
            <a:ext cx="396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define el </a:t>
            </a:r>
            <a:r>
              <a:rPr b="0" i="1" lang="es-ES" sz="1600" spc="-1" strike="noStrike">
                <a:solidFill>
                  <a:srgbClr val="0070c0"/>
                </a:solidFill>
                <a:latin typeface="Arial"/>
              </a:rPr>
              <a:t>factor de intercambio</a:t>
            </a: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para superficies conectadas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4"/>
              <p:cNvSpPr txBox="1"/>
              <p:nvPr/>
            </p:nvSpPr>
            <p:spPr>
              <a:xfrm>
                <a:off x="4859280" y="1730520"/>
                <a:ext cx="21416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25" name="Picture 12" descr="factor forma"/>
          <p:cNvPicPr/>
          <p:nvPr/>
        </p:nvPicPr>
        <p:blipFill>
          <a:blip r:embed="rId1"/>
          <a:stretch/>
        </p:blipFill>
        <p:spPr>
          <a:xfrm>
            <a:off x="1833480" y="2673360"/>
            <a:ext cx="5310360" cy="414036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14"/>
          <p:cNvSpPr/>
          <p:nvPr/>
        </p:nvSpPr>
        <p:spPr>
          <a:xfrm>
            <a:off x="909000" y="6378480"/>
            <a:ext cx="761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Curvas 1, 2, 3 y 4 planos no conectados (a). Curvas 5, 6, 7 y 8 planos conec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Configuraciones Típicas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428760" y="1846440"/>
            <a:ext cx="816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uación de factor de intercambio aplicable en el caso en que las áreas son convex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Se cumple también que: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5"/>
              <p:cNvSpPr txBox="1"/>
              <p:nvPr/>
            </p:nvSpPr>
            <p:spPr>
              <a:xfrm>
                <a:off x="3429000" y="2735280"/>
                <a:ext cx="19731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ba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1" name="Text Box 11"/>
          <p:cNvSpPr/>
          <p:nvPr/>
        </p:nvSpPr>
        <p:spPr>
          <a:xfrm>
            <a:off x="285840" y="3708360"/>
            <a:ext cx="801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adiación desde un plano radiante a un banco de tubos posicionados frente a una pared refractaria que absorbe la energía de los rayos que pasan entre los tubos, la re – irradia y re – irradia la energía absorbida sobre la parte trasera de los tub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357120" y="1701720"/>
            <a:ext cx="8286840" cy="1656000"/>
          </a:xfrm>
          <a:prstGeom prst="rect">
            <a:avLst/>
          </a:prstGeom>
          <a:noFill/>
          <a:ln w="2556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3"/>
          <p:cNvSpPr/>
          <p:nvPr/>
        </p:nvSpPr>
        <p:spPr>
          <a:xfrm>
            <a:off x="2817720" y="4802040"/>
            <a:ext cx="3095640" cy="36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4"/>
          <p:cNvSpPr/>
          <p:nvPr/>
        </p:nvSpPr>
        <p:spPr>
          <a:xfrm>
            <a:off x="288936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5"/>
          <p:cNvSpPr/>
          <p:nvPr/>
        </p:nvSpPr>
        <p:spPr>
          <a:xfrm>
            <a:off x="332280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6"/>
          <p:cNvSpPr/>
          <p:nvPr/>
        </p:nvSpPr>
        <p:spPr>
          <a:xfrm>
            <a:off x="375300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7"/>
          <p:cNvSpPr/>
          <p:nvPr/>
        </p:nvSpPr>
        <p:spPr>
          <a:xfrm>
            <a:off x="418608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8"/>
          <p:cNvSpPr/>
          <p:nvPr/>
        </p:nvSpPr>
        <p:spPr>
          <a:xfrm>
            <a:off x="461952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9"/>
          <p:cNvSpPr/>
          <p:nvPr/>
        </p:nvSpPr>
        <p:spPr>
          <a:xfrm>
            <a:off x="504972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20"/>
          <p:cNvSpPr/>
          <p:nvPr/>
        </p:nvSpPr>
        <p:spPr>
          <a:xfrm>
            <a:off x="548316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22"/>
          <p:cNvSpPr/>
          <p:nvPr/>
        </p:nvSpPr>
        <p:spPr>
          <a:xfrm>
            <a:off x="310500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23"/>
          <p:cNvSpPr/>
          <p:nvPr/>
        </p:nvSpPr>
        <p:spPr>
          <a:xfrm>
            <a:off x="353844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24"/>
          <p:cNvSpPr/>
          <p:nvPr/>
        </p:nvSpPr>
        <p:spPr>
          <a:xfrm>
            <a:off x="396864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25"/>
          <p:cNvSpPr/>
          <p:nvPr/>
        </p:nvSpPr>
        <p:spPr>
          <a:xfrm>
            <a:off x="440208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26"/>
          <p:cNvSpPr/>
          <p:nvPr/>
        </p:nvSpPr>
        <p:spPr>
          <a:xfrm>
            <a:off x="483228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27"/>
          <p:cNvSpPr/>
          <p:nvPr/>
        </p:nvSpPr>
        <p:spPr>
          <a:xfrm>
            <a:off x="526572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8"/>
          <p:cNvSpPr/>
          <p:nvPr/>
        </p:nvSpPr>
        <p:spPr>
          <a:xfrm flipH="1">
            <a:off x="2817720" y="6170760"/>
            <a:ext cx="30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9"/>
          <p:cNvSpPr/>
          <p:nvPr/>
        </p:nvSpPr>
        <p:spPr>
          <a:xfrm flipH="1">
            <a:off x="5986080" y="588312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30"/>
          <p:cNvSpPr/>
          <p:nvPr/>
        </p:nvSpPr>
        <p:spPr>
          <a:xfrm flipH="1">
            <a:off x="5986080" y="54514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1"/>
          <p:cNvSpPr/>
          <p:nvPr/>
        </p:nvSpPr>
        <p:spPr>
          <a:xfrm>
            <a:off x="6602040" y="52894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Segunda fi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6598800" y="572292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rimera fi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5854320" y="624348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lano rad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5953320" y="4786200"/>
            <a:ext cx="159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red refrac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Factor de Intercambio (Gráficos)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8" descr="factor forma tubos"/>
          <p:cNvPicPr/>
          <p:nvPr/>
        </p:nvPicPr>
        <p:blipFill>
          <a:blip r:embed="rId1"/>
          <a:srcRect l="0" t="1675" r="0" b="8942"/>
          <a:stretch/>
        </p:blipFill>
        <p:spPr>
          <a:xfrm>
            <a:off x="142920" y="1643040"/>
            <a:ext cx="4010040" cy="50007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20"/>
          <p:cNvSpPr/>
          <p:nvPr/>
        </p:nvSpPr>
        <p:spPr>
          <a:xfrm>
            <a:off x="3725640" y="1857240"/>
            <a:ext cx="541260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adiación absorbida por los tubos calcul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mo fracción de aquella absorbida por 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lano paralelo de área igual a la de la pared refract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situada detrás de los tub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entre Superficies Grises Finitas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6"/>
          <p:cNvSpPr/>
          <p:nvPr/>
        </p:nvSpPr>
        <p:spPr>
          <a:xfrm>
            <a:off x="122400" y="1538280"/>
            <a:ext cx="869760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este caso una fracción de la radiación recibida por cada superficie es reflej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acia la otra superfic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tonces, calor transferido ser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a el caso de dos </a:t>
            </a:r>
            <a:r>
              <a:rPr b="0" i="1" lang="es-ES" sz="1600" spc="-1" strike="noStrike">
                <a:solidFill>
                  <a:srgbClr val="0070c0"/>
                </a:solidFill>
                <a:latin typeface="Arial"/>
              </a:rPr>
              <a:t>superficies planas</a:t>
            </a: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 grise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inita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el caso de planos grises conectados por paredes re – radiantes se usa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uación anterior pero usando     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7b3d17"/>
                </a:solidFill>
                <a:latin typeface="Tahoma"/>
              </a:rPr>
              <a:t>La reflexión disminuye el flujo neto de radiación entre las superficies en relación al </a:t>
            </a:r>
            <a:r>
              <a:rPr b="0" lang="es-ES" sz="1600" spc="-1" strike="noStrike">
                <a:solidFill>
                  <a:srgbClr val="7b3d17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7b3d17"/>
                </a:solidFill>
                <a:latin typeface="Tahoma"/>
              </a:rPr>
              <a:t>caso de cuerpos neg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17"/>
              <p:cNvSpPr txBox="1"/>
              <p:nvPr/>
            </p:nvSpPr>
            <p:spPr>
              <a:xfrm>
                <a:off x="4265640" y="2290680"/>
                <a:ext cx="29494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8"/>
              <p:cNvSpPr txBox="1"/>
              <p:nvPr/>
            </p:nvSpPr>
            <p:spPr>
              <a:xfrm>
                <a:off x="2928960" y="3598920"/>
                <a:ext cx="331308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19"/>
              <p:cNvSpPr txBox="1"/>
              <p:nvPr/>
            </p:nvSpPr>
            <p:spPr>
              <a:xfrm>
                <a:off x="3975120" y="5286240"/>
                <a:ext cx="3110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El Efecto Invernader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399240" y="1643040"/>
            <a:ext cx="8429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pas gruesas de sólidos o líquidos son opacas y absorben toda la radiación que no 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flejada, sin transmitir n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lículas delgadas de la mayoría de los sólidos y líquidos absorben sólo una fracción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a radiación y el resto la transmiten (dependiendo del espesor de la película y la longit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onda de la radiació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586440" y="355932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d8047"/>
                </a:solidFill>
                <a:latin typeface="Arial"/>
              </a:rPr>
              <a:t>Láminas de vidrio ordi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8"/>
          <p:cNvSpPr/>
          <p:nvPr/>
        </p:nvSpPr>
        <p:spPr>
          <a:xfrm>
            <a:off x="3854520" y="3743280"/>
            <a:ext cx="576360" cy="0"/>
          </a:xfrm>
          <a:prstGeom prst="line">
            <a:avLst/>
          </a:prstGeom>
          <a:ln w="38160">
            <a:solidFill>
              <a:srgbClr val="dd80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4590000" y="3273480"/>
            <a:ext cx="40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600" spc="-1" strike="noStrike">
                <a:solidFill>
                  <a:srgbClr val="f7b615"/>
                </a:solidFill>
                <a:latin typeface="Arial"/>
              </a:rPr>
              <a:t>Transparent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a la radiación de longitu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onda bajas, o sea, en la zona visi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0"/>
          <p:cNvSpPr/>
          <p:nvPr/>
        </p:nvSpPr>
        <p:spPr>
          <a:xfrm>
            <a:off x="4587120" y="3916440"/>
            <a:ext cx="360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600" spc="-1" strike="noStrike">
                <a:solidFill>
                  <a:srgbClr val="f7b615"/>
                </a:solidFill>
                <a:latin typeface="Arial"/>
              </a:rPr>
              <a:t>Opac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a la radiación de longitud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nda alt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1"/>
          <p:cNvSpPr/>
          <p:nvPr/>
        </p:nvSpPr>
        <p:spPr>
          <a:xfrm rot="16200000">
            <a:off x="1560960" y="5108760"/>
            <a:ext cx="1584360" cy="2627280"/>
          </a:xfrm>
          <a:prstGeom prst="can">
            <a:avLst>
              <a:gd name="adj" fmla="val 22305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2"/>
          <p:cNvSpPr/>
          <p:nvPr/>
        </p:nvSpPr>
        <p:spPr>
          <a:xfrm>
            <a:off x="785880" y="6494400"/>
            <a:ext cx="316692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3"/>
          <p:cNvSpPr/>
          <p:nvPr/>
        </p:nvSpPr>
        <p:spPr>
          <a:xfrm>
            <a:off x="1003320" y="64944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4"/>
          <p:cNvSpPr/>
          <p:nvPr/>
        </p:nvSpPr>
        <p:spPr>
          <a:xfrm>
            <a:off x="1506600" y="5126040"/>
            <a:ext cx="431640" cy="719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5"/>
          <p:cNvSpPr/>
          <p:nvPr/>
        </p:nvSpPr>
        <p:spPr>
          <a:xfrm>
            <a:off x="1866960" y="5052960"/>
            <a:ext cx="28728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6"/>
          <p:cNvSpPr/>
          <p:nvPr/>
        </p:nvSpPr>
        <p:spPr>
          <a:xfrm>
            <a:off x="2443320" y="5052960"/>
            <a:ext cx="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7"/>
          <p:cNvSpPr/>
          <p:nvPr/>
        </p:nvSpPr>
        <p:spPr>
          <a:xfrm flipH="1">
            <a:off x="2730600" y="5052960"/>
            <a:ext cx="28728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8"/>
          <p:cNvSpPr/>
          <p:nvPr/>
        </p:nvSpPr>
        <p:spPr>
          <a:xfrm>
            <a:off x="3090960" y="4189320"/>
            <a:ext cx="647640" cy="720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0"/>
          <p:cNvSpPr/>
          <p:nvPr/>
        </p:nvSpPr>
        <p:spPr>
          <a:xfrm flipH="1">
            <a:off x="3017520" y="5126040"/>
            <a:ext cx="360360" cy="719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1"/>
          <p:cNvSpPr/>
          <p:nvPr/>
        </p:nvSpPr>
        <p:spPr>
          <a:xfrm>
            <a:off x="2199240" y="4071960"/>
            <a:ext cx="85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0 000 º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2"/>
          <p:cNvSpPr/>
          <p:nvPr/>
        </p:nvSpPr>
        <p:spPr>
          <a:xfrm>
            <a:off x="1887480" y="6205680"/>
            <a:ext cx="1361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" sz="1200" spc="-1" strike="noStrike" baseline="-25000">
                <a:solidFill>
                  <a:srgbClr val="000000"/>
                </a:solidFill>
                <a:latin typeface="Tahoma"/>
              </a:rPr>
              <a:t>inicial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 = 20 – 25º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3"/>
          <p:cNvSpPr/>
          <p:nvPr/>
        </p:nvSpPr>
        <p:spPr>
          <a:xfrm flipH="1" flipV="1">
            <a:off x="1577880" y="5628960"/>
            <a:ext cx="21600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4"/>
          <p:cNvSpPr/>
          <p:nvPr/>
        </p:nvSpPr>
        <p:spPr>
          <a:xfrm flipH="1" flipV="1">
            <a:off x="1938240" y="5628960"/>
            <a:ext cx="21600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5"/>
          <p:cNvSpPr/>
          <p:nvPr/>
        </p:nvSpPr>
        <p:spPr>
          <a:xfrm flipV="1">
            <a:off x="2298600" y="5628960"/>
            <a:ext cx="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6"/>
          <p:cNvSpPr/>
          <p:nvPr/>
        </p:nvSpPr>
        <p:spPr>
          <a:xfrm flipV="1">
            <a:off x="2443320" y="5628960"/>
            <a:ext cx="21564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7"/>
          <p:cNvSpPr/>
          <p:nvPr/>
        </p:nvSpPr>
        <p:spPr>
          <a:xfrm flipV="1">
            <a:off x="2730600" y="5628960"/>
            <a:ext cx="21564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28"/>
          <p:cNvSpPr/>
          <p:nvPr/>
        </p:nvSpPr>
        <p:spPr>
          <a:xfrm flipH="1" flipV="1">
            <a:off x="3593880" y="6060960"/>
            <a:ext cx="649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9"/>
          <p:cNvSpPr/>
          <p:nvPr/>
        </p:nvSpPr>
        <p:spPr>
          <a:xfrm>
            <a:off x="4299840" y="5786280"/>
            <a:ext cx="31536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70c0"/>
                </a:solidFill>
                <a:uFillTx/>
                <a:latin typeface="Tahoma"/>
              </a:rPr>
              <a:t>ATMÓSFER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xígeno, Nitrógeno -&gt; Transm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, H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(v)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-&gt; Absorben, reflejan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1:26:41Z</dcterms:created>
  <dc:creator>Meli Paloma</dc:creator>
  <dc:description/>
  <dc:language>en-US</dc:language>
  <cp:lastModifiedBy>Meli</cp:lastModifiedBy>
  <dcterms:modified xsi:type="dcterms:W3CDTF">2008-09-22T17:35:34Z</dcterms:modified>
  <cp:revision>129</cp:revision>
  <dc:subject/>
  <dc:title>Unidad 1:  Transferencia de calor</dc:title>
</cp:coreProperties>
</file>