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FEE0-D08F-4F7A-9564-89CBD2438A4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EB26-6E8C-4DFB-95A4-C83423EDFC7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CA30-7932-4F96-892A-A3F32ECEDB6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D1A2-48FB-48FA-BD5B-F4DE309EADE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E0DD-0059-48E2-A1A7-8EDFA5D1C17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4035-CA6C-49E4-807B-60CB6A3DC906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62A7-8010-4839-A889-1EE0784B5F7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797-7B90-4C97-B83C-6690CCAA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012B-C30D-47CE-B38A-C3A73EC2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43C-4240-4140-B9D9-F2AEEE9B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4F6-06B9-4209-A7BE-21B88111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A73B-B4B6-4009-8ECD-D85C716C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B35B-8F0F-4D2E-8A9D-4C3738FD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72E6-754E-465B-B114-421BFAFA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76D7-BF9A-4150-9744-DCC14906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8B5E-27E1-4388-8051-F83E03F8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4EB8-7644-496F-B8A0-4CF04EBB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5699-18F6-4E94-B895-79310A7B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B9A-C580-444C-A80A-D4016839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F772-CDC3-453E-81A2-77E200F8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AF97-DF24-4078-8F2D-23F196CD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E7C9-8C00-4B07-A69D-4AF7CFE8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325D-8A0A-4982-92AA-C042D343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86DE-74C5-436A-8C8E-EF79E46A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8070B4-93C5-4396-953B-CFDD381B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42BDE-B0C6-4DF2-96FB-8D392AE9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8FFBE-BFBB-4F5E-9BF0-FE8FE7A9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65960-0D97-4ACB-ADFF-1A136162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968220-C8F0-41C5-A237-16971586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70C9-85C8-45CE-AE63-7438ACE0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204C5-3A51-4774-B13F-E28A95BC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5FE4D9-C31F-4A42-B101-D5A6D8FE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76D3D-FAFE-4C08-914A-86FFBFD9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F9640-8399-4630-A5BA-0BF18A6D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D813C-DC2B-4308-BC03-4103BCA6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2A38A-5A45-43B9-B533-4DDFABBB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D1EFF-73F2-469D-9152-2275F7D8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BB803-49F1-4175-A34B-81824ACE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9E009A-1C9B-4CFF-B3E1-628CB113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7CF22-24B4-43C4-8306-97597705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EF28-3C3C-404B-88AC-E58C3C97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249EA7-03F8-45B8-AB0A-DF2ADB4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9D2A8-0249-4E86-AAB1-53BFD39B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6781EA-5364-4842-A470-16BBB993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C2112-B898-426C-A287-CC605D87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81D02-F1BA-43AE-9A20-F66E8999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BE6E6C-CEBB-450B-8109-C0FB7A1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3FA3A-2262-4671-9472-81BB838B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B48F06-8648-4A91-A4F9-230AF837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AD154-CEE5-4294-BC7F-188305BC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EA257-770D-4550-BF7C-7D80A610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0DC-1709-4962-A5B9-BF69A4B0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50D4FC-393C-40FB-8374-B9803A57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B982D-1F48-4EF3-9D6F-8D8E52A5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7EB86-BFBF-4CBC-B731-8C0BDB2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5EA98C-F58E-49EB-9E43-EAC75D02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E07F5-45F9-43CF-999E-0C7A2B87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3E5E7-9BBE-40C7-8D59-9C5AAE9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936ED-6437-4E11-8478-11452A2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591D2-7CFD-4C0E-BB04-A0CDCB9B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FCE98-DF88-4E72-A2DF-25FA6820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2B716-E2D6-488D-9F7C-DB4AEE89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D01-5F14-4855-8FD0-2C6E9D80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43C9A-C5B7-42D4-A767-58CF4363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08572-1A9C-4E88-8736-74076635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AF57-793D-44C6-8FD6-03D2828E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BB673-E251-4779-9F9B-BE1E1A1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0866-CCDA-4391-8C7D-8C1DB353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CAB81-550B-4184-9F2E-43DA6025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C3605-EAAC-4598-9774-657D6BB7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31394-62FC-4190-9E82-9226B75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642C0-BC29-45CA-A6F1-7FFFE535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F05E0-4BB0-4CEC-A739-9222821E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4D69-5084-42B6-BCB1-0213FD58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CD75D-1D56-43F9-B63C-052BB66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2BEC9-825E-4D4E-93F8-ACB492BD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B03C2-5E50-4244-A478-0D1325A5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43058B-75DA-4CDD-844A-00FBC1E8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3D5C9-A69F-4095-885E-324EE71B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A28956-1CB8-4D50-B961-D7EC384F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F1FD8-7516-4691-9569-D21CCC45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D8F2A-9C6B-4FE8-836B-48B86103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C670C-4B60-4364-ACAF-F6F7896E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C2403C-CA8D-47E0-8400-B01C9CC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EBC-00B2-4E4F-A577-2E9095A2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211E5-7C2E-40CC-9419-8C42EFEA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C8374-AE2E-4ACC-B189-6A3EBEC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0F9C2-E662-46CE-86E2-EC42687A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E17AE0-2F61-4CFC-9DD4-DA284488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564265-D962-451E-9B32-11DB8798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FE740-70BB-4E44-8FBE-F543FA8C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F3330-9510-4CF7-BD45-330CB35D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29C4C-6875-43A0-9734-D09B36AE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BB7F0-E0E8-44F7-BDE4-DEA611BF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0CC69-2B43-41BE-AAA0-EC95ABAE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D22-1E27-412C-A01C-380B9593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3D4C8-349E-4C16-8A27-A2C540A9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EE6C8-4B54-4CC4-871B-711624E3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4273B-864F-4372-84B4-54C340F3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E0AD5-3A2E-4906-8522-935984BA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2293B-5FAC-48C6-93C5-10E80DEE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07DC4-6F25-4D9C-80F9-0E12E7AA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C7107-AB61-4E69-9ECA-B8834840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5FAE-BC35-46C9-BE16-C702A5572E67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BC7F-662E-478A-9336-32F6AE1F2CD6}" type="slidenum">
              <a:rPr b="1" lang="es-E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8C7B-19A7-4F45-8038-68182B66A7E2}" type="slidenum">
              <a:rPr b="1" lang="es-E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73EC-B460-4F39-95F4-8AD1A086BDDE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B5AD-5E89-4144-A7E4-9D4ADE037773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24C2-0125-415B-887C-44D39D00948D}" type="slidenum">
              <a:rPr b="1" lang="es-E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6E4E-1178-40F4-B5D7-5019F454226B}" type="slidenum">
              <a:rPr b="1" lang="es-E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BCCB-B824-48F1-8F56-C968D03B6C66}" type="slidenum">
              <a:rPr b="1" lang="es-E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3143160"/>
            <a:ext cx="6696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UNIDAD 1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TRANSFERENCIA DE CALOR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14272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Fenómeno de Radiación: Superficies de área finit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9" name="5 CuadroTexto"/>
          <p:cNvSpPr/>
          <p:nvPr/>
        </p:nvSpPr>
        <p:spPr>
          <a:xfrm>
            <a:off x="122040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fcfm"/>
          <p:cNvPicPr/>
          <p:nvPr/>
        </p:nvPicPr>
        <p:blipFill>
          <a:blip r:embed="rId1"/>
          <a:stretch/>
        </p:blipFill>
        <p:spPr>
          <a:xfrm>
            <a:off x="76320" y="144360"/>
            <a:ext cx="11430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uerpos de Área Finita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714240" y="1650960"/>
            <a:ext cx="797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sta ahora hemos considerado que toda la radiación emitida por cada cuerpo es recibida por el otro. Sin embargo, en Ingeniería los cuerpos tienen área finit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3"/>
          <p:cNvSpPr/>
          <p:nvPr/>
        </p:nvSpPr>
        <p:spPr>
          <a:xfrm>
            <a:off x="571680" y="3000240"/>
            <a:ext cx="797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Sólo una fracción de la energía irradiada por uno de los cuerpos es recibida por el o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 u="sng">
                <a:solidFill>
                  <a:srgbClr val="0070c0"/>
                </a:solidFill>
                <a:uFillTx/>
                <a:latin typeface="Arial"/>
              </a:rPr>
              <a:t>Factor de visión (o de forma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36"/>
              <p:cNvSpPr txBox="1"/>
              <p:nvPr/>
            </p:nvSpPr>
            <p:spPr>
              <a:xfrm>
                <a:off x="3103560" y="4000680"/>
                <a:ext cx="2968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Freeform 41"/>
          <p:cNvSpPr/>
          <p:nvPr/>
        </p:nvSpPr>
        <p:spPr>
          <a:xfrm rot="20616600">
            <a:off x="2433600" y="5408280"/>
            <a:ext cx="1295280" cy="1041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2"/>
          <p:cNvSpPr/>
          <p:nvPr/>
        </p:nvSpPr>
        <p:spPr>
          <a:xfrm rot="19618800">
            <a:off x="5455800" y="5365800"/>
            <a:ext cx="1254240" cy="9237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3"/>
          <p:cNvSpPr/>
          <p:nvPr/>
        </p:nvSpPr>
        <p:spPr>
          <a:xfrm flipV="1">
            <a:off x="3079800" y="5802480"/>
            <a:ext cx="3097080" cy="14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4"/>
          <p:cNvSpPr/>
          <p:nvPr/>
        </p:nvSpPr>
        <p:spPr>
          <a:xfrm flipV="1">
            <a:off x="3079800" y="5081760"/>
            <a:ext cx="288720" cy="86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5"/>
          <p:cNvSpPr/>
          <p:nvPr/>
        </p:nvSpPr>
        <p:spPr>
          <a:xfrm flipH="1" flipV="1">
            <a:off x="5456160" y="5225760"/>
            <a:ext cx="72072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3124080" y="5613480"/>
            <a:ext cx="216000" cy="420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47"/>
          <p:cNvSpPr/>
          <p:nvPr/>
        </p:nvSpPr>
        <p:spPr>
          <a:xfrm>
            <a:off x="5877000" y="5540400"/>
            <a:ext cx="135000" cy="420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4549680" y="5873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9"/>
          <p:cNvSpPr/>
          <p:nvPr/>
        </p:nvSpPr>
        <p:spPr>
          <a:xfrm>
            <a:off x="3260880" y="46432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0"/>
          <p:cNvSpPr/>
          <p:nvPr/>
        </p:nvSpPr>
        <p:spPr>
          <a:xfrm>
            <a:off x="5168880" y="479412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Object 37"/>
              <p:cNvSpPr txBox="1"/>
              <p:nvPr/>
            </p:nvSpPr>
            <p:spPr>
              <a:xfrm>
                <a:off x="5554800" y="5369040"/>
                <a:ext cx="333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8"/>
              <p:cNvSpPr txBox="1"/>
              <p:nvPr/>
            </p:nvSpPr>
            <p:spPr>
              <a:xfrm>
                <a:off x="3308400" y="5511960"/>
                <a:ext cx="30780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4" name="Text Box 53"/>
          <p:cNvSpPr/>
          <p:nvPr/>
        </p:nvSpPr>
        <p:spPr>
          <a:xfrm>
            <a:off x="1936080" y="572940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4"/>
          <p:cNvSpPr/>
          <p:nvPr/>
        </p:nvSpPr>
        <p:spPr>
          <a:xfrm>
            <a:off x="6637320" y="5513400"/>
            <a:ext cx="5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7 Flecha abajo"/>
          <p:cNvSpPr/>
          <p:nvPr/>
        </p:nvSpPr>
        <p:spPr>
          <a:xfrm>
            <a:off x="4357800" y="2357280"/>
            <a:ext cx="357120" cy="42876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es de Visión entre Cuerpos Negro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554040" y="1747800"/>
            <a:ext cx="79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tiene que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6"/>
              <p:cNvSpPr txBox="1"/>
              <p:nvPr/>
            </p:nvSpPr>
            <p:spPr>
              <a:xfrm>
                <a:off x="1460520" y="2421000"/>
                <a:ext cx="6176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1476360" y="3789360"/>
                <a:ext cx="62355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8"/>
              <p:cNvSpPr txBox="1"/>
              <p:nvPr/>
            </p:nvSpPr>
            <p:spPr>
              <a:xfrm>
                <a:off x="2898720" y="5343480"/>
                <a:ext cx="2816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Text Box 11"/>
          <p:cNvSpPr/>
          <p:nvPr/>
        </p:nvSpPr>
        <p:spPr>
          <a:xfrm>
            <a:off x="3143160" y="59878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70c0"/>
                </a:solidFill>
                <a:latin typeface="Arial"/>
              </a:rPr>
              <a:t>relación de recipr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onfiguraciones Típic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9"/>
          <p:cNvSpPr/>
          <p:nvPr/>
        </p:nvSpPr>
        <p:spPr>
          <a:xfrm>
            <a:off x="611280" y="1521000"/>
            <a:ext cx="7978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perficies con formas de discos, cuadrados y rectángulos, colocados en forma paralela a cierta distancia entre sí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)   Superficies con formas de discos, cuadrados y rectángulos, colocados en forma paralela a cierta distancia entre sí, pero conectados por paredes re – radiantes, adiabáticas o refract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2305080" y="2711520"/>
            <a:ext cx="123840" cy="11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2"/>
          <p:cNvSpPr/>
          <p:nvPr/>
        </p:nvSpPr>
        <p:spPr>
          <a:xfrm>
            <a:off x="1913760" y="3087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3"/>
          <p:cNvSpPr/>
          <p:nvPr/>
        </p:nvSpPr>
        <p:spPr>
          <a:xfrm>
            <a:off x="3891960" y="3090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4"/>
          <p:cNvSpPr/>
          <p:nvPr/>
        </p:nvSpPr>
        <p:spPr>
          <a:xfrm>
            <a:off x="2449440" y="32828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35"/>
          <p:cNvSpPr/>
          <p:nvPr/>
        </p:nvSpPr>
        <p:spPr>
          <a:xfrm flipV="1">
            <a:off x="2449440" y="2925360"/>
            <a:ext cx="1224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6"/>
          <p:cNvSpPr/>
          <p:nvPr/>
        </p:nvSpPr>
        <p:spPr>
          <a:xfrm>
            <a:off x="2449440" y="3497400"/>
            <a:ext cx="122400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37"/>
          <p:cNvSpPr/>
          <p:nvPr/>
        </p:nvSpPr>
        <p:spPr>
          <a:xfrm flipV="1">
            <a:off x="2449440" y="2425680"/>
            <a:ext cx="1224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8"/>
          <p:cNvSpPr/>
          <p:nvPr/>
        </p:nvSpPr>
        <p:spPr>
          <a:xfrm>
            <a:off x="2449440" y="363996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9"/>
          <p:cNvSpPr/>
          <p:nvPr/>
        </p:nvSpPr>
        <p:spPr>
          <a:xfrm>
            <a:off x="2397240" y="5473800"/>
            <a:ext cx="161640" cy="108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44"/>
          <p:cNvSpPr/>
          <p:nvPr/>
        </p:nvSpPr>
        <p:spPr>
          <a:xfrm flipV="1">
            <a:off x="2558880" y="5473800"/>
            <a:ext cx="63036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5"/>
          <p:cNvSpPr/>
          <p:nvPr/>
        </p:nvSpPr>
        <p:spPr>
          <a:xfrm>
            <a:off x="2558880" y="5986440"/>
            <a:ext cx="5004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9"/>
          <p:cNvSpPr/>
          <p:nvPr/>
        </p:nvSpPr>
        <p:spPr>
          <a:xfrm>
            <a:off x="2397240" y="5329080"/>
            <a:ext cx="1376280" cy="15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50"/>
          <p:cNvSpPr/>
          <p:nvPr/>
        </p:nvSpPr>
        <p:spPr>
          <a:xfrm>
            <a:off x="3189240" y="5473800"/>
            <a:ext cx="44136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1"/>
          <p:cNvSpPr/>
          <p:nvPr/>
        </p:nvSpPr>
        <p:spPr>
          <a:xfrm flipV="1">
            <a:off x="3059280" y="5986440"/>
            <a:ext cx="57132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28"/>
              <p:cNvSpPr txBox="1"/>
              <p:nvPr/>
            </p:nvSpPr>
            <p:spPr>
              <a:xfrm>
                <a:off x="5000760" y="5788080"/>
                <a:ext cx="28065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9"/>
              <p:cNvSpPr txBox="1"/>
              <p:nvPr/>
            </p:nvSpPr>
            <p:spPr>
              <a:xfrm>
                <a:off x="5000760" y="3071880"/>
                <a:ext cx="28000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3" name="Rectangle 30"/>
          <p:cNvSpPr/>
          <p:nvPr/>
        </p:nvSpPr>
        <p:spPr>
          <a:xfrm>
            <a:off x="3714840" y="2711520"/>
            <a:ext cx="123840" cy="114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9"/>
          <p:cNvSpPr/>
          <p:nvPr/>
        </p:nvSpPr>
        <p:spPr>
          <a:xfrm>
            <a:off x="2397240" y="6558120"/>
            <a:ext cx="1376280" cy="15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3611520" y="5486400"/>
            <a:ext cx="162000" cy="108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55 Conector recto de flecha"/>
          <p:cNvCxnSpPr/>
          <p:nvPr/>
        </p:nvCxnSpPr>
        <p:spPr>
          <a:xfrm>
            <a:off x="2558520" y="5985000"/>
            <a:ext cx="100116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7" name="Text Box 32"/>
          <p:cNvSpPr/>
          <p:nvPr/>
        </p:nvSpPr>
        <p:spPr>
          <a:xfrm>
            <a:off x="2048760" y="584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3847320" y="5846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70c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 de Intercambio (Gráficos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890640" y="1714680"/>
            <a:ext cx="396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define el </a:t>
            </a:r>
            <a:r>
              <a:rPr b="0" i="1" lang="es-ES" sz="1600" spc="-1" strike="noStrike">
                <a:solidFill>
                  <a:srgbClr val="0070c0"/>
                </a:solidFill>
                <a:latin typeface="Arial"/>
              </a:rPr>
              <a:t>factor de intercambio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para superficies conectadas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4"/>
              <p:cNvSpPr txBox="1"/>
              <p:nvPr/>
            </p:nvSpPr>
            <p:spPr>
              <a:xfrm>
                <a:off x="4859280" y="1730520"/>
                <a:ext cx="2141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25" name="Picture 12" descr="factor forma"/>
          <p:cNvPicPr/>
          <p:nvPr/>
        </p:nvPicPr>
        <p:blipFill>
          <a:blip r:embed="rId1"/>
          <a:stretch/>
        </p:blipFill>
        <p:spPr>
          <a:xfrm>
            <a:off x="1833480" y="2673360"/>
            <a:ext cx="5310360" cy="414036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4"/>
          <p:cNvSpPr/>
          <p:nvPr/>
        </p:nvSpPr>
        <p:spPr>
          <a:xfrm>
            <a:off x="909000" y="6378480"/>
            <a:ext cx="7619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Curvas 1, 2, 3 y 4 planos no conectados (a). Curvas 5, 6, 7 y 8 planos conec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Configuraciones Típic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428760" y="1846440"/>
            <a:ext cx="816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uación de factor de intercambio aplicable en el caso en que las áreas son convex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Se cumple también que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3429000" y="2735280"/>
                <a:ext cx="197316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1" name="Text Box 11"/>
          <p:cNvSpPr/>
          <p:nvPr/>
        </p:nvSpPr>
        <p:spPr>
          <a:xfrm>
            <a:off x="285840" y="3708360"/>
            <a:ext cx="801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adiación desde un plano radiante a un banco de tubos posicionados frente a una pared refractaria que absorbe la energía de los rayos que pasan entre los tubos, la re – irradia y re – irradia la energía absorbida sobre la parte trasera de los tub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357120" y="1701720"/>
            <a:ext cx="8286840" cy="1656000"/>
          </a:xfrm>
          <a:prstGeom prst="rect">
            <a:avLst/>
          </a:prstGeom>
          <a:noFill/>
          <a:ln w="25560">
            <a:solidFill>
              <a:srgbClr val="355d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2817720" y="4802040"/>
            <a:ext cx="309564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4"/>
          <p:cNvSpPr/>
          <p:nvPr/>
        </p:nvSpPr>
        <p:spPr>
          <a:xfrm>
            <a:off x="288936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5"/>
          <p:cNvSpPr/>
          <p:nvPr/>
        </p:nvSpPr>
        <p:spPr>
          <a:xfrm>
            <a:off x="332280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6"/>
          <p:cNvSpPr/>
          <p:nvPr/>
        </p:nvSpPr>
        <p:spPr>
          <a:xfrm>
            <a:off x="375300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7"/>
          <p:cNvSpPr/>
          <p:nvPr/>
        </p:nvSpPr>
        <p:spPr>
          <a:xfrm>
            <a:off x="418608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8"/>
          <p:cNvSpPr/>
          <p:nvPr/>
        </p:nvSpPr>
        <p:spPr>
          <a:xfrm>
            <a:off x="461952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9"/>
          <p:cNvSpPr/>
          <p:nvPr/>
        </p:nvSpPr>
        <p:spPr>
          <a:xfrm>
            <a:off x="504972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20"/>
          <p:cNvSpPr/>
          <p:nvPr/>
        </p:nvSpPr>
        <p:spPr>
          <a:xfrm>
            <a:off x="5483160" y="530712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22"/>
          <p:cNvSpPr/>
          <p:nvPr/>
        </p:nvSpPr>
        <p:spPr>
          <a:xfrm>
            <a:off x="310500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23"/>
          <p:cNvSpPr/>
          <p:nvPr/>
        </p:nvSpPr>
        <p:spPr>
          <a:xfrm>
            <a:off x="353844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24"/>
          <p:cNvSpPr/>
          <p:nvPr/>
        </p:nvSpPr>
        <p:spPr>
          <a:xfrm>
            <a:off x="396864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25"/>
          <p:cNvSpPr/>
          <p:nvPr/>
        </p:nvSpPr>
        <p:spPr>
          <a:xfrm>
            <a:off x="440208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6"/>
          <p:cNvSpPr/>
          <p:nvPr/>
        </p:nvSpPr>
        <p:spPr>
          <a:xfrm>
            <a:off x="483228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7"/>
          <p:cNvSpPr/>
          <p:nvPr/>
        </p:nvSpPr>
        <p:spPr>
          <a:xfrm>
            <a:off x="5265720" y="56674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8"/>
          <p:cNvSpPr/>
          <p:nvPr/>
        </p:nvSpPr>
        <p:spPr>
          <a:xfrm flipH="1">
            <a:off x="2817720" y="6170760"/>
            <a:ext cx="30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9"/>
          <p:cNvSpPr/>
          <p:nvPr/>
        </p:nvSpPr>
        <p:spPr>
          <a:xfrm flipH="1">
            <a:off x="5986080" y="588312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0"/>
          <p:cNvSpPr/>
          <p:nvPr/>
        </p:nvSpPr>
        <p:spPr>
          <a:xfrm flipH="1">
            <a:off x="5986080" y="54514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6602040" y="52894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Segund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6598800" y="57229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rimer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5854320" y="624348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lano ra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5953320" y="47862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Pared refrac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Factor de Intercambio (Gráficos)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8" descr="factor forma tubos"/>
          <p:cNvPicPr/>
          <p:nvPr/>
        </p:nvPicPr>
        <p:blipFill>
          <a:blip r:embed="rId1"/>
          <a:srcRect l="0" t="1675" r="0" b="8942"/>
          <a:stretch/>
        </p:blipFill>
        <p:spPr>
          <a:xfrm>
            <a:off x="142920" y="1643040"/>
            <a:ext cx="4010040" cy="50007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20"/>
          <p:cNvSpPr/>
          <p:nvPr/>
        </p:nvSpPr>
        <p:spPr>
          <a:xfrm>
            <a:off x="3725640" y="1857240"/>
            <a:ext cx="54126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adiación absorbida por los tubos calcu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mo fracción de aquella absorbida por u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lano paralelo de área igual a la de la pared refrac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situada detrás de los tub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Radiación entre Superficies Grises Finitas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122400" y="1538280"/>
            <a:ext cx="869760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ste caso una fracción de la radiación recibida por cada superficie es reflej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acia la otra superfici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onces, calor transferido ser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el caso de dos </a:t>
            </a:r>
            <a:r>
              <a:rPr b="0" i="1" lang="es-ES" sz="1600" spc="-1" strike="noStrike">
                <a:solidFill>
                  <a:srgbClr val="0070c0"/>
                </a:solidFill>
                <a:latin typeface="Arial"/>
              </a:rPr>
              <a:t>superficies planas</a:t>
            </a:r>
            <a:r>
              <a:rPr b="0" lang="es-ES" sz="1600" spc="-1" strike="noStrike">
                <a:solidFill>
                  <a:srgbClr val="0070c0"/>
                </a:solidFill>
                <a:latin typeface="Arial"/>
              </a:rPr>
              <a:t> grise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nit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caso de planos grises conectados por paredes re – radiantes se usa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uación anterior pero usando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La reflexión disminuye el flujo neto de radiación entre las superficies en relación al 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7b3d17"/>
                </a:solidFill>
                <a:latin typeface="Tahoma"/>
              </a:rPr>
              <a:t>caso de cuerpos ne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4265640" y="2290680"/>
                <a:ext cx="2949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2928960" y="3598920"/>
                <a:ext cx="33130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3975120" y="5286240"/>
                <a:ext cx="3110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El Efecto Invernadero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399240" y="1643040"/>
            <a:ext cx="8429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pas gruesas de sólidos o líquidos son opacas y absorben toda la radiación que no 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flejada, sin transmitir 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lículas delgadas de la mayoría de los sólidos y líquidos absorben sólo una fracción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a radiación y el resto la transmiten (dependiendo del espesor de la película y la longit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nda de la radiació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586440" y="355932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dd8047"/>
                </a:solidFill>
                <a:latin typeface="Arial"/>
              </a:rPr>
              <a:t>Láminas de vidrio ordin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8"/>
          <p:cNvSpPr/>
          <p:nvPr/>
        </p:nvSpPr>
        <p:spPr>
          <a:xfrm>
            <a:off x="3854520" y="3743280"/>
            <a:ext cx="576360" cy="0"/>
          </a:xfrm>
          <a:prstGeom prst="line">
            <a:avLst/>
          </a:prstGeom>
          <a:ln w="38160">
            <a:solidFill>
              <a:srgbClr val="dd80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4590000" y="3273480"/>
            <a:ext cx="40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f7b615"/>
                </a:solidFill>
                <a:latin typeface="Arial"/>
              </a:rPr>
              <a:t>Transparente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radiación de longit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onda bajas, o sea, en la zona visib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4587120" y="3916440"/>
            <a:ext cx="360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600" spc="-1" strike="noStrike">
                <a:solidFill>
                  <a:srgbClr val="f7b615"/>
                </a:solidFill>
                <a:latin typeface="Arial"/>
              </a:rPr>
              <a:t>Opac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a radiación de longitud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nda al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1"/>
          <p:cNvSpPr/>
          <p:nvPr/>
        </p:nvSpPr>
        <p:spPr>
          <a:xfrm rot="16200000">
            <a:off x="1560960" y="5108760"/>
            <a:ext cx="1584360" cy="2627280"/>
          </a:xfrm>
          <a:prstGeom prst="can">
            <a:avLst>
              <a:gd name="adj" fmla="val 22305"/>
            </a:avLst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785880" y="6494400"/>
            <a:ext cx="31669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3"/>
          <p:cNvSpPr/>
          <p:nvPr/>
        </p:nvSpPr>
        <p:spPr>
          <a:xfrm>
            <a:off x="1003320" y="64944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1506600" y="5126040"/>
            <a:ext cx="43164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>
            <a:off x="1866960" y="5052960"/>
            <a:ext cx="287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6"/>
          <p:cNvSpPr/>
          <p:nvPr/>
        </p:nvSpPr>
        <p:spPr>
          <a:xfrm>
            <a:off x="2443320" y="505296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7"/>
          <p:cNvSpPr/>
          <p:nvPr/>
        </p:nvSpPr>
        <p:spPr>
          <a:xfrm flipH="1">
            <a:off x="2730600" y="5052960"/>
            <a:ext cx="28728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8"/>
          <p:cNvSpPr/>
          <p:nvPr/>
        </p:nvSpPr>
        <p:spPr>
          <a:xfrm>
            <a:off x="3090960" y="4189320"/>
            <a:ext cx="64764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0"/>
          <p:cNvSpPr/>
          <p:nvPr/>
        </p:nvSpPr>
        <p:spPr>
          <a:xfrm flipH="1">
            <a:off x="3017520" y="5126040"/>
            <a:ext cx="36036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1"/>
          <p:cNvSpPr/>
          <p:nvPr/>
        </p:nvSpPr>
        <p:spPr>
          <a:xfrm>
            <a:off x="2199240" y="407196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0 000 º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2"/>
          <p:cNvSpPr/>
          <p:nvPr/>
        </p:nvSpPr>
        <p:spPr>
          <a:xfrm>
            <a:off x="1887480" y="6205680"/>
            <a:ext cx="136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" sz="1200" spc="-1" strike="noStrike" baseline="-25000">
                <a:solidFill>
                  <a:srgbClr val="000000"/>
                </a:solidFill>
                <a:latin typeface="Tahoma"/>
              </a:rPr>
              <a:t>inicial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= 20 – 25º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3"/>
          <p:cNvSpPr/>
          <p:nvPr/>
        </p:nvSpPr>
        <p:spPr>
          <a:xfrm flipH="1" flipV="1">
            <a:off x="1577880" y="5628960"/>
            <a:ext cx="21600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4"/>
          <p:cNvSpPr/>
          <p:nvPr/>
        </p:nvSpPr>
        <p:spPr>
          <a:xfrm flipH="1" flipV="1">
            <a:off x="1938240" y="5628960"/>
            <a:ext cx="21600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5"/>
          <p:cNvSpPr/>
          <p:nvPr/>
        </p:nvSpPr>
        <p:spPr>
          <a:xfrm flipV="1">
            <a:off x="2298600" y="5628960"/>
            <a:ext cx="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6"/>
          <p:cNvSpPr/>
          <p:nvPr/>
        </p:nvSpPr>
        <p:spPr>
          <a:xfrm flipV="1">
            <a:off x="2443320" y="5628960"/>
            <a:ext cx="21564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7"/>
          <p:cNvSpPr/>
          <p:nvPr/>
        </p:nvSpPr>
        <p:spPr>
          <a:xfrm flipV="1">
            <a:off x="2730600" y="5628960"/>
            <a:ext cx="215640" cy="431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8"/>
          <p:cNvSpPr/>
          <p:nvPr/>
        </p:nvSpPr>
        <p:spPr>
          <a:xfrm flipH="1" flipV="1">
            <a:off x="3593880" y="6060960"/>
            <a:ext cx="649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9"/>
          <p:cNvSpPr/>
          <p:nvPr/>
        </p:nvSpPr>
        <p:spPr>
          <a:xfrm>
            <a:off x="4299840" y="5786280"/>
            <a:ext cx="31536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70c0"/>
                </a:solidFill>
                <a:uFillTx/>
                <a:latin typeface="Tahoma"/>
              </a:rPr>
              <a:t>ATMÓSFER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xígeno, Nitrógeno -&gt; Transm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, H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ahoma"/>
              </a:rPr>
              <a:t>(v)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-&gt; Absorben, reflejan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1:26:41Z</dcterms:created>
  <dc:creator>Meli Paloma</dc:creator>
  <dc:description/>
  <dc:language>en-US</dc:language>
  <cp:lastModifiedBy>Meli</cp:lastModifiedBy>
  <dcterms:modified xsi:type="dcterms:W3CDTF">2008-09-22T17:35:34Z</dcterms:modified>
  <cp:revision>129</cp:revision>
  <dc:subject/>
  <dc:title>Unidad 1:  Transferencia de calor</dc:title>
</cp:coreProperties>
</file>