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41B-783E-4E40-A327-F1B78AD4EBD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8DCB-7B3D-4F88-ACFE-F3B9CBE003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BBE-27CC-410F-9B71-E0645E90149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32B-122F-441E-B49C-6CE8EEDA9DA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F5F-8B8A-4A22-A8B9-1DA80FD136D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468-114C-4365-9252-0E72EF5938D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DC4-DF56-49EE-BF82-1B1F865686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A80-52E5-406F-AEEC-4CAFEDFB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6CE-AF2D-433F-BE97-4EB2DE0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9BA-70BD-47AC-831F-DB0CE752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42C-D324-40FE-81F2-81E2F54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629D-0589-4DF4-AE00-405F6511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B601-070A-47F1-A8B7-7A9418C1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9054-B940-422B-89A7-B90BF49C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C0F5-4A59-44E4-9899-C7AF9A8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355A-385C-4C1E-A2DF-9C8BC3DA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2F6D-37A9-474A-AA13-407E23F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F06A-2FF5-427D-ADC7-C69DE96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DEB-6381-479D-8B86-141598D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8BDC-E908-4492-87A1-8F9684B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9BF-F439-466F-A5E9-68E9BD1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93AE-B9B5-4192-BAAA-50A08AAE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0B4-7A62-4A07-BFE5-D8905AF4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F12-18D4-4F38-A15A-D13E0DC5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6D0EA-AA1B-400D-927E-87DDF2F4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842FE-C9AA-4BAE-8C2B-84CCD73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C438C-2F21-489D-B306-78502199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63551-056E-4A87-BF77-46825A97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F64B0-9D28-4F0D-B4DA-D076B1E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CB9-966F-4D65-8978-AD39779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6518B-DF24-4C3B-8B52-80E356C2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00DBE-E7B6-4A13-9FC6-B6CB452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9782D-A320-4F75-A9C0-CAA8022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AF37C-214A-421F-9CC5-A1BEAF8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9CA6B-EA10-47C1-8DA2-7A07BDBC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574B2-FBD7-4C6F-B453-1565D910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106F5-578F-4E49-8CF8-733F36A5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FB953-3BCB-4CEA-98D3-8973DF02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915BB-A103-4B6C-B78B-6AE7355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4397E-8380-4178-A65B-E349F98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795-4524-4F94-92F4-A9AE495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2809D-83C8-43CB-8AF2-868CD0E5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8117B-A1BE-4582-B6FB-E5DB404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568A9-E1A6-4C73-BB85-A5550365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87D83-8E09-4DC3-8F0E-F45DAF2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57D8B-C875-4D32-BAD7-327E79A2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AD736-C284-4177-88BD-E32D39E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3DE65-B2F3-4C29-A494-D9CFBDA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401FA-2C2A-4CEA-A6D0-5B98B981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159EC-CE79-4481-97BF-8DFB139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92953-452F-4147-AE5A-331694D4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679-74DF-4F0E-BDFB-3529FEA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3B29F-0706-42F6-A089-57360D4C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4AD9E-C5BD-4231-9F0E-8F6D657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6F811-BCF9-4C6F-B821-ABA5610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154D9-25C6-4015-A158-3B6973F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7EF90-2350-479A-B67B-6DE22AF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8BDB3-ED7A-497F-AD3F-A91DA865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D7068-32AC-4887-99E8-0C4C866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50FDE-F0E3-4D40-BAE2-099EE4C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B4EF5-B678-4FA3-B711-58361500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B4047-0AC8-4198-A3F9-F04067CB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DC3-CAA0-4E48-9817-C295407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F97E4-6A1B-468D-AA1B-7EFEF7F0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28F7-E86C-4D9D-9E98-EC801DFC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1831-AC6F-47D0-B744-522FAF8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77DB-ADD5-4851-A4E7-2658091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E0C2-A453-4945-B085-D98DE241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706A-811A-43FB-AFC0-CE13E0F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BC5D-196D-4F3A-B2BB-94BA7627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5D9C-0884-435F-878C-E564CBD9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BC6B-F1F7-41C9-82E2-B8470C2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1D8C-C89C-418F-9708-CEA4271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A72-D72C-4E80-9C70-CC7D3C0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74DF-9493-403A-97FF-9DC324B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2D0F-7BA8-43B7-B5C2-DB50EE06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5508-B9DF-4EA0-B17D-CF445C85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720F7-24E7-4F2E-B66B-53D92329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F454D-8C14-4320-B468-987EDCF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F1D7F-936B-46AB-896F-0A22A119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D156D-38B9-4265-9F71-F514D6F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AD81F-5DD3-440D-882F-A1B26477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557D1-5347-4FF8-8723-D8B24F52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8930A-945F-4B5D-A439-146C469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642-5283-4A99-962D-58647C9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24751-F850-4BA6-9E9E-A902BC4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C9177-5385-44E5-B98F-D93B8F6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B5626-A863-4368-9178-08CE2CD5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B4BBC-C8F4-47F3-A0F0-2E092C4D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9E986-E376-4809-B40A-8E0FA612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26B24-8A23-4414-A0C2-C52EE15B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7C891-ABF8-4750-B882-284C4DD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DFE35-D99A-4780-8A00-04AA8714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FBD3-50AA-4053-BF95-095D676F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CE2A7-09BD-4937-91BD-8784D710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9F4-8D86-4837-87EE-7C8BAB9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8C299-5644-4423-9569-CE968D3D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B2E1-479F-42D3-BE4D-5F289CA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87D81-B815-44EB-845F-3A1C54F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71F2-A6BC-488D-89AB-639732B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5CB4-2FEC-4C29-B785-F1C91C4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C7DCE-89B3-4BFF-A36D-AC029D7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61A4-18DB-47AE-9E2D-72112E96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44B2-5C28-4CE6-B45C-5CAE9329FBB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FED5-4020-4877-A048-4428DE6DD7AE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30D-EF3B-439F-8139-38EEF17E518C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2A6-47CE-4B8D-9BE6-E6D2EA482529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DE5-3D12-40F0-B211-0BA584887CB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47A-A0BD-469E-AA92-F2CD6A1C4E23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B07-D8C6-4A42-9BB8-B4A040D87192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556-E799-4120-B560-A1B938CD0F11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Superficies de área fini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uerpos de Área Finit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14240" y="1650960"/>
            <a:ext cx="797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sta ahora hemos considerado que toda la radiación emitida por cada cuerpo es recibida por el otro. Sin embargo, en Ingeniería los cuerpos tienen área fini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571680" y="3000240"/>
            <a:ext cx="79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ólo una fracción de la energía irradiada por uno de los cuerpos es recibida por el o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 u="sng">
                <a:solidFill>
                  <a:srgbClr val="0070c0"/>
                </a:solidFill>
                <a:uFillTx/>
                <a:latin typeface="Arial"/>
              </a:rPr>
              <a:t>Factor de visión (o de form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6"/>
              <p:cNvSpPr txBox="1"/>
              <p:nvPr/>
            </p:nvSpPr>
            <p:spPr>
              <a:xfrm>
                <a:off x="3103560" y="4000680"/>
                <a:ext cx="2968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Freeform 41"/>
          <p:cNvSpPr/>
          <p:nvPr/>
        </p:nvSpPr>
        <p:spPr>
          <a:xfrm rot="20616600">
            <a:off x="2433600" y="5408280"/>
            <a:ext cx="1295280" cy="1041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2"/>
          <p:cNvSpPr/>
          <p:nvPr/>
        </p:nvSpPr>
        <p:spPr>
          <a:xfrm rot="19618800">
            <a:off x="5455800" y="5365800"/>
            <a:ext cx="1254240" cy="9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V="1">
            <a:off x="3079800" y="5802480"/>
            <a:ext cx="309708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 flipV="1">
            <a:off x="3079800" y="5081760"/>
            <a:ext cx="288720" cy="86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 flipH="1" flipV="1">
            <a:off x="5456160" y="522576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124080" y="5613480"/>
            <a:ext cx="2160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5877000" y="5540400"/>
            <a:ext cx="135000" cy="420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4549680" y="5873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3260880" y="4643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5168880" y="47941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7"/>
              <p:cNvSpPr txBox="1"/>
              <p:nvPr/>
            </p:nvSpPr>
            <p:spPr>
              <a:xfrm>
                <a:off x="5554800" y="536904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8"/>
              <p:cNvSpPr txBox="1"/>
              <p:nvPr/>
            </p:nvSpPr>
            <p:spPr>
              <a:xfrm>
                <a:off x="3308400" y="5511960"/>
                <a:ext cx="3078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Text Box 53"/>
          <p:cNvSpPr/>
          <p:nvPr/>
        </p:nvSpPr>
        <p:spPr>
          <a:xfrm>
            <a:off x="1936080" y="572940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6637320" y="55134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7 Flecha abajo"/>
          <p:cNvSpPr/>
          <p:nvPr/>
        </p:nvSpPr>
        <p:spPr>
          <a:xfrm>
            <a:off x="4357800" y="2357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es de Visión entre Cuerpos Negro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54040" y="174780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qu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60520" y="24210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1476360" y="3789360"/>
                <a:ext cx="62355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8"/>
              <p:cNvSpPr txBox="1"/>
              <p:nvPr/>
            </p:nvSpPr>
            <p:spPr>
              <a:xfrm>
                <a:off x="2898720" y="534348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Text Box 11"/>
          <p:cNvSpPr/>
          <p:nvPr/>
        </p:nvSpPr>
        <p:spPr>
          <a:xfrm>
            <a:off x="3143160" y="5987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Arial"/>
              </a:rPr>
              <a:t>relación de recipr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11280" y="1521000"/>
            <a:ext cx="7978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erficies con formas de discos, cuadrados y rectángulos, colocados en forma paralela a cierta distancia entre sí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  Superficies con formas de discos, cuadrados y rectángulos, colocados en forma paralela a cierta distancia entre sí, pero conectados por paredes re – radiantes, adiabáticas o refract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30508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1913760" y="308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3"/>
          <p:cNvSpPr/>
          <p:nvPr/>
        </p:nvSpPr>
        <p:spPr>
          <a:xfrm>
            <a:off x="3891960" y="309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2449440" y="3282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V="1">
            <a:off x="2449440" y="2925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6"/>
          <p:cNvSpPr/>
          <p:nvPr/>
        </p:nvSpPr>
        <p:spPr>
          <a:xfrm>
            <a:off x="2449440" y="3497400"/>
            <a:ext cx="1224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V="1">
            <a:off x="2449440" y="24256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8"/>
          <p:cNvSpPr/>
          <p:nvPr/>
        </p:nvSpPr>
        <p:spPr>
          <a:xfrm>
            <a:off x="2449440" y="36399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2397240" y="5473800"/>
            <a:ext cx="16164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 flipV="1">
            <a:off x="2558880" y="5473800"/>
            <a:ext cx="630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5"/>
          <p:cNvSpPr/>
          <p:nvPr/>
        </p:nvSpPr>
        <p:spPr>
          <a:xfrm>
            <a:off x="2558880" y="59864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9"/>
          <p:cNvSpPr/>
          <p:nvPr/>
        </p:nvSpPr>
        <p:spPr>
          <a:xfrm>
            <a:off x="2397240" y="5329080"/>
            <a:ext cx="1376280" cy="1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0"/>
          <p:cNvSpPr/>
          <p:nvPr/>
        </p:nvSpPr>
        <p:spPr>
          <a:xfrm>
            <a:off x="3189240" y="5473800"/>
            <a:ext cx="441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1"/>
          <p:cNvSpPr/>
          <p:nvPr/>
        </p:nvSpPr>
        <p:spPr>
          <a:xfrm flipV="1">
            <a:off x="3059280" y="5986440"/>
            <a:ext cx="571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8"/>
              <p:cNvSpPr txBox="1"/>
              <p:nvPr/>
            </p:nvSpPr>
            <p:spPr>
              <a:xfrm>
                <a:off x="5000760" y="5788080"/>
                <a:ext cx="28065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9"/>
              <p:cNvSpPr txBox="1"/>
              <p:nvPr/>
            </p:nvSpPr>
            <p:spPr>
              <a:xfrm>
                <a:off x="5000760" y="3071880"/>
                <a:ext cx="2800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Rectangle 30"/>
          <p:cNvSpPr/>
          <p:nvPr/>
        </p:nvSpPr>
        <p:spPr>
          <a:xfrm>
            <a:off x="371484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2397240" y="6558120"/>
            <a:ext cx="1376280" cy="15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3611520" y="5486400"/>
            <a:ext cx="16200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55 Conector recto de flecha"/>
          <p:cNvCxnSpPr/>
          <p:nvPr/>
        </p:nvCxnSpPr>
        <p:spPr>
          <a:xfrm>
            <a:off x="2558520" y="5985000"/>
            <a:ext cx="1001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Text Box 32"/>
          <p:cNvSpPr/>
          <p:nvPr/>
        </p:nvSpPr>
        <p:spPr>
          <a:xfrm>
            <a:off x="2048760" y="584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847320" y="5846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890640" y="1714680"/>
            <a:ext cx="396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fine el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factor de intercambio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ara superficies conectadas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4"/>
              <p:cNvSpPr txBox="1"/>
              <p:nvPr/>
            </p:nvSpPr>
            <p:spPr>
              <a:xfrm>
                <a:off x="4859280" y="173052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5" name="Picture 12" descr="factor forma"/>
          <p:cNvPicPr/>
          <p:nvPr/>
        </p:nvPicPr>
        <p:blipFill>
          <a:blip r:embed="rId1"/>
          <a:stretch/>
        </p:blipFill>
        <p:spPr>
          <a:xfrm>
            <a:off x="1833480" y="2673360"/>
            <a:ext cx="5310360" cy="41403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4"/>
          <p:cNvSpPr/>
          <p:nvPr/>
        </p:nvSpPr>
        <p:spPr>
          <a:xfrm>
            <a:off x="909000" y="6378480"/>
            <a:ext cx="761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Curvas 1, 2, 3 y 4 planos no conectados (a). Curvas 5, 6, 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28760" y="1846440"/>
            <a:ext cx="816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de factor de intercambio aplicable en el caso en que las áreas son convex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cumple también qu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429000" y="2735280"/>
                <a:ext cx="1973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Text Box 11"/>
          <p:cNvSpPr/>
          <p:nvPr/>
        </p:nvSpPr>
        <p:spPr>
          <a:xfrm>
            <a:off x="285840" y="3708360"/>
            <a:ext cx="801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diación desde un plano radiante a un banco de tubos posicionados frente a una pared refractaria que absorbe la energía de los rayos que pasan entre los tubos, la re – irradia y re – irradia la energía absorbida sobre la parte trasera de los tub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57120" y="1701720"/>
            <a:ext cx="8286840" cy="1656000"/>
          </a:xfrm>
          <a:prstGeom prst="rect">
            <a:avLst/>
          </a:prstGeom>
          <a:noFill/>
          <a:ln w="255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2817720" y="480204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8893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3228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37530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18608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46195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50497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0"/>
          <p:cNvSpPr/>
          <p:nvPr/>
        </p:nvSpPr>
        <p:spPr>
          <a:xfrm>
            <a:off x="54831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2"/>
          <p:cNvSpPr/>
          <p:nvPr/>
        </p:nvSpPr>
        <p:spPr>
          <a:xfrm>
            <a:off x="310500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5384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39686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5"/>
          <p:cNvSpPr/>
          <p:nvPr/>
        </p:nvSpPr>
        <p:spPr>
          <a:xfrm>
            <a:off x="44020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6"/>
          <p:cNvSpPr/>
          <p:nvPr/>
        </p:nvSpPr>
        <p:spPr>
          <a:xfrm>
            <a:off x="48322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526572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8"/>
          <p:cNvSpPr/>
          <p:nvPr/>
        </p:nvSpPr>
        <p:spPr>
          <a:xfrm flipH="1">
            <a:off x="2817720" y="6170760"/>
            <a:ext cx="30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 flipH="1">
            <a:off x="5986080" y="58831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0"/>
          <p:cNvSpPr/>
          <p:nvPr/>
        </p:nvSpPr>
        <p:spPr>
          <a:xfrm flipH="1">
            <a:off x="5986080" y="54514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6602040" y="5289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598800" y="57229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5854320" y="624348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53320" y="47862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8" descr="factor forma tubos"/>
          <p:cNvPicPr/>
          <p:nvPr/>
        </p:nvPicPr>
        <p:blipFill>
          <a:blip r:embed="rId1"/>
          <a:srcRect l="0" t="1675" r="0" b="8942"/>
          <a:stretch/>
        </p:blipFill>
        <p:spPr>
          <a:xfrm>
            <a:off x="142920" y="1643040"/>
            <a:ext cx="4010040" cy="500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0"/>
          <p:cNvSpPr/>
          <p:nvPr/>
        </p:nvSpPr>
        <p:spPr>
          <a:xfrm>
            <a:off x="3725640" y="1857240"/>
            <a:ext cx="54126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adiación absorbida por los tubos calcu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o fracción de aquella absorbida po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lano paralelo de área igual a la de la pared refrac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entre Superficies Grises Finit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22400" y="1538280"/>
            <a:ext cx="86976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ste caso una fracción de la radiación recibida por cada superficie es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otra superfic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calor transferido se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el caso de dos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superficies planas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grise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it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aso de planos grises conectados por paredes re – radiantes se us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anterior pero usando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4265640" y="2290680"/>
                <a:ext cx="2949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2928960" y="3598920"/>
                <a:ext cx="3313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3975120" y="5286240"/>
                <a:ext cx="311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Efecto Invernade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99240" y="164304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s gruesas de sólidos o líquidos son opacas y absorben toda la radiación que no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flejada, sin transmitir 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lículas delgadas de la mayoría de los sólidos y líquidos absorben sólo una frac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a radiación y el resto la transmiten (dependiendo del espesor de la película y l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de la radi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86440" y="355932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d8047"/>
                </a:solidFill>
                <a:latin typeface="Arial"/>
              </a:rPr>
              <a:t>Láminas de vidri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3854520" y="3743280"/>
            <a:ext cx="5763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590000" y="3273480"/>
            <a:ext cx="40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Transpar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bajas, o sea, en la zona vi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87120" y="3916440"/>
            <a:ext cx="360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Opa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da al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 rot="16200000">
            <a:off x="1560960" y="5108760"/>
            <a:ext cx="1584360" cy="2627280"/>
          </a:xfrm>
          <a:prstGeom prst="can">
            <a:avLst>
              <a:gd name="adj" fmla="val 22305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785880" y="6494400"/>
            <a:ext cx="31669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1003320" y="6494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1506600" y="5126040"/>
            <a:ext cx="43164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186696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>
            <a:off x="2443320" y="505296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273060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3090960" y="4189320"/>
            <a:ext cx="64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0"/>
          <p:cNvSpPr/>
          <p:nvPr/>
        </p:nvSpPr>
        <p:spPr>
          <a:xfrm flipH="1">
            <a:off x="3017520" y="512604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2199240" y="407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1887480" y="620568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H="1" flipV="1">
            <a:off x="157788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 flipV="1">
            <a:off x="193824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 flipV="1">
            <a:off x="2298600" y="562896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V="1">
            <a:off x="244332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 flipV="1">
            <a:off x="273060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8"/>
          <p:cNvSpPr/>
          <p:nvPr/>
        </p:nvSpPr>
        <p:spPr>
          <a:xfrm flipH="1" flipV="1">
            <a:off x="3593880" y="6060960"/>
            <a:ext cx="649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9"/>
          <p:cNvSpPr/>
          <p:nvPr/>
        </p:nvSpPr>
        <p:spPr>
          <a:xfrm>
            <a:off x="4299840" y="5786280"/>
            <a:ext cx="31536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70c0"/>
                </a:solidFill>
                <a:uFillTx/>
                <a:latin typeface="Tahoma"/>
              </a:rPr>
              <a:t>ATMÓSF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-&gt; Absorben, reflejan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7:35:34Z</dcterms:modified>
  <cp:revision>129</cp:revision>
  <dc:subject/>
  <dc:title>Unidad 1:  Transferencia de calor</dc:title>
</cp:coreProperties>
</file>