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7342-A689-4814-94B8-5177B5912BE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4481-5C78-41F8-A593-EA0C83E8ED4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BC0D-1EC0-43DA-85CC-FE5F16BCFE1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751B-68E6-469A-8BB8-AAABC8537C5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00CA-AEE6-4C87-A81C-BF9E6C746E4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E88D-40B3-4E9F-B436-339C8A7F899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153-B850-400B-8B94-1B72A88E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474-890D-420E-9C2D-791B9BD8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0BA-31D0-4EB1-A4A8-2094C019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836-1DB0-42A2-ACC1-C0F1A948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97CD-C443-453A-8509-C30D8509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BBF9-19AD-4DA5-B1DD-DFFC3E12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56EF-1917-42C7-82B2-6268D825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15B2-C49E-4AD7-952E-8DE6CCE1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7D9A-057D-441E-AD3A-04BB46E7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3298-C215-42AC-8BC7-4C17633A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12C8-6542-455A-A1AB-8122BC09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C8D-9286-4A9F-A795-5A042B8D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D963-5C62-45E5-A328-6BE71738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38A6-2C99-4B26-AD81-57CB9020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3E1B-A85D-4799-AB64-A79C8E19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4DF6-7075-4485-A2DB-CD2F4E24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F151-F8DA-476E-AC68-B1D9564C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CF638-CC17-43B8-9C38-23C69BE3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59EBD-7126-44C2-ABD5-28C28B30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9A97E-B797-4D3C-809E-49DB7C3F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CDB7C-334D-479A-B37F-DBB2E85B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7817C-F6C4-4C25-AC04-008C12C3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F70-23C7-4B19-8895-2CB73296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8548A-FD7D-46EA-B13A-6F22CABB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5E026-82A8-4F71-8C2F-61DD9F79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018BE-425C-4FF0-93F2-2D0587A4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B14A1-94D6-4533-A421-ADCF8002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2C4D7-11DD-4DFB-A3E5-40472A4B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72D5F-1E3C-413E-B6AF-D5424840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3BBC9-1914-49E4-8F4B-82CBDA76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F1511-C975-44AA-A774-A5E89890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12E92F-00F5-44FB-94D9-352C8C66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5C931B-B708-42A8-908A-ED4BD27F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592-1AA1-49F9-B854-2401B07A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8EF030-41F8-4E84-9BFA-ABF14BC5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53D73A-A49E-43B5-A3C9-1BF348E2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EBC76-1759-4935-A344-493F0528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06BEF4-4B12-4161-A845-91FBC042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D5C7E5-48BF-4C9A-8430-04393F21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90B490-3480-426A-8865-122C0A30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4EF27D-CD6D-4254-B900-7DB3BCC9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7CA00C-95ED-4ABC-83CA-00529E14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148798-FE43-4AA4-9183-56F94A3A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ED2A5-1F70-4E77-AD3C-73D81C8E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EB5-E3DC-466B-A7A3-DA0D6922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6824E-FD2A-4F2E-90C3-93356FD3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0FE11-BA06-4569-82E0-91EE9C50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1B049-7000-48FB-82C3-9C742E8E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53597-5A06-4D70-A0B4-A2248B28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FBD12-E0CB-484E-9855-F6D08533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92262-DF15-4ACF-8FA7-2CEE5F2D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40083-E7F2-41EF-8493-5005514C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5377C-150C-48AB-ACAE-25909B38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2C010-C915-4D8E-BA2F-1EE36F9C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194C73-C5BB-4FC7-B29B-58FB7C4D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32D-A4A8-4D89-939D-7653F679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D0208-2D9B-4227-B104-4B8D2104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B0BFB-E06B-409C-BA50-6647AB51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560E4-9E7D-41ED-B3A0-D034A74B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22A5B-D834-47B2-A163-660E7CDA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84AC3-66AB-4A9E-8B58-E9F49D4C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D2FE6-A6EB-4F65-8505-3B668C86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0A819-FA2E-431C-A9C1-072F7D28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CFDAC-790F-463E-881E-A1F17931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93BD4-5C6E-49EB-8038-2B65BF54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26002-37EF-488F-B047-30FFC484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C42-7435-4B3B-9578-AF1C9C7B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B7712-65E9-47BE-8C66-FABD372C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403B8-0E72-460C-9BEA-28FD4217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1B34A-4BBA-4327-B35E-7F134922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FF746-1D2C-47DA-B56B-E3842BCF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3E000E-1953-4C6B-9105-71EE77C7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71C49B-5E18-4D4D-BF40-FEDFA3EC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262CE-BD1B-41CD-986F-AA198514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AF47C6-4FCE-45B3-94FD-AA3D78BF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3E8C92-3415-4224-886A-A43670F4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EA8B3F-EA25-46CA-88C3-6260FCFA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4A82-3BD1-482D-8303-95AC6FA9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91C1D-3F0E-41B7-B29D-F7DFABAC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6BD46C-ECFA-4083-9D2E-D0E6B35F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9BA03D-999D-4F78-B352-6E564401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7BD15F-0B79-4161-8824-9F721F15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9FC8D8-24E9-41E0-B199-ADDD2C1E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C4E79-1C0A-4931-BDB3-56CE091C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4A085-78A9-4B17-876C-49261F8C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5AB28-9E03-4686-B15E-BB79A69C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703F3-16A9-4F6C-8CBE-D8997455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6E8DE-6CC1-4FBB-B727-286E6EA8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E98-6EF9-40B1-8A1A-C75E956A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B6B2B-FF0F-40C5-8491-81CBA418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54084-3E76-4C58-ABA4-1F4EFB63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05EEC-7EE8-4E2C-BBB7-B7151662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A6E47-27E7-461C-9407-DF293205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C923C-715B-407A-ADAA-32F59816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32B47-CA69-4DFB-B113-DE711386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E8813-29DE-4677-81B7-73D21C1D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25E9-98F3-458A-848C-56104A0BAF21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908C-0DF9-4AD6-8291-28461A37F83B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1C95-E428-4CA2-81A6-13A0AC22B945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6B97-FC4B-4BF7-8380-3A71FC0956FB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9CED-B676-473E-9E44-EC40546D3A6E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6064-E017-473D-866E-B83F7D3FC231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673D-20DC-4626-ACD4-A4AC9343EC68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4CCF-A577-47EC-B429-B3CA53FCC19B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14272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Fenómeno de Radiación: Radiación y Convec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040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fcfm"/>
          <p:cNvPicPr/>
          <p:nvPr/>
        </p:nvPicPr>
        <p:blipFill>
          <a:blip r:embed="rId1"/>
          <a:stretch/>
        </p:blipFill>
        <p:spPr>
          <a:xfrm>
            <a:off x="76320" y="144360"/>
            <a:ext cx="1143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y Convección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500040" y="1714680"/>
            <a:ext cx="7978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tiene una pared caliente, a temperatura 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inmersa en un fluido a temperatura 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2278080" y="2195640"/>
            <a:ext cx="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 flipH="1">
            <a:off x="2060640" y="22669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 flipH="1">
            <a:off x="2060640" y="24829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8"/>
          <p:cNvSpPr/>
          <p:nvPr/>
        </p:nvSpPr>
        <p:spPr>
          <a:xfrm flipH="1">
            <a:off x="2060640" y="27003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 flipH="1">
            <a:off x="2060640" y="29163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0"/>
          <p:cNvSpPr/>
          <p:nvPr/>
        </p:nvSpPr>
        <p:spPr>
          <a:xfrm flipH="1">
            <a:off x="2060640" y="313200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1"/>
          <p:cNvSpPr/>
          <p:nvPr/>
        </p:nvSpPr>
        <p:spPr>
          <a:xfrm flipH="1">
            <a:off x="2060640" y="334800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"/>
          <p:cNvSpPr/>
          <p:nvPr/>
        </p:nvSpPr>
        <p:spPr>
          <a:xfrm flipH="1">
            <a:off x="2060640" y="356544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"/>
          <p:cNvSpPr/>
          <p:nvPr/>
        </p:nvSpPr>
        <p:spPr>
          <a:xfrm flipH="1">
            <a:off x="2060640" y="378144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931320" y="2843280"/>
            <a:ext cx="98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red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2421000" y="2195640"/>
            <a:ext cx="100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luido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6"/>
          <p:cNvSpPr/>
          <p:nvPr/>
        </p:nvSpPr>
        <p:spPr>
          <a:xfrm>
            <a:off x="3862440" y="2611440"/>
            <a:ext cx="1123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Recinto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7"/>
          <p:cNvSpPr/>
          <p:nvPr/>
        </p:nvSpPr>
        <p:spPr>
          <a:xfrm>
            <a:off x="2349360" y="2987640"/>
            <a:ext cx="28764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 flipH="1" flipV="1">
            <a:off x="2492280" y="2916000"/>
            <a:ext cx="144720" cy="21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"/>
          <p:cNvSpPr/>
          <p:nvPr/>
        </p:nvSpPr>
        <p:spPr>
          <a:xfrm>
            <a:off x="2492280" y="2916360"/>
            <a:ext cx="432000" cy="71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0"/>
          <p:cNvSpPr/>
          <p:nvPr/>
        </p:nvSpPr>
        <p:spPr>
          <a:xfrm>
            <a:off x="2923920" y="277164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1"/>
          <p:cNvSpPr/>
          <p:nvPr/>
        </p:nvSpPr>
        <p:spPr>
          <a:xfrm>
            <a:off x="5577120" y="2500200"/>
            <a:ext cx="2550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alor disipado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55d7e"/>
                </a:solidFill>
                <a:latin typeface="Arial"/>
              </a:rPr>
              <a:t>conve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radi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4"/>
          <p:cNvSpPr/>
          <p:nvPr/>
        </p:nvSpPr>
        <p:spPr>
          <a:xfrm>
            <a:off x="1773360" y="4143240"/>
            <a:ext cx="1369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g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827640" y="4591080"/>
            <a:ext cx="2709000" cy="337320"/>
          </a:xfrm>
          <a:prstGeom prst="rect">
            <a:avLst/>
          </a:prstGeom>
          <a:noFill/>
          <a:ln w="381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ff0000"/>
                </a:solidFill>
                <a:uFillTx/>
                <a:latin typeface="Arial"/>
              </a:rPr>
              <a:t>Calor disipado por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7"/>
              <p:cNvSpPr txBox="1"/>
              <p:nvPr/>
            </p:nvSpPr>
            <p:spPr>
              <a:xfrm>
                <a:off x="217440" y="5203800"/>
                <a:ext cx="3997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8"/>
              <p:cNvSpPr txBox="1"/>
              <p:nvPr/>
            </p:nvSpPr>
            <p:spPr>
              <a:xfrm>
                <a:off x="1387440" y="5786280"/>
                <a:ext cx="139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1" name="Text Box 27"/>
          <p:cNvSpPr/>
          <p:nvPr/>
        </p:nvSpPr>
        <p:spPr>
          <a:xfrm>
            <a:off x="5185080" y="4591080"/>
            <a:ext cx="2902680" cy="337320"/>
          </a:xfrm>
          <a:prstGeom prst="rect">
            <a:avLst/>
          </a:prstGeom>
          <a:noFill/>
          <a:ln w="381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355d7e"/>
                </a:solidFill>
                <a:uFillTx/>
                <a:latin typeface="Arial"/>
              </a:rPr>
              <a:t>Calor disipado por conv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19"/>
              <p:cNvSpPr txBox="1"/>
              <p:nvPr/>
            </p:nvSpPr>
            <p:spPr>
              <a:xfrm>
                <a:off x="5715000" y="5214960"/>
                <a:ext cx="1874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20"/>
              <p:cNvSpPr txBox="1"/>
              <p:nvPr/>
            </p:nvSpPr>
            <p:spPr>
              <a:xfrm>
                <a:off x="5924520" y="5861160"/>
                <a:ext cx="15051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4" name="Line 30"/>
          <p:cNvSpPr/>
          <p:nvPr/>
        </p:nvSpPr>
        <p:spPr>
          <a:xfrm>
            <a:off x="2857680" y="6072120"/>
            <a:ext cx="431640" cy="0"/>
          </a:xfrm>
          <a:prstGeom prst="line">
            <a:avLst/>
          </a:prstGeom>
          <a:ln w="25560">
            <a:solidFill>
              <a:srgbClr val="355d7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1"/>
          <p:cNvSpPr/>
          <p:nvPr/>
        </p:nvSpPr>
        <p:spPr>
          <a:xfrm>
            <a:off x="3286080" y="591012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55d7e"/>
                </a:solidFill>
                <a:latin typeface="Tahoma"/>
              </a:rPr>
              <a:t>Gráfic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y Convección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h radiación"/>
          <p:cNvPicPr/>
          <p:nvPr/>
        </p:nvPicPr>
        <p:blipFill>
          <a:blip r:embed="rId1"/>
          <a:srcRect l="4675" t="4105" r="8068" b="1652"/>
          <a:stretch/>
        </p:blipFill>
        <p:spPr>
          <a:xfrm>
            <a:off x="1139760" y="2013120"/>
            <a:ext cx="4218120" cy="47145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5"/>
          <p:cNvSpPr/>
          <p:nvPr/>
        </p:nvSpPr>
        <p:spPr>
          <a:xfrm>
            <a:off x="1980360" y="1571760"/>
            <a:ext cx="5054760" cy="4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55d7e"/>
                </a:solidFill>
                <a:uFillTx/>
                <a:latin typeface="Arial"/>
              </a:rPr>
              <a:t>Gráfico para determinar h</a:t>
            </a:r>
            <a:r>
              <a:rPr b="0" lang="es-ES" sz="1800" spc="-1" strike="noStrike" u="sng" baseline="-25000">
                <a:solidFill>
                  <a:srgbClr val="355d7e"/>
                </a:solidFill>
                <a:uFillTx/>
                <a:latin typeface="Arial"/>
              </a:rPr>
              <a:t>r</a:t>
            </a:r>
            <a:r>
              <a:rPr b="0" lang="es-ES" sz="1800" spc="-1" strike="noStrike" u="sng">
                <a:solidFill>
                  <a:srgbClr val="355d7e"/>
                </a:solidFill>
                <a:uFillTx/>
                <a:latin typeface="Arial"/>
              </a:rPr>
              <a:t> en función de T</a:t>
            </a:r>
            <a:r>
              <a:rPr b="0" lang="es-ES" sz="1800" spc="-1" strike="noStrike" u="sng" baseline="-25000">
                <a:solidFill>
                  <a:srgbClr val="355d7e"/>
                </a:solidFill>
                <a:uFillTx/>
                <a:latin typeface="Arial"/>
              </a:rPr>
              <a:t>1</a:t>
            </a:r>
            <a:r>
              <a:rPr b="0" lang="es-ES" sz="1800" spc="-1" strike="noStrike" u="sng">
                <a:solidFill>
                  <a:srgbClr val="355d7e"/>
                </a:solidFill>
                <a:uFillTx/>
                <a:latin typeface="Arial"/>
              </a:rPr>
              <a:t> y T</a:t>
            </a:r>
            <a:r>
              <a:rPr b="0" lang="es-ES" sz="1800" spc="-1" strike="noStrike" u="sng" baseline="-25000">
                <a:solidFill>
                  <a:srgbClr val="355d7e"/>
                </a:solidFill>
                <a:uFillTx/>
                <a:latin typeface="Arial"/>
              </a:rPr>
              <a:t>3</a:t>
            </a:r>
            <a:r>
              <a:rPr b="0" lang="es-ES" sz="1800" spc="-1" strike="noStrike" u="sng">
                <a:solidFill>
                  <a:srgbClr val="355d7e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6000840" y="626436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0c0"/>
                </a:solidFill>
                <a:latin typeface="Arial"/>
              </a:rPr>
              <a:t>Temperatura del cuerpo frí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857920" y="319248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Temperatura del cuerpo ca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8 Conector recto de flecha"/>
          <p:cNvCxnSpPr/>
          <p:nvPr/>
        </p:nvCxnSpPr>
        <p:spPr>
          <a:xfrm flipH="1" flipV="1">
            <a:off x="4428720" y="3427200"/>
            <a:ext cx="13579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3" name="10 Conector recto de flecha"/>
          <p:cNvCxnSpPr/>
          <p:nvPr/>
        </p:nvCxnSpPr>
        <p:spPr>
          <a:xfrm flipH="1" flipV="1">
            <a:off x="5428800" y="6428520"/>
            <a:ext cx="572400" cy="2520"/>
          </a:xfrm>
          <a:prstGeom prst="straightConnector1">
            <a:avLst/>
          </a:prstGeom>
          <a:ln w="19080">
            <a:solidFill>
              <a:srgbClr val="355d7e"/>
            </a:solidFill>
            <a:miter/>
            <a:tailEnd len="med" type="triangle" w="med"/>
          </a:ln>
        </p:spPr>
      </p:cxnSp>
      <p:sp>
        <p:nvSpPr>
          <p:cNvPr id="404" name="Text Box 4"/>
          <p:cNvSpPr/>
          <p:nvPr/>
        </p:nvSpPr>
        <p:spPr>
          <a:xfrm>
            <a:off x="785880" y="387684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2060"/>
                </a:solidFill>
                <a:latin typeface="Arial"/>
              </a:rPr>
              <a:t>h</a:t>
            </a:r>
            <a:r>
              <a:rPr b="1" lang="es-ES" sz="1600" spc="-1" strike="noStrike" baseline="-25000">
                <a:solidFill>
                  <a:srgbClr val="00206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614160" y="1746360"/>
            <a:ext cx="7661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b0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b0f0"/>
                </a:solidFill>
                <a:uFillTx/>
                <a:latin typeface="Arial"/>
              </a:rPr>
              <a:t>Experimento: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dimos la temperatura de un recinto con una termocupla o termóme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b0f0"/>
                </a:solidFill>
                <a:uFillTx/>
                <a:latin typeface="Arial"/>
              </a:rPr>
              <a:t>Problema: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lectura se puede ver afectada por efecto de la radiación (presencia de una p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 cuerpo caliente a temperatura diferente a la del fluid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>
            <a:off x="1643040" y="3714840"/>
            <a:ext cx="360360" cy="0"/>
          </a:xfrm>
          <a:prstGeom prst="line">
            <a:avLst/>
          </a:prstGeom>
          <a:ln w="50760">
            <a:solidFill>
              <a:srgbClr val="b95b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118240" y="3519360"/>
            <a:ext cx="447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f0"/>
                </a:solidFill>
                <a:latin typeface="Arial"/>
              </a:rPr>
              <a:t>IMPORTANTE!</a:t>
            </a:r>
            <a:r>
              <a:rPr b="0" lang="es-ES" sz="1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dir temperatura a la somb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8"/>
          <p:cNvSpPr/>
          <p:nvPr/>
        </p:nvSpPr>
        <p:spPr>
          <a:xfrm>
            <a:off x="4151160" y="4500720"/>
            <a:ext cx="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9"/>
          <p:cNvSpPr/>
          <p:nvPr/>
        </p:nvSpPr>
        <p:spPr>
          <a:xfrm flipH="1">
            <a:off x="3933720" y="457200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0"/>
          <p:cNvSpPr/>
          <p:nvPr/>
        </p:nvSpPr>
        <p:spPr>
          <a:xfrm flipH="1">
            <a:off x="3933720" y="478800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1"/>
          <p:cNvSpPr/>
          <p:nvPr/>
        </p:nvSpPr>
        <p:spPr>
          <a:xfrm flipH="1">
            <a:off x="3933720" y="500544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3933720" y="522144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3"/>
          <p:cNvSpPr/>
          <p:nvPr/>
        </p:nvSpPr>
        <p:spPr>
          <a:xfrm flipH="1">
            <a:off x="3933720" y="54370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4"/>
          <p:cNvSpPr/>
          <p:nvPr/>
        </p:nvSpPr>
        <p:spPr>
          <a:xfrm flipH="1">
            <a:off x="3933720" y="56530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5"/>
          <p:cNvSpPr/>
          <p:nvPr/>
        </p:nvSpPr>
        <p:spPr>
          <a:xfrm flipH="1">
            <a:off x="3933720" y="58705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6"/>
          <p:cNvSpPr/>
          <p:nvPr/>
        </p:nvSpPr>
        <p:spPr>
          <a:xfrm flipH="1">
            <a:off x="3933720" y="60865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7"/>
          <p:cNvSpPr/>
          <p:nvPr/>
        </p:nvSpPr>
        <p:spPr>
          <a:xfrm>
            <a:off x="2585880" y="5064120"/>
            <a:ext cx="113364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uerp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aliente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4459320" y="4429080"/>
            <a:ext cx="115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luido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9"/>
          <p:cNvSpPr/>
          <p:nvPr/>
        </p:nvSpPr>
        <p:spPr>
          <a:xfrm>
            <a:off x="5754600" y="4700520"/>
            <a:ext cx="1532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ermocupla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4222800" y="5292720"/>
            <a:ext cx="28728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1"/>
          <p:cNvSpPr/>
          <p:nvPr/>
        </p:nvSpPr>
        <p:spPr>
          <a:xfrm flipH="1" flipV="1">
            <a:off x="4365360" y="5221080"/>
            <a:ext cx="144360" cy="21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2"/>
          <p:cNvSpPr/>
          <p:nvPr/>
        </p:nvSpPr>
        <p:spPr>
          <a:xfrm>
            <a:off x="4365720" y="5221440"/>
            <a:ext cx="431640" cy="71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4797360" y="507672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24"/>
          <p:cNvSpPr/>
          <p:nvPr/>
        </p:nvSpPr>
        <p:spPr>
          <a:xfrm>
            <a:off x="5610240" y="5437080"/>
            <a:ext cx="144360" cy="144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25"/>
          <p:cNvSpPr/>
          <p:nvPr/>
        </p:nvSpPr>
        <p:spPr>
          <a:xfrm flipV="1">
            <a:off x="5610240" y="5149440"/>
            <a:ext cx="43344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V="1">
            <a:off x="5683320" y="5365800"/>
            <a:ext cx="503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7"/>
          <p:cNvSpPr/>
          <p:nvPr/>
        </p:nvSpPr>
        <p:spPr>
          <a:xfrm>
            <a:off x="569160" y="40006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La situación se representa como sig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3606840" y="6375240"/>
            <a:ext cx="1139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g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655920" y="1708200"/>
            <a:ext cx="469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onces, en el equilibrio del sist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b0f0"/>
                </a:solidFill>
                <a:latin typeface="Arial"/>
              </a:rPr>
              <a:t>El cuerpo caliente irradia hacia la termocupl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b0f0"/>
                </a:solidFill>
                <a:latin typeface="Arial"/>
              </a:rPr>
              <a:t>La termocupla disipa calor a través del flu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14"/>
              <p:cNvSpPr txBox="1"/>
              <p:nvPr/>
            </p:nvSpPr>
            <p:spPr>
              <a:xfrm>
                <a:off x="2851200" y="2960640"/>
                <a:ext cx="36496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5"/>
              <p:cNvSpPr txBox="1"/>
              <p:nvPr/>
            </p:nvSpPr>
            <p:spPr>
              <a:xfrm>
                <a:off x="3571920" y="3975120"/>
                <a:ext cx="2333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6"/>
              <p:cNvSpPr txBox="1"/>
              <p:nvPr/>
            </p:nvSpPr>
            <p:spPr>
              <a:xfrm>
                <a:off x="3009960" y="4149720"/>
                <a:ext cx="347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Text Box 9"/>
          <p:cNvSpPr/>
          <p:nvPr/>
        </p:nvSpPr>
        <p:spPr>
          <a:xfrm>
            <a:off x="1931760" y="5073480"/>
            <a:ext cx="528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d8047"/>
                </a:solidFill>
                <a:latin typeface="Arial"/>
              </a:rPr>
              <a:t>Termocupla se estabiliza a temperatura mayor qu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d8047"/>
                </a:solidFill>
                <a:latin typeface="Arial"/>
              </a:rPr>
              <a:t>temperatura que tiene realmente el flui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1941840" y="5916600"/>
            <a:ext cx="544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d8047"/>
                </a:solidFill>
                <a:latin typeface="Arial"/>
              </a:rPr>
              <a:t>Necesario proteger el instrumento contra la radia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d8047"/>
                </a:solidFill>
                <a:latin typeface="Arial"/>
              </a:rPr>
              <a:t>(Material de baja emisividad, escudo de radi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24 Flecha derecha"/>
          <p:cNvSpPr/>
          <p:nvPr/>
        </p:nvSpPr>
        <p:spPr>
          <a:xfrm>
            <a:off x="1285920" y="5202360"/>
            <a:ext cx="42876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25 Flecha derecha"/>
          <p:cNvSpPr/>
          <p:nvPr/>
        </p:nvSpPr>
        <p:spPr>
          <a:xfrm>
            <a:off x="1285920" y="60008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428760" y="1643040"/>
            <a:ext cx="835812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 termómetro de vidrio (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0.96) se inserta en el centro de un ducto circular. Por el 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luye aire con una velocidad tal que el coeficiente de película entre el termómetro y el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17.7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BTU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hr – ft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 – ºF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las paredes del ducto están a 800 ºF y el termómetro lee 300 ºF, calcular la temperatura del aire en el duc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el termómetro se rodea con papel plateado (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0.03), determinar la nueva le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termómetr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h radiación"/>
          <p:cNvPicPr/>
          <p:nvPr/>
        </p:nvPicPr>
        <p:blipFill>
          <a:blip r:embed="rId1"/>
          <a:srcRect l="5267" t="3811" r="7896" b="2088"/>
          <a:stretch/>
        </p:blipFill>
        <p:spPr>
          <a:xfrm>
            <a:off x="285840" y="1571760"/>
            <a:ext cx="4714920" cy="5286240"/>
          </a:xfrm>
          <a:prstGeom prst="rect">
            <a:avLst/>
          </a:prstGeom>
          <a:ln w="0">
            <a:noFill/>
          </a:ln>
        </p:spPr>
      </p:pic>
      <p:sp>
        <p:nvSpPr>
          <p:cNvPr id="449" name="Line 7"/>
          <p:cNvSpPr/>
          <p:nvPr/>
        </p:nvSpPr>
        <p:spPr>
          <a:xfrm flipV="1">
            <a:off x="1285920" y="4357440"/>
            <a:ext cx="0" cy="2089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8"/>
          <p:cNvSpPr/>
          <p:nvPr/>
        </p:nvSpPr>
        <p:spPr>
          <a:xfrm flipH="1">
            <a:off x="785880" y="442908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1009440" y="6510240"/>
            <a:ext cx="628920" cy="276480"/>
          </a:xfrm>
          <a:prstGeom prst="rect">
            <a:avLst/>
          </a:prstGeom>
          <a:solidFill>
            <a:srgbClr val="94b6d2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300 º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389520" y="4286160"/>
            <a:ext cx="394200" cy="276480"/>
          </a:xfrm>
          <a:prstGeom prst="rect">
            <a:avLst/>
          </a:prstGeom>
          <a:solidFill>
            <a:srgbClr val="94b6d2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4867920" y="171468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) Se tiene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19"/>
              <p:cNvSpPr txBox="1"/>
              <p:nvPr/>
            </p:nvSpPr>
            <p:spPr>
              <a:xfrm>
                <a:off x="4929120" y="2266920"/>
                <a:ext cx="40323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0"/>
              <p:cNvSpPr txBox="1"/>
              <p:nvPr/>
            </p:nvSpPr>
            <p:spPr>
              <a:xfrm>
                <a:off x="4923000" y="3511440"/>
                <a:ext cx="34351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1"/>
              <p:cNvSpPr txBox="1"/>
              <p:nvPr/>
            </p:nvSpPr>
            <p:spPr>
              <a:xfrm>
                <a:off x="5987880" y="4857840"/>
                <a:ext cx="14148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º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35880" y="1714680"/>
            <a:ext cx="840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) En este caso la temperatura del papel será intermedia entre la temperatura de la pare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temperatura del aire. En el caso extremo se consid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3741840" y="2478240"/>
            <a:ext cx="154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pared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 = T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1268280" y="3071880"/>
            <a:ext cx="64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95b22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b95b22"/>
                </a:solidFill>
                <a:latin typeface="Arial"/>
              </a:rPr>
              <a:t>No existe conducción ni convección entre el papel y el flujo de aire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435240" y="346860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onc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18"/>
              <p:cNvSpPr txBox="1"/>
              <p:nvPr/>
            </p:nvSpPr>
            <p:spPr>
              <a:xfrm>
                <a:off x="642960" y="4011480"/>
                <a:ext cx="376560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pe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apel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19"/>
              <p:cNvSpPr txBox="1"/>
              <p:nvPr/>
            </p:nvSpPr>
            <p:spPr>
              <a:xfrm>
                <a:off x="5000760" y="4044960"/>
                <a:ext cx="33130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Line 10"/>
          <p:cNvSpPr/>
          <p:nvPr/>
        </p:nvSpPr>
        <p:spPr>
          <a:xfrm>
            <a:off x="2411280" y="5000760"/>
            <a:ext cx="0" cy="360360"/>
          </a:xfrm>
          <a:prstGeom prst="line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1486080" y="5416560"/>
            <a:ext cx="187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 = f(T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papel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,T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2"/>
          <p:cNvSpPr/>
          <p:nvPr/>
        </p:nvSpPr>
        <p:spPr>
          <a:xfrm>
            <a:off x="2411280" y="5857920"/>
            <a:ext cx="0" cy="360360"/>
          </a:xfrm>
          <a:prstGeom prst="line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1005840" y="6286680"/>
            <a:ext cx="277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95b22"/>
                </a:solidFill>
                <a:latin typeface="Arial"/>
              </a:rPr>
              <a:t>Iterar!</a:t>
            </a:r>
            <a:r>
              <a:rPr b="0" lang="es-ES" sz="1800" spc="-1" strike="noStrike">
                <a:solidFill>
                  <a:srgbClr val="b95b22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respecto a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5"/>
          <p:cNvSpPr/>
          <p:nvPr/>
        </p:nvSpPr>
        <p:spPr>
          <a:xfrm>
            <a:off x="3872880" y="6286680"/>
            <a:ext cx="1317240" cy="405720"/>
          </a:xfrm>
          <a:prstGeom prst="rect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101 º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6:41Z</dcterms:created>
  <dc:creator>Meli Paloma</dc:creator>
  <dc:description/>
  <dc:language>en-US</dc:language>
  <cp:lastModifiedBy>Meli</cp:lastModifiedBy>
  <dcterms:modified xsi:type="dcterms:W3CDTF">2008-09-24T01:41:39Z</dcterms:modified>
  <cp:revision>119</cp:revision>
  <dc:subject/>
  <dc:title>Unidad 1:  Transferencia de calor</dc:title>
</cp:coreProperties>
</file>