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484C-73F0-4003-9F53-20FF4E51CD8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79B5-6EEB-4EC6-8264-A4F5FA3E6C2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5B86-1823-46CD-BC21-F37449D6C10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162E-9407-4CAB-9713-A6D510CA2A1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226C-E228-4023-8B55-72150FA2CD0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4DBD-755E-4774-8070-07F7B813AA3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B03-6465-4EAD-B847-B76F5F4C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BE73-E6A7-4365-9B42-2F7B0A52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003-D167-4291-BD42-7A8D735E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375-3036-45FC-A5A1-16F6BBB3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491A-78E7-4504-BF55-362F12FD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E2F4-196C-4369-B824-D4FCF198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1092-2A18-4E29-80F1-32F8F3FC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A6F2-312F-41AB-96D9-07A35367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31FC-E91A-468C-ABB6-E563FA7D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74C2-0B13-4C36-8D33-ED55F29E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903F-5992-4A21-876D-1D6ED20A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CF8-0A25-4AD0-BC6C-C1F11AA5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3564-AE3A-4BA6-9BB7-616E70B2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CDEC-1568-4134-9011-E88AE571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714F-7D60-49DF-AD0C-CFF878A3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2B9E-1D58-49BB-82A8-EF86DA41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987C-E253-4399-9D9E-2258A1D9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0DB29-4D66-4F04-A106-0AA9BE97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1E9E7-CD4C-4739-BD29-94E5FAFD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1550B-8696-427E-9192-8A6573E3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A7573-381D-4783-81F9-FDC8A492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A027C-6CB5-4995-8C92-C02B4A11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D92-891A-484E-B836-94DF794B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73349-B587-4BCB-B0B8-BB36002A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69F16B-AF50-47BF-999D-7212475F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09737-7F24-4A73-95D8-12EE347C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644A3-42C2-4574-A89E-168B458A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8981E-A7C0-4398-B0B6-DD7DE919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7F622-186E-4A6F-A15B-42BFDAED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7F1CC-14D4-40F0-BD41-997A818B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14122-11EC-4D05-A797-9829E0DD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36A195-9351-4789-A010-52248662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2AD517-8F3D-491E-8A13-9CD3ABA3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CABB-6165-464A-A8CF-8EFEFBD4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5EC1F-45A9-46E0-92BB-86DC28ED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71E5F-49C5-4D69-8AC7-AFEADF64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F41A7F-4116-4AB6-8D43-7CE46D64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CA22E6-BE42-489C-997F-95C2E0BE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3CF3DE-4BA4-42B9-A29E-EE3C9637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8E221A-C338-4E4E-811A-C2F667AD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419698-9D21-448E-A15E-E44910FF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187BFE-FF3D-4C3D-A7B4-03A1D6FB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37EB90-6E74-4BBA-81EE-8DA99FCA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AB063C-B9AE-4505-90D8-066A77BB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6C73-C2C9-4739-96E8-557D0F32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B0A027-B667-4526-BAB2-CFE606AA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C4AFA7-1DCC-4F24-B141-F27837D9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E4CA54-7AC6-4B70-8301-339B897F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526C7-0A5D-4CE7-81ED-0FA8B9DA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24E266-9381-45B6-9CE2-A461EE39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9FF87-747A-4C7F-9821-A58DA53C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03B8B-0B58-4641-98B2-63FAEEB0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6A830E-A73E-4FD2-837A-4056576F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BFE206-E865-4F5D-AB94-8C522962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7D027D-4928-4648-829F-E0353EE0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7EE-2D35-4846-BD99-E7558970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F55CF9-FACA-4671-9107-7204ED8A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66233-D739-488B-A78E-4103A317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0F58A-6DED-4306-8D69-2CB12204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3575D-7CF6-4271-B77D-381CA1D3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6CC08-97FD-4FEF-A0D6-D3DDA582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127B6-AB47-48D0-B9A8-0B53A2BC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0852D-4F0E-4891-9F65-1A781EEF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40D86-1706-4A02-B66D-0B346036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425A3-12B3-438D-A027-F0A263C8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F96E6-E8B0-4069-B76F-D1FA3957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697-DC4F-4BCA-BD69-54C11177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DC96E-5D24-407F-A849-52F9F88C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B5A2C-A268-46CB-86A6-FF192220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27868-B615-4B5E-B6FD-9E3C4835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C6DC18-F7E1-4409-A71D-7189BC18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01BDE5-D9B7-4ED6-B218-4776B3D4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9F9953-24DC-478F-ADF2-350DBCDD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A09F0F-772E-474F-8AE1-43E3604D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5276BD-6F49-42F5-9810-9B6E05F2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862B76-2E65-4F09-81D4-11A25AB2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332712-EDCA-4745-84B6-60A3A4E6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655-6817-4F2F-A7AC-44937575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C5C9C-01DB-4634-B1E6-8D0C21BD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0AD840-662F-4953-9CD8-C68D6164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133A08-EC09-4581-8B3C-53380DD2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948F3B-EACE-409B-88EF-EDE61934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A98521-607F-4E46-88D9-4FD07BDF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EBBFE-E6B2-4611-A208-CBB9863A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AD73E-31A7-41EF-ABFD-C8606FA5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8B85C-9ECF-45F4-918F-8ED71A65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3DA43-E9D6-4CA4-86CD-4541A696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088EA-31FB-4FA9-A9B1-CD7A982B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582-555E-4194-A0B9-88757910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8FAB3-EDB2-4F25-8360-3ABB39CC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83E27-5412-429A-A607-9E85D1ED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6AA09-F050-4990-981E-2B03D9B6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233DE-B480-480E-8C40-61DC7BA8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26757-0736-415B-8E52-AB00736E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BAE01-A621-4610-BCBF-52142288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A4E5E-3549-48F8-B1D4-E26EEA03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8E11-0D7A-4BC7-9E7E-4BB30097478F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91C2-7F67-4508-B137-80412B03D927}" type="slidenum">
              <a:rPr b="1" lang="es-E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19C5-5668-4F5C-8D98-C69DC6A1E26F}" type="slidenum">
              <a:rPr b="1" lang="es-E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F65E-FE6C-441B-8A02-D717FB13C95F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BE8A-9C82-4876-B296-1F1DEF278555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D74D-4219-4009-9F9C-02AC4915C50A}" type="slidenum">
              <a:rPr b="1" lang="es-E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EC7F-BBE0-4986-81A5-9C5953926724}" type="slidenum">
              <a:rPr b="1" lang="es-E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7190-5FA6-4DE2-8015-F59DE54F59C9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3143160"/>
            <a:ext cx="6696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UNIDAD 1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TRANSFERENCIA DE CALOR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14272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Fenómeno de Radiación: Radiación y Convecció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5 CuadroTexto"/>
          <p:cNvSpPr/>
          <p:nvPr/>
        </p:nvSpPr>
        <p:spPr>
          <a:xfrm>
            <a:off x="122040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fcfm"/>
          <p:cNvPicPr/>
          <p:nvPr/>
        </p:nvPicPr>
        <p:blipFill>
          <a:blip r:embed="rId1"/>
          <a:stretch/>
        </p:blipFill>
        <p:spPr>
          <a:xfrm>
            <a:off x="76320" y="144360"/>
            <a:ext cx="11430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y Convección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500040" y="1714680"/>
            <a:ext cx="7978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tiene una pared caliente, a temperatura 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inmersa en un fluido a temperatura 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2278080" y="2195640"/>
            <a:ext cx="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 flipH="1">
            <a:off x="2060640" y="22669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 flipH="1">
            <a:off x="2060640" y="24829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8"/>
          <p:cNvSpPr/>
          <p:nvPr/>
        </p:nvSpPr>
        <p:spPr>
          <a:xfrm flipH="1">
            <a:off x="2060640" y="27003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9"/>
          <p:cNvSpPr/>
          <p:nvPr/>
        </p:nvSpPr>
        <p:spPr>
          <a:xfrm flipH="1">
            <a:off x="2060640" y="291636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0"/>
          <p:cNvSpPr/>
          <p:nvPr/>
        </p:nvSpPr>
        <p:spPr>
          <a:xfrm flipH="1">
            <a:off x="2060640" y="313200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1"/>
          <p:cNvSpPr/>
          <p:nvPr/>
        </p:nvSpPr>
        <p:spPr>
          <a:xfrm flipH="1">
            <a:off x="2060640" y="334800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2"/>
          <p:cNvSpPr/>
          <p:nvPr/>
        </p:nvSpPr>
        <p:spPr>
          <a:xfrm flipH="1">
            <a:off x="2060640" y="356544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3"/>
          <p:cNvSpPr/>
          <p:nvPr/>
        </p:nvSpPr>
        <p:spPr>
          <a:xfrm flipH="1">
            <a:off x="2060640" y="378144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931320" y="2843280"/>
            <a:ext cx="98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red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2421000" y="2195640"/>
            <a:ext cx="100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Fluido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6"/>
          <p:cNvSpPr/>
          <p:nvPr/>
        </p:nvSpPr>
        <p:spPr>
          <a:xfrm>
            <a:off x="3862440" y="2611440"/>
            <a:ext cx="1123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Recinto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7"/>
          <p:cNvSpPr/>
          <p:nvPr/>
        </p:nvSpPr>
        <p:spPr>
          <a:xfrm>
            <a:off x="2349360" y="2987640"/>
            <a:ext cx="287640" cy="1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8"/>
          <p:cNvSpPr/>
          <p:nvPr/>
        </p:nvSpPr>
        <p:spPr>
          <a:xfrm flipH="1" flipV="1">
            <a:off x="2492280" y="2916000"/>
            <a:ext cx="144720" cy="21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"/>
          <p:cNvSpPr/>
          <p:nvPr/>
        </p:nvSpPr>
        <p:spPr>
          <a:xfrm>
            <a:off x="2492280" y="2916360"/>
            <a:ext cx="432000" cy="71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0"/>
          <p:cNvSpPr/>
          <p:nvPr/>
        </p:nvSpPr>
        <p:spPr>
          <a:xfrm>
            <a:off x="2923920" y="277164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1"/>
          <p:cNvSpPr/>
          <p:nvPr/>
        </p:nvSpPr>
        <p:spPr>
          <a:xfrm>
            <a:off x="5577120" y="2500200"/>
            <a:ext cx="25506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alor disipado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55d7e"/>
                </a:solidFill>
                <a:latin typeface="Arial"/>
              </a:rPr>
              <a:t>conve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radi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4"/>
          <p:cNvSpPr/>
          <p:nvPr/>
        </p:nvSpPr>
        <p:spPr>
          <a:xfrm>
            <a:off x="1773360" y="4143240"/>
            <a:ext cx="1369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gt;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827640" y="4591080"/>
            <a:ext cx="2709000" cy="337320"/>
          </a:xfrm>
          <a:prstGeom prst="rect">
            <a:avLst/>
          </a:prstGeom>
          <a:noFill/>
          <a:ln w="3816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ff0000"/>
                </a:solidFill>
                <a:uFillTx/>
                <a:latin typeface="Arial"/>
              </a:rPr>
              <a:t>Calor disipado por rad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7"/>
              <p:cNvSpPr txBox="1"/>
              <p:nvPr/>
            </p:nvSpPr>
            <p:spPr>
              <a:xfrm>
                <a:off x="217440" y="5203800"/>
                <a:ext cx="3997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18"/>
              <p:cNvSpPr txBox="1"/>
              <p:nvPr/>
            </p:nvSpPr>
            <p:spPr>
              <a:xfrm>
                <a:off x="1387440" y="5786280"/>
                <a:ext cx="1398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1" name="Text Box 27"/>
          <p:cNvSpPr/>
          <p:nvPr/>
        </p:nvSpPr>
        <p:spPr>
          <a:xfrm>
            <a:off x="5185080" y="4591080"/>
            <a:ext cx="2902680" cy="337320"/>
          </a:xfrm>
          <a:prstGeom prst="rect">
            <a:avLst/>
          </a:prstGeom>
          <a:noFill/>
          <a:ln w="3816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355d7e"/>
                </a:solidFill>
                <a:uFillTx/>
                <a:latin typeface="Arial"/>
              </a:rPr>
              <a:t>Calor disipado por conv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19"/>
              <p:cNvSpPr txBox="1"/>
              <p:nvPr/>
            </p:nvSpPr>
            <p:spPr>
              <a:xfrm>
                <a:off x="5715000" y="5214960"/>
                <a:ext cx="18748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20"/>
              <p:cNvSpPr txBox="1"/>
              <p:nvPr/>
            </p:nvSpPr>
            <p:spPr>
              <a:xfrm>
                <a:off x="5924520" y="5861160"/>
                <a:ext cx="15051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4" name="Line 30"/>
          <p:cNvSpPr/>
          <p:nvPr/>
        </p:nvSpPr>
        <p:spPr>
          <a:xfrm>
            <a:off x="2857680" y="6072120"/>
            <a:ext cx="431640" cy="0"/>
          </a:xfrm>
          <a:prstGeom prst="line">
            <a:avLst/>
          </a:prstGeom>
          <a:ln w="25560">
            <a:solidFill>
              <a:srgbClr val="355d7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1"/>
          <p:cNvSpPr/>
          <p:nvPr/>
        </p:nvSpPr>
        <p:spPr>
          <a:xfrm>
            <a:off x="3286080" y="5910120"/>
            <a:ext cx="11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55d7e"/>
                </a:solidFill>
                <a:latin typeface="Tahoma"/>
              </a:rPr>
              <a:t>Gráfic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y Convección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h radiación"/>
          <p:cNvPicPr/>
          <p:nvPr/>
        </p:nvPicPr>
        <p:blipFill>
          <a:blip r:embed="rId1"/>
          <a:srcRect l="4675" t="4105" r="8068" b="1652"/>
          <a:stretch/>
        </p:blipFill>
        <p:spPr>
          <a:xfrm>
            <a:off x="1139760" y="2013120"/>
            <a:ext cx="4218120" cy="471456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5"/>
          <p:cNvSpPr/>
          <p:nvPr/>
        </p:nvSpPr>
        <p:spPr>
          <a:xfrm>
            <a:off x="1980360" y="1571760"/>
            <a:ext cx="5054760" cy="4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55d7e"/>
                </a:solidFill>
                <a:uFillTx/>
                <a:latin typeface="Arial"/>
              </a:rPr>
              <a:t>Gráfico para determinar h</a:t>
            </a:r>
            <a:r>
              <a:rPr b="0" lang="es-ES" sz="1800" spc="-1" strike="noStrike" u="sng" baseline="-25000">
                <a:solidFill>
                  <a:srgbClr val="355d7e"/>
                </a:solidFill>
                <a:uFillTx/>
                <a:latin typeface="Arial"/>
              </a:rPr>
              <a:t>r</a:t>
            </a:r>
            <a:r>
              <a:rPr b="0" lang="es-ES" sz="1800" spc="-1" strike="noStrike" u="sng">
                <a:solidFill>
                  <a:srgbClr val="355d7e"/>
                </a:solidFill>
                <a:uFillTx/>
                <a:latin typeface="Arial"/>
              </a:rPr>
              <a:t> en función de T</a:t>
            </a:r>
            <a:r>
              <a:rPr b="0" lang="es-ES" sz="1800" spc="-1" strike="noStrike" u="sng" baseline="-25000">
                <a:solidFill>
                  <a:srgbClr val="355d7e"/>
                </a:solidFill>
                <a:uFillTx/>
                <a:latin typeface="Arial"/>
              </a:rPr>
              <a:t>1</a:t>
            </a:r>
            <a:r>
              <a:rPr b="0" lang="es-ES" sz="1800" spc="-1" strike="noStrike" u="sng">
                <a:solidFill>
                  <a:srgbClr val="355d7e"/>
                </a:solidFill>
                <a:uFillTx/>
                <a:latin typeface="Arial"/>
              </a:rPr>
              <a:t> y T</a:t>
            </a:r>
            <a:r>
              <a:rPr b="0" lang="es-ES" sz="1800" spc="-1" strike="noStrike" u="sng" baseline="-25000">
                <a:solidFill>
                  <a:srgbClr val="355d7e"/>
                </a:solidFill>
                <a:uFillTx/>
                <a:latin typeface="Arial"/>
              </a:rPr>
              <a:t>3</a:t>
            </a:r>
            <a:r>
              <a:rPr b="0" lang="es-ES" sz="1800" spc="-1" strike="noStrike" u="sng">
                <a:solidFill>
                  <a:srgbClr val="355d7e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6000840" y="626436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0c0"/>
                </a:solidFill>
                <a:latin typeface="Arial"/>
              </a:rPr>
              <a:t>Temperatura del cuerpo frí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857920" y="319248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Temperatura del cuerpo ca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8 Conector recto de flecha"/>
          <p:cNvCxnSpPr/>
          <p:nvPr/>
        </p:nvCxnSpPr>
        <p:spPr>
          <a:xfrm flipH="1" flipV="1">
            <a:off x="4428720" y="3427200"/>
            <a:ext cx="13579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03" name="10 Conector recto de flecha"/>
          <p:cNvCxnSpPr/>
          <p:nvPr/>
        </p:nvCxnSpPr>
        <p:spPr>
          <a:xfrm flipH="1" flipV="1">
            <a:off x="5428800" y="6428520"/>
            <a:ext cx="572400" cy="2520"/>
          </a:xfrm>
          <a:prstGeom prst="straightConnector1">
            <a:avLst/>
          </a:prstGeom>
          <a:ln w="19080">
            <a:solidFill>
              <a:srgbClr val="355d7e"/>
            </a:solidFill>
            <a:miter/>
            <a:tailEnd len="med" type="triangle" w="med"/>
          </a:ln>
        </p:spPr>
      </p:cxnSp>
      <p:sp>
        <p:nvSpPr>
          <p:cNvPr id="404" name="Text Box 4"/>
          <p:cNvSpPr/>
          <p:nvPr/>
        </p:nvSpPr>
        <p:spPr>
          <a:xfrm>
            <a:off x="785880" y="387684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2060"/>
                </a:solidFill>
                <a:latin typeface="Arial"/>
              </a:rPr>
              <a:t>h</a:t>
            </a:r>
            <a:r>
              <a:rPr b="1" lang="es-ES" sz="1600" spc="-1" strike="noStrike" baseline="-25000">
                <a:solidFill>
                  <a:srgbClr val="00206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dición de la Temperatura de un Recint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614160" y="1746360"/>
            <a:ext cx="76618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b0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b0f0"/>
                </a:solidFill>
                <a:uFillTx/>
                <a:latin typeface="Arial"/>
              </a:rPr>
              <a:t>Experimento: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dimos la temperatura de un recinto con una termocupla o termóme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b0f0"/>
                </a:solidFill>
                <a:uFillTx/>
                <a:latin typeface="Arial"/>
              </a:rPr>
              <a:t>Problema: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lectura se puede ver afectada por efecto de la radiación (presencia de una pa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 cuerpo caliente a temperatura diferente a la del fluid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6"/>
          <p:cNvSpPr/>
          <p:nvPr/>
        </p:nvSpPr>
        <p:spPr>
          <a:xfrm>
            <a:off x="1643040" y="3714840"/>
            <a:ext cx="360360" cy="0"/>
          </a:xfrm>
          <a:prstGeom prst="line">
            <a:avLst/>
          </a:prstGeom>
          <a:ln w="50760">
            <a:solidFill>
              <a:srgbClr val="b95b2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118240" y="3519360"/>
            <a:ext cx="447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f0"/>
                </a:solidFill>
                <a:latin typeface="Arial"/>
              </a:rPr>
              <a:t>IMPORTANTE!</a:t>
            </a:r>
            <a:r>
              <a:rPr b="0" lang="es-ES" sz="1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dir temperatura a la somb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8"/>
          <p:cNvSpPr/>
          <p:nvPr/>
        </p:nvSpPr>
        <p:spPr>
          <a:xfrm>
            <a:off x="4151160" y="4500720"/>
            <a:ext cx="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9"/>
          <p:cNvSpPr/>
          <p:nvPr/>
        </p:nvSpPr>
        <p:spPr>
          <a:xfrm flipH="1">
            <a:off x="3933720" y="457200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0"/>
          <p:cNvSpPr/>
          <p:nvPr/>
        </p:nvSpPr>
        <p:spPr>
          <a:xfrm flipH="1">
            <a:off x="3933720" y="478800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1"/>
          <p:cNvSpPr/>
          <p:nvPr/>
        </p:nvSpPr>
        <p:spPr>
          <a:xfrm flipH="1">
            <a:off x="3933720" y="500544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2"/>
          <p:cNvSpPr/>
          <p:nvPr/>
        </p:nvSpPr>
        <p:spPr>
          <a:xfrm flipH="1">
            <a:off x="3933720" y="522144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3"/>
          <p:cNvSpPr/>
          <p:nvPr/>
        </p:nvSpPr>
        <p:spPr>
          <a:xfrm flipH="1">
            <a:off x="3933720" y="543708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4"/>
          <p:cNvSpPr/>
          <p:nvPr/>
        </p:nvSpPr>
        <p:spPr>
          <a:xfrm flipH="1">
            <a:off x="3933720" y="565308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5"/>
          <p:cNvSpPr/>
          <p:nvPr/>
        </p:nvSpPr>
        <p:spPr>
          <a:xfrm flipH="1">
            <a:off x="3933720" y="58705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6"/>
          <p:cNvSpPr/>
          <p:nvPr/>
        </p:nvSpPr>
        <p:spPr>
          <a:xfrm flipH="1">
            <a:off x="3933720" y="60865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7"/>
          <p:cNvSpPr/>
          <p:nvPr/>
        </p:nvSpPr>
        <p:spPr>
          <a:xfrm>
            <a:off x="2585880" y="5064120"/>
            <a:ext cx="113364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uerp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aliente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4459320" y="4429080"/>
            <a:ext cx="115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Fluido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9"/>
          <p:cNvSpPr/>
          <p:nvPr/>
        </p:nvSpPr>
        <p:spPr>
          <a:xfrm>
            <a:off x="5754600" y="4700520"/>
            <a:ext cx="1532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Termocupla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0"/>
          <p:cNvSpPr/>
          <p:nvPr/>
        </p:nvSpPr>
        <p:spPr>
          <a:xfrm>
            <a:off x="4222800" y="5292720"/>
            <a:ext cx="287280" cy="1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1"/>
          <p:cNvSpPr/>
          <p:nvPr/>
        </p:nvSpPr>
        <p:spPr>
          <a:xfrm flipH="1" flipV="1">
            <a:off x="4365360" y="5221080"/>
            <a:ext cx="144360" cy="21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22"/>
          <p:cNvSpPr/>
          <p:nvPr/>
        </p:nvSpPr>
        <p:spPr>
          <a:xfrm>
            <a:off x="4365720" y="5221440"/>
            <a:ext cx="431640" cy="71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3"/>
          <p:cNvSpPr/>
          <p:nvPr/>
        </p:nvSpPr>
        <p:spPr>
          <a:xfrm>
            <a:off x="4797360" y="507672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24"/>
          <p:cNvSpPr/>
          <p:nvPr/>
        </p:nvSpPr>
        <p:spPr>
          <a:xfrm>
            <a:off x="5610240" y="5437080"/>
            <a:ext cx="144360" cy="144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25"/>
          <p:cNvSpPr/>
          <p:nvPr/>
        </p:nvSpPr>
        <p:spPr>
          <a:xfrm flipV="1">
            <a:off x="5610240" y="5149440"/>
            <a:ext cx="43344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 flipV="1">
            <a:off x="5683320" y="5365800"/>
            <a:ext cx="5032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7"/>
          <p:cNvSpPr/>
          <p:nvPr/>
        </p:nvSpPr>
        <p:spPr>
          <a:xfrm>
            <a:off x="569160" y="40006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La situación se representa como sig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8"/>
          <p:cNvSpPr/>
          <p:nvPr/>
        </p:nvSpPr>
        <p:spPr>
          <a:xfrm>
            <a:off x="3606840" y="6375240"/>
            <a:ext cx="1139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g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dición de la Temperatura de un Recint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655920" y="1708200"/>
            <a:ext cx="469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tonces, en el equilibrio del sist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b0f0"/>
                </a:solidFill>
                <a:latin typeface="Arial"/>
              </a:rPr>
              <a:t>El cuerpo caliente irradia hacia la termocupl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b0f0"/>
                </a:solidFill>
                <a:latin typeface="Arial"/>
              </a:rPr>
              <a:t>La termocupla disipa calor a través del flu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14"/>
              <p:cNvSpPr txBox="1"/>
              <p:nvPr/>
            </p:nvSpPr>
            <p:spPr>
              <a:xfrm>
                <a:off x="2851200" y="2960640"/>
                <a:ext cx="36496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5"/>
              <p:cNvSpPr txBox="1"/>
              <p:nvPr/>
            </p:nvSpPr>
            <p:spPr>
              <a:xfrm>
                <a:off x="3571920" y="3975120"/>
                <a:ext cx="23335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6"/>
              <p:cNvSpPr txBox="1"/>
              <p:nvPr/>
            </p:nvSpPr>
            <p:spPr>
              <a:xfrm>
                <a:off x="3009960" y="4149720"/>
                <a:ext cx="347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Text Box 9"/>
          <p:cNvSpPr/>
          <p:nvPr/>
        </p:nvSpPr>
        <p:spPr>
          <a:xfrm>
            <a:off x="1931760" y="5073480"/>
            <a:ext cx="528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d8047"/>
                </a:solidFill>
                <a:latin typeface="Arial"/>
              </a:rPr>
              <a:t>Termocupla se estabiliza a temperatura mayor qu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d8047"/>
                </a:solidFill>
                <a:latin typeface="Arial"/>
              </a:rPr>
              <a:t>temperatura que tiene realmente el flui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1941840" y="5916600"/>
            <a:ext cx="544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d8047"/>
                </a:solidFill>
                <a:latin typeface="Arial"/>
              </a:rPr>
              <a:t>Necesario proteger el instrumento contra la radiac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d8047"/>
                </a:solidFill>
                <a:latin typeface="Arial"/>
              </a:rPr>
              <a:t>(Material de baja emisividad, escudo de radi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24 Flecha derecha"/>
          <p:cNvSpPr/>
          <p:nvPr/>
        </p:nvSpPr>
        <p:spPr>
          <a:xfrm>
            <a:off x="1285920" y="5202360"/>
            <a:ext cx="42876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25 Flecha derecha"/>
          <p:cNvSpPr/>
          <p:nvPr/>
        </p:nvSpPr>
        <p:spPr>
          <a:xfrm>
            <a:off x="1285920" y="60008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dición de la Temperatura de un Recint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428760" y="1643040"/>
            <a:ext cx="835812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 termómetro de vidrio (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 0.96) se inserta en el centro de un ducto circular. Por el 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luye aire con una velocidad tal que el coeficiente de película entre el termómetro y el 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 17.7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BTU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hr – ft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 – ºF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 las paredes del ducto están a 800 ºF y el termómetro lee 300 ºF, calcular la temperatura del aire en el duc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 el termómetro se rodea con papel plateado (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 0.03), determinar la nueva le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l termómetr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dición de la Temperatura de un Recint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h radiación"/>
          <p:cNvPicPr/>
          <p:nvPr/>
        </p:nvPicPr>
        <p:blipFill>
          <a:blip r:embed="rId1"/>
          <a:srcRect l="5267" t="3811" r="7896" b="2088"/>
          <a:stretch/>
        </p:blipFill>
        <p:spPr>
          <a:xfrm>
            <a:off x="285840" y="1571760"/>
            <a:ext cx="4714920" cy="5286240"/>
          </a:xfrm>
          <a:prstGeom prst="rect">
            <a:avLst/>
          </a:prstGeom>
          <a:ln w="0">
            <a:noFill/>
          </a:ln>
        </p:spPr>
      </p:pic>
      <p:sp>
        <p:nvSpPr>
          <p:cNvPr id="449" name="Line 7"/>
          <p:cNvSpPr/>
          <p:nvPr/>
        </p:nvSpPr>
        <p:spPr>
          <a:xfrm flipV="1">
            <a:off x="1285920" y="4357440"/>
            <a:ext cx="0" cy="2089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8"/>
          <p:cNvSpPr/>
          <p:nvPr/>
        </p:nvSpPr>
        <p:spPr>
          <a:xfrm flipH="1">
            <a:off x="785880" y="442908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1009440" y="6510240"/>
            <a:ext cx="628920" cy="276480"/>
          </a:xfrm>
          <a:prstGeom prst="rect">
            <a:avLst/>
          </a:prstGeom>
          <a:solidFill>
            <a:srgbClr val="94b6d2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300 º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389520" y="4286160"/>
            <a:ext cx="394200" cy="276480"/>
          </a:xfrm>
          <a:prstGeom prst="rect">
            <a:avLst/>
          </a:prstGeom>
          <a:solidFill>
            <a:srgbClr val="94b6d2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4867920" y="1714680"/>
            <a:ext cx="16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) Se tiene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19"/>
              <p:cNvSpPr txBox="1"/>
              <p:nvPr/>
            </p:nvSpPr>
            <p:spPr>
              <a:xfrm>
                <a:off x="4929120" y="2266920"/>
                <a:ext cx="40323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0"/>
              <p:cNvSpPr txBox="1"/>
              <p:nvPr/>
            </p:nvSpPr>
            <p:spPr>
              <a:xfrm>
                <a:off x="4923000" y="3511440"/>
                <a:ext cx="34351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1"/>
              <p:cNvSpPr txBox="1"/>
              <p:nvPr/>
            </p:nvSpPr>
            <p:spPr>
              <a:xfrm>
                <a:off x="5987880" y="4857840"/>
                <a:ext cx="14148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º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dición de la Temperatura de un Recint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335880" y="1714680"/>
            <a:ext cx="840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) En este caso la temperatura del papel será intermedia entre la temperatura de la pare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temperatura del aire. En el caso extremo se consid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3741840" y="2478240"/>
            <a:ext cx="154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b0f0"/>
                </a:solidFill>
                <a:latin typeface="Arial"/>
              </a:rPr>
              <a:t>pared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 = T</a:t>
            </a:r>
            <a:r>
              <a:rPr b="0" lang="es-ES" sz="1800" spc="-1" strike="noStrike" baseline="-25000">
                <a:solidFill>
                  <a:srgbClr val="00b0f0"/>
                </a:solidFill>
                <a:latin typeface="Arial"/>
              </a:rPr>
              <a:t>pa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1268280" y="3071880"/>
            <a:ext cx="64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95b22"/>
                </a:solidFill>
                <a:latin typeface="Arial"/>
              </a:rPr>
              <a:t>“</a:t>
            </a:r>
            <a:r>
              <a:rPr b="0" lang="es-ES" sz="1600" spc="-1" strike="noStrike">
                <a:solidFill>
                  <a:srgbClr val="b95b22"/>
                </a:solidFill>
                <a:latin typeface="Arial"/>
              </a:rPr>
              <a:t>No existe conducción ni convección entre el papel y el flujo de aire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435240" y="346860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tonc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18"/>
              <p:cNvSpPr txBox="1"/>
              <p:nvPr/>
            </p:nvSpPr>
            <p:spPr>
              <a:xfrm>
                <a:off x="642960" y="4011480"/>
                <a:ext cx="376560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pe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apel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19"/>
              <p:cNvSpPr txBox="1"/>
              <p:nvPr/>
            </p:nvSpPr>
            <p:spPr>
              <a:xfrm>
                <a:off x="5000760" y="4044960"/>
                <a:ext cx="33130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7" name="Line 10"/>
          <p:cNvSpPr/>
          <p:nvPr/>
        </p:nvSpPr>
        <p:spPr>
          <a:xfrm>
            <a:off x="2411280" y="5000760"/>
            <a:ext cx="0" cy="360360"/>
          </a:xfrm>
          <a:prstGeom prst="line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1"/>
          <p:cNvSpPr/>
          <p:nvPr/>
        </p:nvSpPr>
        <p:spPr>
          <a:xfrm>
            <a:off x="1486080" y="5416560"/>
            <a:ext cx="187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b0f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 = f(T</a:t>
            </a:r>
            <a:r>
              <a:rPr b="0" lang="es-ES" sz="1800" spc="-1" strike="noStrike" baseline="-25000">
                <a:solidFill>
                  <a:srgbClr val="00b0f0"/>
                </a:solidFill>
                <a:latin typeface="Arial"/>
              </a:rPr>
              <a:t>papel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,T</a:t>
            </a:r>
            <a:r>
              <a:rPr b="0" lang="es-ES" sz="1800" spc="-1" strike="noStrike" baseline="-25000">
                <a:solidFill>
                  <a:srgbClr val="00b0f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2"/>
          <p:cNvSpPr/>
          <p:nvPr/>
        </p:nvSpPr>
        <p:spPr>
          <a:xfrm>
            <a:off x="2411280" y="5857920"/>
            <a:ext cx="0" cy="360360"/>
          </a:xfrm>
          <a:prstGeom prst="line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>
            <a:off x="1005840" y="6286680"/>
            <a:ext cx="277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95b22"/>
                </a:solidFill>
                <a:latin typeface="Arial"/>
              </a:rPr>
              <a:t>Iterar!</a:t>
            </a:r>
            <a:r>
              <a:rPr b="0" lang="es-ES" sz="1800" spc="-1" strike="noStrike">
                <a:solidFill>
                  <a:srgbClr val="b95b22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respecto a 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5"/>
          <p:cNvSpPr/>
          <p:nvPr/>
        </p:nvSpPr>
        <p:spPr>
          <a:xfrm>
            <a:off x="3872880" y="6286680"/>
            <a:ext cx="1317240" cy="405720"/>
          </a:xfrm>
          <a:prstGeom prst="rect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101 º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1:26:41Z</dcterms:created>
  <dc:creator>Meli Paloma</dc:creator>
  <dc:description/>
  <dc:language>en-US</dc:language>
  <cp:lastModifiedBy>Meli</cp:lastModifiedBy>
  <dcterms:modified xsi:type="dcterms:W3CDTF">2008-09-24T01:41:39Z</dcterms:modified>
  <cp:revision>119</cp:revision>
  <dc:subject/>
  <dc:title>Unidad 1:  Transferencia de calor</dc:title>
</cp:coreProperties>
</file>