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DFEF-BB50-4166-A9B5-35341507693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8092-7673-49C0-BF23-A43E448F58C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007-6668-4EA4-8502-DFE43E9019A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D40E-8295-4751-BF91-516BC86E905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15AB-CBF0-4180-870D-56B608A027D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505F-E4C2-4927-BE7F-B4BB5F9280C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423-96DA-4C82-A3A6-69D171E9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D0D-F6A2-4744-9BF4-5F138700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EEB-139B-4D83-90A8-C646CBA4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43D-C69A-4AD9-B448-88E4B8F7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E35C-3A80-45D2-B296-CCE39A39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D2FD-1156-4AB9-B9EA-26131B19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8BE6-7071-4252-AB38-732451DB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D9D4-DA58-4C3E-AD77-EE4EB874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FE86-81BD-4240-8ECC-A4A85018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3FB7-57F2-40CA-885B-0CF0B700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FAE8-7EA7-4608-846E-FA0B7BD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46E-8B2E-487F-99E7-FED44CD1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DE4F-1DBE-4B37-A8AC-FD0CAB7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6CFC-4A9F-431C-9A21-B0C08587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E8C1-A729-46BE-9525-0A1235D9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B9B1-7A78-4EEB-BF12-76E08587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49F4-BD4D-4F67-8E37-758E96A8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22512-9B52-4ECC-ACEA-CAD761AC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0F46A-9AC9-4BCE-B99B-6C30CE9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363D9-508E-41AF-BFB0-6663724B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B0668-E5FD-4B37-BD22-168640F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D1203-4577-4C35-BCAE-1120C08E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230-E10A-40FB-971B-F092E296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4ACDF-328C-4B23-9C1E-1956F369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B7BC1-8238-459D-A988-C52A7949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BFB1D-AA83-4220-A822-329121AF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5BA8C-3662-4E91-BAC8-268C3CE4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118E1-E1F0-4F9A-BD83-7F34C3C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FF9C6-9CC0-4C17-BBDC-11D363A4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ACA88-60B5-4F4B-8F13-495676B3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BC95D-7E8A-4F2C-AE50-DDE2ADDB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B80DD-91B2-436B-9577-8A683CEA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F56C5-1713-41D1-A72E-CE208393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85B-BDE3-4541-B8BE-0AEA3606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D80BC-308B-4B09-A468-54BA776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A2F48-8C76-47C4-A8F1-E736C492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91540-A821-44B2-A221-55512F61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478B4-98CA-412E-81B6-397FA52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1266B-A92F-4B38-931C-6A42989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4531A-1861-4177-9C25-1A11093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17581-C24E-4F8E-9681-20B876DA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C01A3-BEA9-4993-A960-B6924CFD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5620A-1586-4166-9576-23F4AABC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73702-6D3B-4CDD-9C8A-055C7958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EAD-02AC-4C39-B830-DB9E8F35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0844B-CB64-4845-85F0-6BCE3D1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081F5-1E1D-4DFB-8004-80348778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EE439-BE3D-4A20-9415-58762192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146E2-5B6A-4E90-A90B-8049E035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0B2CB-288D-4DFD-8B97-D7D3A32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BE665-E20F-43B7-8B20-ED001AD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E9350-2099-422B-8FD1-2B8D81A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94322-3317-4937-873B-6C10E45F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A30DF-830D-4143-B01C-9550FD39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CBDAE-0CD5-400C-8581-39C77CFF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53B-3270-4AB6-8B75-10E76D9F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44718-0FF4-4FF4-BB1A-7E08B7FD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B00C-E832-4D12-8A1A-B89EAD55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DDBB-540C-4E30-B132-462D747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70B3-C320-40A0-9AF2-6883DB83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EC10-C687-4189-8C7D-C443068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B9DEE-1325-4E23-AEB7-16B9A861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ECA64-9187-407B-BFD2-057A2613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DC458-F5C1-421C-9293-1B15097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BFE5-B62D-4F6D-BF6A-EB8BEE7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9E4F-EB1C-4C97-A271-0914FAB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787-E7EE-414D-BD75-4E5B694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CC02A-2654-47D7-91B0-708C9DE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88069-0CED-454C-8F31-31A3799F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9DDE1-61B6-4E85-B02B-2D58B480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64BAF-BDEC-442E-90ED-7893CBF8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FE994-87EE-401F-B970-B9106852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F6713-777B-48D1-AC85-C6217D44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FC0D4-252A-4B07-809E-5AD1A2D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CA798-FDAE-4856-B497-977D3BFE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43AC3-3B16-4E50-88CD-1FE4D82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51859-2086-4EA7-9C0E-7F380AF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E98-4B04-44E4-AA22-AB3864C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7DBC9-DD32-4F3E-937B-866F722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74152-70F3-44D5-8124-390A090B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73FBD-00E8-4A30-A9CA-23D11522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626A3-9327-49EA-80DC-F689B0B0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6DDC3-165F-44A9-B388-DAB66B30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4C17-13AF-44C5-8B82-7C212A7E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C7EB-8120-4AD8-85DB-3A38285B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8779-3CC4-4757-990B-3C88B4F5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EAA22-35D3-418C-A0D7-20D50FA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4CC7-6306-453C-B1AD-6858078A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13A-ED94-4BEE-BB13-168F739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C6C2-D71F-4740-BA87-36A80EFD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D775F-99DE-4760-A7DA-3BDABBA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8A44-457B-4E85-967B-BF3F5B4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91EC5-8158-4358-A83A-6F00B0B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710BD-80F4-489B-999C-573429DC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58576-F067-423E-A664-A75F4439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F95FB-53E0-4235-9A96-2A80A98C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AA0-E47D-4428-A602-0DDE81DD4C0B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42D0-BAC7-443C-AA20-5D2141CC0F62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3C07-663A-4233-A0E9-2D12AD90F288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A953-17CA-46D7-8BCE-0AB85015C235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613D-E048-4971-9B01-03D701D5EA10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B6B-DF5D-4D73-B270-76F80267D780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B3F1-54F1-4A79-B44D-788DA432C134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39D-6AE5-4C24-8AA0-F41A0D17D3E9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Radiación y Convec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00040" y="1714680"/>
            <a:ext cx="7978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tiene una pared caliente,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inmersa en un fluido a temperatura 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2278080" y="219564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H="1">
            <a:off x="2060640" y="2266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 flipH="1">
            <a:off x="2060640" y="24829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 flipH="1">
            <a:off x="2060640" y="27003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2060640" y="29163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2060640" y="313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 flipH="1">
            <a:off x="2060640" y="3348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 flipH="1">
            <a:off x="2060640" y="356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 flipH="1">
            <a:off x="2060640" y="3781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931320" y="2843280"/>
            <a:ext cx="98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421000" y="2195640"/>
            <a:ext cx="100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3862440" y="2611440"/>
            <a:ext cx="112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Recint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2349360" y="2987640"/>
            <a:ext cx="28764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 flipH="1" flipV="1">
            <a:off x="2492280" y="2916000"/>
            <a:ext cx="14472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2492280" y="2916360"/>
            <a:ext cx="43200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2923920" y="277164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577120" y="2500200"/>
            <a:ext cx="2550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alor disipa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55d7e"/>
                </a:solidFill>
                <a:latin typeface="Arial"/>
              </a:rPr>
              <a:t>conv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adi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1773360" y="4143240"/>
            <a:ext cx="136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827640" y="4591080"/>
            <a:ext cx="270900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0000"/>
                </a:solidFill>
                <a:uFillTx/>
                <a:latin typeface="Arial"/>
              </a:rPr>
              <a:t>Calor disipado por rad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217440" y="5203800"/>
                <a:ext cx="3997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8"/>
              <p:cNvSpPr txBox="1"/>
              <p:nvPr/>
            </p:nvSpPr>
            <p:spPr>
              <a:xfrm>
                <a:off x="1387440" y="5786280"/>
                <a:ext cx="139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4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Text Box 27"/>
          <p:cNvSpPr/>
          <p:nvPr/>
        </p:nvSpPr>
        <p:spPr>
          <a:xfrm>
            <a:off x="5185080" y="4591080"/>
            <a:ext cx="2902680" cy="337320"/>
          </a:xfrm>
          <a:prstGeom prst="rect">
            <a:avLst/>
          </a:prstGeom>
          <a:noFill/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355d7e"/>
                </a:solidFill>
                <a:uFillTx/>
                <a:latin typeface="Arial"/>
              </a:rPr>
              <a:t>Calor disipado por conv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19"/>
              <p:cNvSpPr txBox="1"/>
              <p:nvPr/>
            </p:nvSpPr>
            <p:spPr>
              <a:xfrm>
                <a:off x="5715000" y="5214960"/>
                <a:ext cx="1874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20"/>
              <p:cNvSpPr txBox="1"/>
              <p:nvPr/>
            </p:nvSpPr>
            <p:spPr>
              <a:xfrm>
                <a:off x="5924520" y="5861160"/>
                <a:ext cx="1505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4" name="Line 30"/>
          <p:cNvSpPr/>
          <p:nvPr/>
        </p:nvSpPr>
        <p:spPr>
          <a:xfrm>
            <a:off x="2857680" y="6072120"/>
            <a:ext cx="431640" cy="0"/>
          </a:xfrm>
          <a:prstGeom prst="line">
            <a:avLst/>
          </a:prstGeom>
          <a:ln w="25560">
            <a:solidFill>
              <a:srgbClr val="355d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3286080" y="591012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55d7e"/>
                </a:solidFill>
                <a:latin typeface="Tahoma"/>
              </a:rPr>
              <a:t>Gráf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y Convección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h radiación"/>
          <p:cNvPicPr/>
          <p:nvPr/>
        </p:nvPicPr>
        <p:blipFill>
          <a:blip r:embed="rId1"/>
          <a:srcRect l="4675" t="4105" r="8068" b="1652"/>
          <a:stretch/>
        </p:blipFill>
        <p:spPr>
          <a:xfrm>
            <a:off x="1139760" y="2013120"/>
            <a:ext cx="4218120" cy="47145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1980360" y="1571760"/>
            <a:ext cx="5054760" cy="4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Gráfico para determinar h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r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en función de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1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 y T</a:t>
            </a:r>
            <a:r>
              <a:rPr b="0" lang="es-ES" sz="1800" spc="-1" strike="noStrike" u="sng" baseline="-25000">
                <a:solidFill>
                  <a:srgbClr val="355d7e"/>
                </a:solidFill>
                <a:uFillTx/>
                <a:latin typeface="Arial"/>
              </a:rPr>
              <a:t>3</a:t>
            </a:r>
            <a:r>
              <a:rPr b="0" lang="es-ES" sz="1800" spc="-1" strike="noStrike" u="sng">
                <a:solidFill>
                  <a:srgbClr val="355d7e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6000840" y="626436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70c0"/>
                </a:solidFill>
                <a:latin typeface="Arial"/>
              </a:rPr>
              <a:t>Temperatura del cuerpo fr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857920" y="319248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Temperatura del cuerpo ca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8 Conector recto de flecha"/>
          <p:cNvCxnSpPr/>
          <p:nvPr/>
        </p:nvCxnSpPr>
        <p:spPr>
          <a:xfrm flipH="1" flipV="1">
            <a:off x="4428720" y="3427200"/>
            <a:ext cx="13579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3" name="10 Conector recto de flecha"/>
          <p:cNvCxnSpPr/>
          <p:nvPr/>
        </p:nvCxnSpPr>
        <p:spPr>
          <a:xfrm flipH="1" flipV="1">
            <a:off x="5428800" y="6428520"/>
            <a:ext cx="572400" cy="2520"/>
          </a:xfrm>
          <a:prstGeom prst="straightConnector1">
            <a:avLst/>
          </a:prstGeom>
          <a:ln w="19080">
            <a:solidFill>
              <a:srgbClr val="355d7e"/>
            </a:solidFill>
            <a:miter/>
            <a:tailEnd len="med" type="triangle" w="med"/>
          </a:ln>
        </p:spPr>
      </p:cxnSp>
      <p:sp>
        <p:nvSpPr>
          <p:cNvPr id="404" name="Text Box 4"/>
          <p:cNvSpPr/>
          <p:nvPr/>
        </p:nvSpPr>
        <p:spPr>
          <a:xfrm>
            <a:off x="785880" y="387684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2060"/>
                </a:solidFill>
                <a:latin typeface="Arial"/>
              </a:rPr>
              <a:t>h</a:t>
            </a:r>
            <a:r>
              <a:rPr b="1" lang="es-ES" sz="1600" spc="-1" strike="noStrike" baseline="-25000">
                <a:solidFill>
                  <a:srgbClr val="00206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14160" y="1746360"/>
            <a:ext cx="7661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Experimento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mos la temperatura de un recinto con una termocupla o termóme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b0f0"/>
                </a:solidFill>
                <a:uFillTx/>
                <a:latin typeface="Arial"/>
              </a:rPr>
              <a:t>Problema: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lectura se puede ver afectada por efecto de la radiación (presencia de una p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 cuerpo caliente a temperatura diferente a la del fluid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"/>
          <p:cNvSpPr/>
          <p:nvPr/>
        </p:nvSpPr>
        <p:spPr>
          <a:xfrm>
            <a:off x="1643040" y="3714840"/>
            <a:ext cx="360360" cy="0"/>
          </a:xfrm>
          <a:prstGeom prst="line">
            <a:avLst/>
          </a:prstGeom>
          <a:ln w="50760">
            <a:solidFill>
              <a:srgbClr val="b95b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18240" y="3519360"/>
            <a:ext cx="44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f0"/>
                </a:solidFill>
                <a:latin typeface="Arial"/>
              </a:rPr>
              <a:t>IMPORTANTE!</a:t>
            </a: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dir temperatura a la somb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4151160" y="450072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9"/>
          <p:cNvSpPr/>
          <p:nvPr/>
        </p:nvSpPr>
        <p:spPr>
          <a:xfrm flipH="1">
            <a:off x="3933720" y="457200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 flipH="1">
            <a:off x="3933720" y="478800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 flipH="1">
            <a:off x="3933720" y="500544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 flipH="1">
            <a:off x="3933720" y="522144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 flipH="1">
            <a:off x="3933720" y="5437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 flipH="1">
            <a:off x="3933720" y="56530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 flipH="1">
            <a:off x="3933720" y="5870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3933720" y="60865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2585880" y="5064120"/>
            <a:ext cx="113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uer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aliente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459320" y="4429080"/>
            <a:ext cx="115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luido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5754600" y="4700520"/>
            <a:ext cx="1532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ermocupla (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0"/>
          <p:cNvSpPr/>
          <p:nvPr/>
        </p:nvSpPr>
        <p:spPr>
          <a:xfrm>
            <a:off x="4222800" y="5292720"/>
            <a:ext cx="28728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1"/>
          <p:cNvSpPr/>
          <p:nvPr/>
        </p:nvSpPr>
        <p:spPr>
          <a:xfrm flipH="1" flipV="1">
            <a:off x="4365360" y="5221080"/>
            <a:ext cx="144360" cy="21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2"/>
          <p:cNvSpPr/>
          <p:nvPr/>
        </p:nvSpPr>
        <p:spPr>
          <a:xfrm>
            <a:off x="4365720" y="5221440"/>
            <a:ext cx="431640" cy="71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4797360" y="5076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4"/>
          <p:cNvSpPr/>
          <p:nvPr/>
        </p:nvSpPr>
        <p:spPr>
          <a:xfrm>
            <a:off x="5610240" y="5437080"/>
            <a:ext cx="144360" cy="14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5"/>
          <p:cNvSpPr/>
          <p:nvPr/>
        </p:nvSpPr>
        <p:spPr>
          <a:xfrm flipV="1">
            <a:off x="5610240" y="5149440"/>
            <a:ext cx="43344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V="1">
            <a:off x="5683320" y="5365800"/>
            <a:ext cx="503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569160" y="40006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La situación se representa como sig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3606840" y="6375240"/>
            <a:ext cx="1139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655920" y="1708200"/>
            <a:ext cx="469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en el equilibrio de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El cuerpo caliente irradia hacia la termocup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b0f0"/>
                </a:solidFill>
                <a:latin typeface="Arial"/>
              </a:rPr>
              <a:t>La termocupla disipa calor a través del flu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14"/>
              <p:cNvSpPr txBox="1"/>
              <p:nvPr/>
            </p:nvSpPr>
            <p:spPr>
              <a:xfrm>
                <a:off x="2851200" y="2960640"/>
                <a:ext cx="3649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5"/>
              <p:cNvSpPr txBox="1"/>
              <p:nvPr/>
            </p:nvSpPr>
            <p:spPr>
              <a:xfrm>
                <a:off x="3571920" y="3975120"/>
                <a:ext cx="2333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6"/>
              <p:cNvSpPr txBox="1"/>
              <p:nvPr/>
            </p:nvSpPr>
            <p:spPr>
              <a:xfrm>
                <a:off x="3009960" y="4149720"/>
                <a:ext cx="347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9"/>
          <p:cNvSpPr/>
          <p:nvPr/>
        </p:nvSpPr>
        <p:spPr>
          <a:xfrm>
            <a:off x="1931760" y="5073480"/>
            <a:ext cx="528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rmocupla se estabiliza a temperatura mayor qu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temperatura que tiene realmente el flui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941840" y="5916600"/>
            <a:ext cx="544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Necesario proteger el instrumento contra la radi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d8047"/>
                </a:solidFill>
                <a:latin typeface="Arial"/>
              </a:rPr>
              <a:t>(Material de baja emisividad, escudo de radi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24 Flecha derecha"/>
          <p:cNvSpPr/>
          <p:nvPr/>
        </p:nvSpPr>
        <p:spPr>
          <a:xfrm>
            <a:off x="1285920" y="5202360"/>
            <a:ext cx="42876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25 Flecha derecha"/>
          <p:cNvSpPr/>
          <p:nvPr/>
        </p:nvSpPr>
        <p:spPr>
          <a:xfrm>
            <a:off x="1285920" y="60008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428760" y="1643040"/>
            <a:ext cx="835812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 termómetro de vidri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96) se inserta en el centro de un ducto circular. Por el 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luye aire con una velocidad tal que el coeficiente de película entre el termómetro y 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17.7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BTU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hr – ft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 – º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las paredes del ducto están a 800 ºF y el termómetro lee 300 ºF, calcular la temperatura del aire en el du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el termómetro se rodea con papel platead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0.03), determinar la nueva le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termóme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h radiación"/>
          <p:cNvPicPr/>
          <p:nvPr/>
        </p:nvPicPr>
        <p:blipFill>
          <a:blip r:embed="rId1"/>
          <a:srcRect l="5267" t="3811" r="7896" b="2088"/>
          <a:stretch/>
        </p:blipFill>
        <p:spPr>
          <a:xfrm>
            <a:off x="285840" y="1571760"/>
            <a:ext cx="4714920" cy="5286240"/>
          </a:xfrm>
          <a:prstGeom prst="rect">
            <a:avLst/>
          </a:prstGeom>
          <a:ln w="0">
            <a:noFill/>
          </a:ln>
        </p:spPr>
      </p:pic>
      <p:sp>
        <p:nvSpPr>
          <p:cNvPr id="449" name="Line 7"/>
          <p:cNvSpPr/>
          <p:nvPr/>
        </p:nvSpPr>
        <p:spPr>
          <a:xfrm flipV="1">
            <a:off x="1285920" y="435744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8"/>
          <p:cNvSpPr/>
          <p:nvPr/>
        </p:nvSpPr>
        <p:spPr>
          <a:xfrm flipH="1">
            <a:off x="785880" y="442908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1009440" y="6510240"/>
            <a:ext cx="62892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300 º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389520" y="4286160"/>
            <a:ext cx="394200" cy="276480"/>
          </a:xfrm>
          <a:prstGeom prst="rect">
            <a:avLst/>
          </a:prstGeom>
          <a:solidFill>
            <a:srgbClr val="94b6d2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4867920" y="17146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) Se tiene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19"/>
              <p:cNvSpPr txBox="1"/>
              <p:nvPr/>
            </p:nvSpPr>
            <p:spPr>
              <a:xfrm>
                <a:off x="4929120" y="2266920"/>
                <a:ext cx="4032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0"/>
              <p:cNvSpPr txBox="1"/>
              <p:nvPr/>
            </p:nvSpPr>
            <p:spPr>
              <a:xfrm>
                <a:off x="4923000" y="3511440"/>
                <a:ext cx="34351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1"/>
              <p:cNvSpPr txBox="1"/>
              <p:nvPr/>
            </p:nvSpPr>
            <p:spPr>
              <a:xfrm>
                <a:off x="5987880" y="4857840"/>
                <a:ext cx="1414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º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dición de la Temperatura de un Recint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35880" y="1714680"/>
            <a:ext cx="840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En este caso la temperatura del papel será intermedia entre la temperatura de la pare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temperatura del aire. En el caso extremo se consid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3741840" y="2478240"/>
            <a:ext cx="154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red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1268280" y="3071880"/>
            <a:ext cx="64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b95b22"/>
                </a:solidFill>
                <a:latin typeface="Arial"/>
              </a:rPr>
              <a:t>No existe conducción ni convección entre el papel y el flujo de air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435240" y="346860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8"/>
              <p:cNvSpPr txBox="1"/>
              <p:nvPr/>
            </p:nvSpPr>
            <p:spPr>
              <a:xfrm>
                <a:off x="642960" y="4011480"/>
                <a:ext cx="376560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pe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pe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9"/>
              <p:cNvSpPr txBox="1"/>
              <p:nvPr/>
            </p:nvSpPr>
            <p:spPr>
              <a:xfrm>
                <a:off x="5000760" y="4044960"/>
                <a:ext cx="33130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BTU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Line 10"/>
          <p:cNvSpPr/>
          <p:nvPr/>
        </p:nvSpPr>
        <p:spPr>
          <a:xfrm>
            <a:off x="2411280" y="500076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1486080" y="541656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 = f(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papel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,T</a:t>
            </a:r>
            <a:r>
              <a:rPr b="0" lang="es-ES" sz="1800" spc="-1" strike="noStrike" baseline="-25000">
                <a:solidFill>
                  <a:srgbClr val="00b0f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b0f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2411280" y="5857920"/>
            <a:ext cx="0" cy="360360"/>
          </a:xfrm>
          <a:prstGeom prst="line">
            <a:avLst/>
          </a:prstGeom>
          <a:ln w="255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1005840" y="6286680"/>
            <a:ext cx="27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95b22"/>
                </a:solidFill>
                <a:latin typeface="Arial"/>
              </a:rPr>
              <a:t>Iterar!</a:t>
            </a:r>
            <a:r>
              <a:rPr b="0" lang="es-ES" sz="1800" spc="-1" strike="noStrike">
                <a:solidFill>
                  <a:srgbClr val="b95b22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respecto a 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3872880" y="6286680"/>
            <a:ext cx="1317240" cy="40572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101 º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4T01:41:39Z</dcterms:modified>
  <cp:revision>119</cp:revision>
  <dc:subject/>
  <dc:title>Unidad 1:  Transferencia de calor</dc:title>
</cp:coreProperties>
</file>