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159-1BDD-4130-AEC3-A66B9D15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24B-0375-4E38-AC72-F6CC8530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B21-A2A9-480A-87A7-04DB324F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1C0-BA3B-4B5E-A367-E2958BAC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CFB-136C-43C2-8762-7FA934D0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0BD-0DED-47A0-B062-747BF734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124-0DD4-4763-902D-B88C879C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6FB-A90F-42F4-8B2B-56FC7108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C8C-B23B-45FA-AB8C-22D433F4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856-A26D-4CB9-AD46-6CDE882A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118-1608-4DE3-B955-ECB659E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791-7419-4868-9AAC-A3C7EB18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D59E-4158-4313-8BD1-205FF09626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4:50:29Z</dcterms:modified>
  <cp:revision>22</cp:revision>
  <dc:subject/>
  <dc:title>Presentación de PowerPoint</dc:title>
</cp:coreProperties>
</file>