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C3CF-3312-4761-A34C-0AB0AD9DF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3479-7C45-4052-AC0D-8EDB8D6A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9C4E-3BF1-450A-BA13-3C21AA6F2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7449-1D77-4A42-B1F9-228239BC0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7C7C-1037-4981-A2BD-F4235033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1CD5-24EA-46CB-BDB7-BB9124BF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59F4-FEC7-4B8D-8056-C6A98AD4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19E8-8025-4348-BA19-88E01E18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DBF5-B43E-4A2D-BE02-BEEC75EA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5BC8-4CE1-4C24-BC82-AD6FFFBC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0765-A2F9-4088-A6EF-1D5D66C5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DDD1-0947-492F-A98F-E69662DD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4321-5EB4-4E51-BB45-DF6ED850764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80880"/>
            <a:ext cx="7772400" cy="23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VAPORACIO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(cap.16 McCabe y Smi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BJETIVO: concentrar una solución consistente en un soluto no volátil y un disolvente volátil mediante  evaporación del disolvente por agregado de calor a la solu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Usualmente precede a un proceso de crist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3581280"/>
            <a:ext cx="175248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3400" y="3581280"/>
            <a:ext cx="175248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3886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vapo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962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rist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038480"/>
            <a:ext cx="990720" cy="304920"/>
          </a:xfrm>
          <a:prstGeom prst="rightArrow">
            <a:avLst>
              <a:gd name="adj1" fmla="val 50000"/>
              <a:gd name="adj2" fmla="val 81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03848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4038480"/>
            <a:ext cx="1295640" cy="304920"/>
          </a:xfrm>
          <a:prstGeom prst="rightArrow">
            <a:avLst>
              <a:gd name="adj1" fmla="val 50000"/>
              <a:gd name="adj2" fmla="val 106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0 w 609480"/>
              <a:gd name="textAreaRight" fmla="*/ 609840 w 6094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47242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3048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isolvente (vap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44197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ción diluída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4572000"/>
            <a:ext cx="14479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onc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52578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to (crista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5715000"/>
            <a:ext cx="65530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centración azúcar           cristalización azú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centración CuS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       cristalización CuS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5943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6934200">
            <a:off x="1752480" y="4647960"/>
            <a:ext cx="723960" cy="419040"/>
          </a:xfrm>
          <a:prstGeom prst="leftArrow">
            <a:avLst>
              <a:gd name="adj1" fmla="val 50000"/>
              <a:gd name="adj2" fmla="val 4319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5105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9334400">
            <a:off x="5486400" y="32767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2895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09480" y="228600"/>
            <a:ext cx="65534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OPICO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ipos de evapo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eficientes de transferencia de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apacidad de un evapor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U A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    (kg agua evaporados/h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conomía de un evapor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Kg agua evaporados/ kg vapor (ste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levación del punto de ebullición: regla de Duh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iagramas entalpía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019920" y="1143000"/>
            <a:ext cx="27432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Vapor (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- m)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2209680"/>
            <a:ext cx="76176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1736640"/>
            <a:ext cx="76176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4937040"/>
            <a:ext cx="76176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5089680"/>
            <a:ext cx="609840" cy="1522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2346480"/>
            <a:ext cx="6098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1812960"/>
            <a:ext cx="609840" cy="3049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1828800"/>
            <a:ext cx="990360" cy="7462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48320" y="25750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257800" y="25750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30322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57800" y="30322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5089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5089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524196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5880" y="50896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38680" y="135576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4632480"/>
            <a:ext cx="60984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904760" y="4632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974880"/>
            <a:ext cx="990360" cy="253800"/>
          </a:xfrm>
          <a:custGeom>
            <a:avLst/>
            <a:gdLst/>
            <a:ahLst/>
            <a:rect l="l" t="t" r="r" b="b"/>
            <a:pathLst>
              <a:path w="624" h="160">
                <a:moveTo>
                  <a:pt x="0" y="160"/>
                </a:moveTo>
                <a:cubicBezTo>
                  <a:pt x="40" y="124"/>
                  <a:pt x="80" y="88"/>
                  <a:pt x="144" y="64"/>
                </a:cubicBezTo>
                <a:cubicBezTo>
                  <a:pt x="208" y="40"/>
                  <a:pt x="304" y="0"/>
                  <a:pt x="384" y="16"/>
                </a:cubicBezTo>
                <a:cubicBezTo>
                  <a:pt x="464" y="32"/>
                  <a:pt x="584" y="136"/>
                  <a:pt x="624" y="1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1523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57400" y="24224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5165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5165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81480" y="34894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571640" y="51656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1558800"/>
            <a:ext cx="761760" cy="177840"/>
          </a:xfrm>
          <a:custGeom>
            <a:avLst/>
            <a:gdLst/>
            <a:ahLst/>
            <a:rect l="l" t="t" r="r" b="b"/>
            <a:pathLst>
              <a:path w="480" h="112">
                <a:moveTo>
                  <a:pt x="0" y="112"/>
                </a:moveTo>
                <a:cubicBezTo>
                  <a:pt x="44" y="72"/>
                  <a:pt x="88" y="32"/>
                  <a:pt x="144" y="16"/>
                </a:cubicBezTo>
                <a:cubicBezTo>
                  <a:pt x="200" y="0"/>
                  <a:pt x="280" y="0"/>
                  <a:pt x="336" y="16"/>
                </a:cubicBezTo>
                <a:cubicBezTo>
                  <a:pt x="392" y="32"/>
                  <a:pt x="436" y="72"/>
                  <a:pt x="480" y="112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5410080"/>
            <a:ext cx="761760" cy="254160"/>
          </a:xfrm>
          <a:custGeom>
            <a:avLst/>
            <a:gdLst/>
            <a:ahLst/>
            <a:rect l="l" t="t" r="r" b="b"/>
            <a:pathLst>
              <a:path w="480" h="112">
                <a:moveTo>
                  <a:pt x="0" y="0"/>
                </a:moveTo>
                <a:cubicBezTo>
                  <a:pt x="40" y="40"/>
                  <a:pt x="80" y="80"/>
                  <a:pt x="144" y="96"/>
                </a:cubicBezTo>
                <a:cubicBezTo>
                  <a:pt x="208" y="112"/>
                  <a:pt x="328" y="112"/>
                  <a:pt x="384" y="96"/>
                </a:cubicBezTo>
                <a:cubicBezTo>
                  <a:pt x="440" y="80"/>
                  <a:pt x="464" y="16"/>
                  <a:pt x="480" y="0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52680" y="2193840"/>
            <a:ext cx="7632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2209680"/>
            <a:ext cx="7596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2193840"/>
            <a:ext cx="7596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2193840"/>
            <a:ext cx="7632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660680"/>
            <a:ext cx="17524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Vapor (ste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   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641760"/>
            <a:ext cx="160020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5546880"/>
            <a:ext cx="380988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limentación (solución diluí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           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J/kg  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24480" y="4419720"/>
            <a:ext cx="25909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olución concentrada (produc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  J/kg  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588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1522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vaporador simple: balance de masa y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1219320"/>
            <a:ext cx="990360" cy="74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1727280"/>
            <a:ext cx="990360" cy="253800"/>
          </a:xfrm>
          <a:custGeom>
            <a:avLst/>
            <a:gdLst/>
            <a:ahLst/>
            <a:rect l="l" t="t" r="r" b="b"/>
            <a:pathLst>
              <a:path w="624" h="160">
                <a:moveTo>
                  <a:pt x="0" y="160"/>
                </a:moveTo>
                <a:cubicBezTo>
                  <a:pt x="0" y="96"/>
                  <a:pt x="0" y="32"/>
                  <a:pt x="48" y="16"/>
                </a:cubicBezTo>
                <a:cubicBezTo>
                  <a:pt x="96" y="0"/>
                  <a:pt x="208" y="64"/>
                  <a:pt x="288" y="64"/>
                </a:cubicBezTo>
                <a:cubicBezTo>
                  <a:pt x="368" y="64"/>
                  <a:pt x="472" y="0"/>
                  <a:pt x="528" y="16"/>
                </a:cubicBezTo>
                <a:cubicBezTo>
                  <a:pt x="584" y="32"/>
                  <a:pt x="604" y="96"/>
                  <a:pt x="624" y="160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1955880"/>
            <a:ext cx="1460520" cy="177840"/>
          </a:xfrm>
          <a:custGeom>
            <a:avLst/>
            <a:gdLst/>
            <a:ahLst/>
            <a:rect l="l" t="t" r="r" b="b"/>
            <a:pathLst>
              <a:path w="920" h="112">
                <a:moveTo>
                  <a:pt x="0" y="16"/>
                </a:moveTo>
                <a:cubicBezTo>
                  <a:pt x="308" y="8"/>
                  <a:pt x="616" y="0"/>
                  <a:pt x="768" y="16"/>
                </a:cubicBezTo>
                <a:cubicBezTo>
                  <a:pt x="920" y="32"/>
                  <a:pt x="888" y="96"/>
                  <a:pt x="912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2133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1480" y="2057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2280" y="457200"/>
            <a:ext cx="510552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entalpía en lado del va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or que entra = Calor que s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transferido desde vapor a l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ntalpía específica del vapor de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ntalpía específica del 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Calor de condensación del va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Flujo m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co de vapor y 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0" y="313992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410080" y="1600200"/>
                <a:ext cx="3505320" cy="20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H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H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</m:e>
                      <m:e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s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152280"/>
            <a:ext cx="58672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entalpía en el lado de la solu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or que entra = calor que s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143000" y="1752480"/>
                <a:ext cx="5715000" cy="400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H</m:t>
                        </m:r>
                        <m:r>
                          <m:t xml:space="preserve">f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H</m:t>
                        </m:r>
                      </m:e>
                      <m:e/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H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H</m:t>
                        </m:r>
                        <m:r>
                          <m:t xml:space="preserve">f</m:t>
                        </m:r>
                      </m:e>
                      <m:e/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ujo de solución alimentación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ujo de solución concentrada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</m:t>
                        </m:r>
                        <m:r>
                          <m:rPr>
                            <m:lit/>
                            <m:nor/>
                          </m:rPr>
                          <m:t xml:space="preserve"> específica de vapor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 específica de solución alimentada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 específica de solución concentrad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0" y="240516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14400" y="228600"/>
            <a:ext cx="41148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ausencia de pérdidas  q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8144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33526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uando el calor de dilución es apreciable, para aplicar esta ecuación se usan datos de diagrama entalpía-concentración (Figura 16.8 McCabe y Smith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527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371600" y="914400"/>
                <a:ext cx="54864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s</m:t>
                    </m:r>
                    <m:r>
                      <m:t xml:space="preserve">λ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</m:d>
                    <m:r>
                      <m:t xml:space="preserve">H</m:t>
                    </m:r>
                    <m:r>
                      <m:t xml:space="preserve">v</m:t>
                    </m:r>
                    <m:r>
                      <m:t xml:space="preserve">−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f</m:t>
                    </m:r>
                    <m:r>
                      <m:t xml:space="preserve">H</m:t>
                    </m:r>
                    <m:r>
                      <m:t xml:space="preserve">f</m:t>
                    </m:r>
                    <m:r>
                      <m:t xml:space="preserve">+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533520" y="1752480"/>
            <a:ext cx="670536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H dependen de las características de la solución que se concentra. El problema ingenieril usual consiste en determinar el flujo de vapor requerido ,m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cesario para satisfacer el requerimiento de calentamiento y evaporación de la solu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0"/>
            <a:ext cx="800100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544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o de soluciones con calor de dilución desprec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alor q requerido por la solución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q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q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    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para llevar la solución de la temperatura de entrada,T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a la temperatura de ebullición T; 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del requerimiento de evapo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0536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838080" y="3352680"/>
                <a:ext cx="2394000" cy="25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limUpp>
                          <m:e>
                            <m:r>
                              <m:t xml:space="preserve">m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lim>
                        </m:limUp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</m:e>
                      <m:e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Upp>
                              <m:e>
                                <m:limUpp>
                                  <m:e>
                                    <m:r>
                                      <m:t xml:space="preserve">m</m:t>
                                    </m:r>
                                  </m:e>
                                  <m:lim/>
                                </m:limUpp>
                                <m:r>
                                  <m:t xml:space="preserve">−</m:t>
                                </m:r>
                                <m:limUp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</m:e>
                                  <m:lim/>
                                </m:limUpp>
                              </m:e>
                              <m:lim/>
                            </m:limUpp>
                          </m:e>
                        </m:d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4267080" y="2819520"/>
            <a:ext cx="4572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específico de la solución diluí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latente de vaporización desde l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elevación del punto de ebullición despreciable se tiene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latente de vaporización del agua a la presión de la cámara de evapo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38080" y="4572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uego se tiene final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00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371600" y="1066680"/>
                <a:ext cx="388620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limUpp>
                          <m:e>
                            <m:r>
                              <m:t xml:space="preserve">m</m:t>
                            </m:r>
                          </m:e>
                          <m:lim/>
                        </m:limUpp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limUp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lim/>
                        </m:limUpp>
                        <m:r>
                          <m:t xml:space="preserve">−</m:t>
                        </m:r>
                        <m:limUpp>
                          <m:e>
                            <m:r>
                              <m:t xml:space="preserve">m</m:t>
                            </m:r>
                          </m:e>
                          <m:lim/>
                        </m:limUpp>
                      </m:e>
                    </m:d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914400" y="2438280"/>
            <a:ext cx="670572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&lt; T   se requiere una carga extra de calen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q calentamiento + q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gt; T    solución contribuye con calor :    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vaporación fl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evaporación – calor aportado 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= T , q = q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03:57:10Z</dcterms:created>
  <dc:creator>Tomás Vargas </dc:creator>
  <dc:description/>
  <dc:language>en-US</dc:language>
  <cp:lastModifiedBy>academico</cp:lastModifiedBy>
  <dcterms:modified xsi:type="dcterms:W3CDTF">2007-09-25T14:50:29Z</dcterms:modified>
  <cp:revision>22</cp:revision>
  <dc:subject/>
  <dc:title>Presentación de PowerPoint</dc:title>
</cp:coreProperties>
</file>