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F786-7C02-4632-B261-CD569A70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C52D-29A4-405B-A3C2-942EAC8F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F76D-9126-4C80-A675-4D6830E6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D02F-65DB-4E4A-82AA-04C77474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BE30-A6C6-48BC-8B68-BF47967F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2203-4176-43C4-AF08-6C56DD21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691C-8098-47A9-9FDB-E50B5AF2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41C6-C9F0-41A3-899B-C8C8DA75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9D2D-C789-46DA-95DE-C5A83C2E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EF98-23DF-445C-AA51-86DBB0A5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425F-43E9-441C-B0D9-A13818C1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ACA1-91CC-4B2A-BCC6-34D081F9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E55A-2EC0-4AF5-B5BB-9736FFEE5BA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VAPORACIO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(cap.16 McCabe y Smi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BJETIVO: concentrar una solución consistente en un soluto no volátil y un disolvente volátil mediante  evaporación del disolvente por agregado de calor a la 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sualmente precede a un proceso de crist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962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ris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0384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0384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4038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47242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3048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solvente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419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 diluída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4572000"/>
            <a:ext cx="14479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c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257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to (crist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715000"/>
            <a:ext cx="6553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azúcar           cristalización azú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  cristaliz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6934200">
            <a:off x="1752480" y="4647960"/>
            <a:ext cx="723960" cy="419040"/>
          </a:xfrm>
          <a:prstGeom prst="leftArrow">
            <a:avLst>
              <a:gd name="adj1" fmla="val 50000"/>
              <a:gd name="adj2" fmla="val 431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105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9334400">
            <a:off x="5486400" y="32767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228600"/>
            <a:ext cx="655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OPICO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ipos de evapo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eficientes de transferencia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pacidad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U A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    (kg agua evaporados/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onomía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Kg agua evaporados/ kg vapor (s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evación del punto de ebullición: regla de Duh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agramas entalpía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19920" y="1143000"/>
            <a:ext cx="27432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- m)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209680"/>
            <a:ext cx="76176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17366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9370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089680"/>
            <a:ext cx="609840" cy="152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2346480"/>
            <a:ext cx="609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1812960"/>
            <a:ext cx="60984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828800"/>
            <a:ext cx="990360" cy="746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25750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57800" y="25750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5089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5089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52419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5089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35576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4632480"/>
            <a:ext cx="6098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904760" y="463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9748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40" y="124"/>
                  <a:pt x="80" y="88"/>
                  <a:pt x="144" y="64"/>
                </a:cubicBezTo>
                <a:cubicBezTo>
                  <a:pt x="208" y="40"/>
                  <a:pt x="304" y="0"/>
                  <a:pt x="384" y="16"/>
                </a:cubicBezTo>
                <a:cubicBezTo>
                  <a:pt x="464" y="32"/>
                  <a:pt x="584" y="136"/>
                  <a:pt x="624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24224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516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165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3489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571640" y="5165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1558800"/>
            <a:ext cx="761760" cy="17784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112"/>
                </a:moveTo>
                <a:cubicBezTo>
                  <a:pt x="44" y="72"/>
                  <a:pt x="88" y="32"/>
                  <a:pt x="144" y="16"/>
                </a:cubicBezTo>
                <a:cubicBezTo>
                  <a:pt x="200" y="0"/>
                  <a:pt x="280" y="0"/>
                  <a:pt x="336" y="16"/>
                </a:cubicBezTo>
                <a:cubicBezTo>
                  <a:pt x="392" y="32"/>
                  <a:pt x="436" y="72"/>
                  <a:pt x="480" y="112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410080"/>
            <a:ext cx="761760" cy="25416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0"/>
                </a:moveTo>
                <a:cubicBezTo>
                  <a:pt x="40" y="40"/>
                  <a:pt x="80" y="80"/>
                  <a:pt x="144" y="96"/>
                </a:cubicBezTo>
                <a:cubicBezTo>
                  <a:pt x="208" y="112"/>
                  <a:pt x="328" y="112"/>
                  <a:pt x="384" y="96"/>
                </a:cubicBezTo>
                <a:cubicBezTo>
                  <a:pt x="440" y="80"/>
                  <a:pt x="464" y="16"/>
                  <a:pt x="480" y="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0968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19384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60680"/>
            <a:ext cx="1752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st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 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641760"/>
            <a:ext cx="16002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5546880"/>
            <a:ext cx="38098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imentación (solución diluí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        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J/kg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4419720"/>
            <a:ext cx="2590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olución concentrada (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 J/kg 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dor simple: balance de masa y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1219320"/>
            <a:ext cx="990360" cy="74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7272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0" y="96"/>
                  <a:pt x="0" y="32"/>
                  <a:pt x="48" y="16"/>
                </a:cubicBezTo>
                <a:cubicBezTo>
                  <a:pt x="96" y="0"/>
                  <a:pt x="208" y="64"/>
                  <a:pt x="288" y="64"/>
                </a:cubicBezTo>
                <a:cubicBezTo>
                  <a:pt x="368" y="64"/>
                  <a:pt x="472" y="0"/>
                  <a:pt x="528" y="16"/>
                </a:cubicBezTo>
                <a:cubicBezTo>
                  <a:pt x="584" y="32"/>
                  <a:pt x="604" y="96"/>
                  <a:pt x="624" y="16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1955880"/>
            <a:ext cx="1460520" cy="177840"/>
          </a:xfrm>
          <a:custGeom>
            <a:avLst/>
            <a:gdLst/>
            <a:ahLst/>
            <a:rect l="l" t="t" r="r" b="b"/>
            <a:pathLst>
              <a:path w="920" h="112">
                <a:moveTo>
                  <a:pt x="0" y="16"/>
                </a:moveTo>
                <a:cubicBezTo>
                  <a:pt x="308" y="8"/>
                  <a:pt x="616" y="0"/>
                  <a:pt x="768" y="16"/>
                </a:cubicBezTo>
                <a:cubicBezTo>
                  <a:pt x="920" y="32"/>
                  <a:pt x="888" y="96"/>
                  <a:pt x="912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133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457200"/>
            <a:ext cx="510552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lado del va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transferido desde vapor a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vapor de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Calor de condensación del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Flujo 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o de vapor y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0" y="31399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10080" y="1600200"/>
                <a:ext cx="350532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152280"/>
            <a:ext cx="5867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el lado de la solu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43000" y="1752480"/>
                <a:ext cx="5715000" cy="40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</m:e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</m:e>
                      <m:e/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alimentación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concentr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</m:t>
                        </m:r>
                        <m:r>
                          <m:rPr>
                            <m:lit/>
                            <m:nor/>
                          </m:rPr>
                          <m:t xml:space="preserve"> específica de vapor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aliment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concentra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0" y="24051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228600"/>
            <a:ext cx="41148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usencia de pérdidas  q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814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352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uando el calor de dilución es apreciable, para aplicar esta ecuación se usan datos de diagrama entalpía-concentración (Figura 16.8 McCabe y Smit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527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71600" y="914400"/>
                <a:ext cx="5486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s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  <m:r>
                      <m:t xml:space="preserve">H</m:t>
                    </m:r>
                    <m:r>
                      <m:t xml:space="preserve">v</m:t>
                    </m:r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f</m:t>
                    </m:r>
                    <m:r>
                      <m:t xml:space="preserve">H</m:t>
                    </m:r>
                    <m:r>
                      <m:t xml:space="preserve">f</m:t>
                    </m:r>
                    <m:r>
                      <m:t xml:space="preserve">+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33520" y="1752480"/>
            <a:ext cx="67053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H dependen de las características de la solución que se concentra. El problema ingenieril usual consiste en determinar el flujo de vapor requerido ,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cesario para satisfacer el requerimiento de calentamiento y evaporación de la solu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0"/>
            <a:ext cx="80010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de soluciones con calor de dilución desprec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lor q requerido por la solución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  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para llevar la solución de la temperatura de entrada,T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a la temperatura de ebullición T;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del requerimiento de evapo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053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38080" y="3352680"/>
                <a:ext cx="239400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limUpp>
                                  <m:e>
                                    <m:r>
                                      <m:t xml:space="preserve">m</m:t>
                                    </m:r>
                                  </m:e>
                                  <m:lim/>
                                </m:limUpp>
                                <m:r>
                                  <m:t xml:space="preserve">−</m:t>
                                </m:r>
                                <m:limUp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  <m:lim/>
                                </m:limUpp>
                              </m:e>
                              <m:lim/>
                            </m:limUpp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267080" y="2819520"/>
            <a:ext cx="45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específico de la solución dilu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latente de vaporización des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levación del punto de ebullición despreciable se tiene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latente de vaporización del agua a la presión de la cámara de evapo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457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 se tiene final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0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71600" y="1066680"/>
                <a:ext cx="38862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limUp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lim/>
                        </m:limUpp>
                        <m:r>
                          <m:t xml:space="preserve">−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</m:d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914400" y="2438280"/>
            <a:ext cx="67057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&lt; T   se requiere una carga extra de calen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q calentamiento +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gt; T    solución contribuye con calor :   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ción 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evaporación – calor aportado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T , q =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03:57:10Z</dcterms:created>
  <dc:creator>Tomás Vargas </dc:creator>
  <dc:description/>
  <dc:language>en-US</dc:language>
  <cp:lastModifiedBy>academico</cp:lastModifiedBy>
  <dcterms:modified xsi:type="dcterms:W3CDTF">2007-09-25T14:50:29Z</dcterms:modified>
  <cp:revision>22</cp:revision>
  <dc:subject/>
  <dc:title>Presentación de PowerPoint</dc:title>
</cp:coreProperties>
</file>