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B28D-4045-4503-8C2B-0B4BF65D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D3E9-E696-44B5-91FE-205594CF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707B-F625-4D17-B4CD-7E2C9ADC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0B15-592C-4635-8790-F74E784D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A201-C6A8-4807-B298-3025E4BE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792E-F351-4FE5-AD1B-0767119C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B209-56C8-47D4-8143-2006ACBB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0937-4243-494A-B492-C3160923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DA52-815F-44E4-A11F-C9FBDEF3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3C80-FB0B-4B8C-B9FE-758119DB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66CD-49A6-48F2-A5F5-5F1D6745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72EF-FFC8-4636-A36E-EFDFB01B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BBAB-2635-4B48-AFAC-5D3B37A22FF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VAPORACIO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cap.16 McCabe y Smi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BJETIVO: concentrar una solución consistente en un soluto no volátil y un disolvente volátil mediante  evaporación del disolvente por agregado de calor a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sualmente precede a un proceso de crist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is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038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038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4038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47242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solvente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41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 diluída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572000"/>
            <a:ext cx="14479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257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to (crist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655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azúcar           cristalización azú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cristaliz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6934200">
            <a:off x="1752480" y="4647960"/>
            <a:ext cx="723960" cy="419040"/>
          </a:xfrm>
          <a:prstGeom prst="leftArrow">
            <a:avLst>
              <a:gd name="adj1" fmla="val 50000"/>
              <a:gd name="adj2" fmla="val 431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334400">
            <a:off x="5486400" y="32767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860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OPICO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 de evapo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eficientes de transferenci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pacidad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U 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    (kg agua evaporados/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onomía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Kg agua evaporados/ kg vapor (s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evación del punto de ebullición: regla de Duh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agramas entalpía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19920" y="1143000"/>
            <a:ext cx="2743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m)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209680"/>
            <a:ext cx="76176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7366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9370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89680"/>
            <a:ext cx="609840" cy="152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34648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1812960"/>
            <a:ext cx="60984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828800"/>
            <a:ext cx="990360" cy="746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575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57800" y="2575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08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508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52419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5089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35576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632480"/>
            <a:ext cx="6098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904760" y="463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9748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40" y="124"/>
                  <a:pt x="80" y="88"/>
                  <a:pt x="144" y="64"/>
                </a:cubicBezTo>
                <a:cubicBezTo>
                  <a:pt x="208" y="40"/>
                  <a:pt x="304" y="0"/>
                  <a:pt x="384" y="16"/>
                </a:cubicBezTo>
                <a:cubicBezTo>
                  <a:pt x="464" y="32"/>
                  <a:pt x="584" y="136"/>
                  <a:pt x="624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422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16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165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489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71640" y="5165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558800"/>
            <a:ext cx="761760" cy="17784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112"/>
                </a:moveTo>
                <a:cubicBezTo>
                  <a:pt x="44" y="72"/>
                  <a:pt x="88" y="32"/>
                  <a:pt x="144" y="16"/>
                </a:cubicBezTo>
                <a:cubicBezTo>
                  <a:pt x="200" y="0"/>
                  <a:pt x="280" y="0"/>
                  <a:pt x="336" y="16"/>
                </a:cubicBezTo>
                <a:cubicBezTo>
                  <a:pt x="392" y="32"/>
                  <a:pt x="436" y="72"/>
                  <a:pt x="480" y="112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410080"/>
            <a:ext cx="761760" cy="25416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cubicBezTo>
                  <a:pt x="40" y="40"/>
                  <a:pt x="80" y="80"/>
                  <a:pt x="144" y="96"/>
                </a:cubicBezTo>
                <a:cubicBezTo>
                  <a:pt x="208" y="112"/>
                  <a:pt x="328" y="112"/>
                  <a:pt x="384" y="96"/>
                </a:cubicBezTo>
                <a:cubicBezTo>
                  <a:pt x="440" y="80"/>
                  <a:pt x="464" y="16"/>
                  <a:pt x="480" y="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0968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19384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60680"/>
            <a:ext cx="1752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s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 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641760"/>
            <a:ext cx="1600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546880"/>
            <a:ext cx="3809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imentación (solución diluí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J/kg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4419720"/>
            <a:ext cx="2590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olución concentrada (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 J/kg 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dor simple: balance de masa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219320"/>
            <a:ext cx="9903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7272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0" y="96"/>
                  <a:pt x="0" y="32"/>
                  <a:pt x="48" y="16"/>
                </a:cubicBezTo>
                <a:cubicBezTo>
                  <a:pt x="96" y="0"/>
                  <a:pt x="208" y="64"/>
                  <a:pt x="288" y="64"/>
                </a:cubicBezTo>
                <a:cubicBezTo>
                  <a:pt x="368" y="64"/>
                  <a:pt x="472" y="0"/>
                  <a:pt x="528" y="16"/>
                </a:cubicBezTo>
                <a:cubicBezTo>
                  <a:pt x="584" y="32"/>
                  <a:pt x="604" y="96"/>
                  <a:pt x="624" y="16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1955880"/>
            <a:ext cx="1460520" cy="177840"/>
          </a:xfrm>
          <a:custGeom>
            <a:avLst/>
            <a:gdLst/>
            <a:ahLst/>
            <a:rect l="l" t="t" r="r" b="b"/>
            <a:pathLst>
              <a:path w="920" h="112">
                <a:moveTo>
                  <a:pt x="0" y="16"/>
                </a:moveTo>
                <a:cubicBezTo>
                  <a:pt x="308" y="8"/>
                  <a:pt x="616" y="0"/>
                  <a:pt x="768" y="16"/>
                </a:cubicBezTo>
                <a:cubicBezTo>
                  <a:pt x="920" y="32"/>
                  <a:pt x="888" y="96"/>
                  <a:pt x="91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133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5105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lado del va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transferido desde vapor a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vapor de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Calor de condensación del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Flujo 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o de vapor y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3139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10080" y="1600200"/>
                <a:ext cx="350532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52280"/>
            <a:ext cx="586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el lado de la solu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43000" y="1752480"/>
                <a:ext cx="5715000" cy="40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</m:e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</m:e>
                      <m:e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alimentación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concentr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</m:t>
                        </m:r>
                        <m:r>
                          <m:rPr>
                            <m:lit/>
                            <m:nor/>
                          </m:rPr>
                          <m:t xml:space="preserve"> específica de vapor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aliment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concentra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24051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228600"/>
            <a:ext cx="4114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usencia de pérdidas 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352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ando el calor de dilución es apreciable, para aplicar esta ecuación se usan datos de diagrama entalpía-concentración (Figura 16.8 McCabe y Smi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527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71600" y="914400"/>
                <a:ext cx="5486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s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  <m:r>
                      <m:t xml:space="preserve">H</m:t>
                    </m:r>
                    <m:r>
                      <m:t xml:space="preserve">v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f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33520" y="1752480"/>
            <a:ext cx="6705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H dependen de las características de la solución que se concentra. El problema ingenieril usual consiste en determinar el flujo de vapor requerido ,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cesario para satisfacer el requerimiento de calentamiento y evaporación de la solu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0"/>
            <a:ext cx="8001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de soluciones con calor de dilución desprec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or q requerido por la solución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  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para llevar la solución de la temperatura de entrada,T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 la temperatura de ebullición T;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del requerimiento de eva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053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38080" y="3352680"/>
                <a:ext cx="23940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  <m:r>
                                  <m:t xml:space="preserve">−</m:t>
                                </m:r>
                                <m:limUp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lim/>
                                </m:limUpp>
                              </m:e>
                              <m:lim/>
                            </m:limUpp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67080" y="28195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específico de la solución dilu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latente de vaporización des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levación del punto de ebullición despreciable se tien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latente de vaporización del agua a la presión de la cámara de evapo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 se tiene final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71600" y="1066680"/>
                <a:ext cx="3886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</m:d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14400" y="2438280"/>
            <a:ext cx="6705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&lt; T   se requiere una carga extra de 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q calentamiento +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gt; T    solución contribuye con calor :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ción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evaporación – calor aportado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T , q =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3:57:10Z</dcterms:created>
  <dc:creator>Tomás Vargas </dc:creator>
  <dc:description/>
  <dc:language>en-US</dc:language>
  <cp:lastModifiedBy>academico</cp:lastModifiedBy>
  <dcterms:modified xsi:type="dcterms:W3CDTF">2007-09-25T14:50:29Z</dcterms:modified>
  <cp:revision>22</cp:revision>
  <dc:subject/>
  <dc:title>Presentación de PowerPoint</dc:title>
</cp:coreProperties>
</file>