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21D-9AFD-4BF9-811D-9E1A2DE0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6BC-67D1-4812-A842-49927949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6A3A-C414-4803-B664-5DFE099B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1C4-E943-405B-BFDE-C294C135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640-8F94-4D67-9262-6595AC86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CBC-476A-4102-8B1E-A3350F66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BA9-C849-416B-BC3E-49347DAF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87A-A34C-4CC8-BCA6-DF6F0CF7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242-3D0A-44B0-B368-8888F213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DC5-B283-4FE6-B48F-AE2DF131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9F8-5E7E-4303-89BC-5251BAAD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C21-FC2E-495F-995A-3BB891C6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9E4B-49C8-4473-A6CF-BCA8466699C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763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QUIPOS DE INTERCAMBIO DE CALOR CON SUPERFICIES EXTEN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el caso de flujo de calor entre dos fluídos a través de una pared cilíndrica se determinó que la resistencia está dada por la expres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9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819520"/>
            <a:ext cx="77724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&lt;&lt;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p.ej. calentamiento de aire estanco en exterior con vapor condensante en interior) la resistencia principal  está dada en película de  aire (términ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 disminuye si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aum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fecto aument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181480"/>
            <a:ext cx="9907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5410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3581280"/>
            <a:ext cx="1600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40384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55627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02920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5627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62320" y="48765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943600"/>
            <a:ext cx="3276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cambiadores con aleta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71800" y="1600200"/>
                <a:ext cx="2819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533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iterios para el diseño y dimensionamiento de equipos de intercambio de calor con 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46520" y="2527200"/>
            <a:ext cx="139680" cy="343080"/>
          </a:xfrm>
          <a:custGeom>
            <a:avLst/>
            <a:gdLst/>
            <a:ahLst/>
            <a:rect l="l" t="t" r="r" b="b"/>
            <a:pathLst>
              <a:path w="88" h="216">
                <a:moveTo>
                  <a:pt x="88" y="0"/>
                </a:moveTo>
                <a:cubicBezTo>
                  <a:pt x="40" y="16"/>
                  <a:pt x="16" y="49"/>
                  <a:pt x="0" y="96"/>
                </a:cubicBezTo>
                <a:cubicBezTo>
                  <a:pt x="12" y="132"/>
                  <a:pt x="35" y="161"/>
                  <a:pt x="56" y="192"/>
                </a:cubicBezTo>
                <a:cubicBezTo>
                  <a:pt x="61" y="200"/>
                  <a:pt x="62" y="216"/>
                  <a:pt x="72" y="216"/>
                </a:cubicBezTo>
                <a:cubicBezTo>
                  <a:pt x="77" y="216"/>
                  <a:pt x="83" y="216"/>
                  <a:pt x="88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00680" y="2527200"/>
            <a:ext cx="380880" cy="373320"/>
          </a:xfrm>
          <a:custGeom>
            <a:avLst/>
            <a:gdLst/>
            <a:ahLst/>
            <a:rect l="l" t="t" r="r" b="b"/>
            <a:pathLst>
              <a:path w="240" h="235">
                <a:moveTo>
                  <a:pt x="88" y="0"/>
                </a:moveTo>
                <a:cubicBezTo>
                  <a:pt x="72" y="5"/>
                  <a:pt x="49" y="2"/>
                  <a:pt x="40" y="16"/>
                </a:cubicBezTo>
                <a:cubicBezTo>
                  <a:pt x="24" y="40"/>
                  <a:pt x="16" y="64"/>
                  <a:pt x="0" y="88"/>
                </a:cubicBezTo>
                <a:cubicBezTo>
                  <a:pt x="3" y="104"/>
                  <a:pt x="1" y="121"/>
                  <a:pt x="8" y="136"/>
                </a:cubicBezTo>
                <a:cubicBezTo>
                  <a:pt x="12" y="145"/>
                  <a:pt x="25" y="145"/>
                  <a:pt x="32" y="152"/>
                </a:cubicBezTo>
                <a:cubicBezTo>
                  <a:pt x="85" y="205"/>
                  <a:pt x="8" y="149"/>
                  <a:pt x="72" y="192"/>
                </a:cubicBezTo>
                <a:cubicBezTo>
                  <a:pt x="100" y="235"/>
                  <a:pt x="107" y="233"/>
                  <a:pt x="160" y="224"/>
                </a:cubicBezTo>
                <a:cubicBezTo>
                  <a:pt x="185" y="199"/>
                  <a:pt x="207" y="193"/>
                  <a:pt x="232" y="168"/>
                </a:cubicBezTo>
                <a:cubicBezTo>
                  <a:pt x="235" y="155"/>
                  <a:pt x="240" y="142"/>
                  <a:pt x="240" y="128"/>
                </a:cubicBezTo>
                <a:cubicBezTo>
                  <a:pt x="240" y="3"/>
                  <a:pt x="203" y="0"/>
                  <a:pt x="88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19076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600200"/>
            <a:ext cx="254160" cy="927000"/>
          </a:xfrm>
          <a:custGeom>
            <a:avLst/>
            <a:gdLst/>
            <a:ahLst/>
            <a:rect l="l" t="t" r="r" b="b"/>
            <a:pathLst>
              <a:path w="160" h="584">
                <a:moveTo>
                  <a:pt x="144" y="584"/>
                </a:moveTo>
                <a:cubicBezTo>
                  <a:pt x="152" y="508"/>
                  <a:pt x="160" y="432"/>
                  <a:pt x="144" y="344"/>
                </a:cubicBezTo>
                <a:cubicBezTo>
                  <a:pt x="128" y="256"/>
                  <a:pt x="72" y="112"/>
                  <a:pt x="48" y="56"/>
                </a:cubicBezTo>
                <a:cubicBezTo>
                  <a:pt x="24" y="0"/>
                  <a:pt x="8" y="16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89548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36"/>
                  <a:pt x="112" y="72"/>
                  <a:pt x="96" y="144"/>
                </a:cubicBezTo>
                <a:cubicBezTo>
                  <a:pt x="80" y="216"/>
                  <a:pt x="16" y="38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1600200"/>
            <a:ext cx="330480" cy="2057400"/>
          </a:xfrm>
          <a:custGeom>
            <a:avLst/>
            <a:gdLst/>
            <a:ahLst/>
            <a:rect l="l" t="t" r="r" b="b"/>
            <a:pathLst>
              <a:path w="208" h="1296">
                <a:moveTo>
                  <a:pt x="0" y="0"/>
                </a:moveTo>
                <a:cubicBezTo>
                  <a:pt x="32" y="40"/>
                  <a:pt x="64" y="80"/>
                  <a:pt x="96" y="144"/>
                </a:cubicBezTo>
                <a:cubicBezTo>
                  <a:pt x="128" y="208"/>
                  <a:pt x="176" y="304"/>
                  <a:pt x="192" y="384"/>
                </a:cubicBezTo>
                <a:cubicBezTo>
                  <a:pt x="208" y="464"/>
                  <a:pt x="192" y="560"/>
                  <a:pt x="192" y="624"/>
                </a:cubicBezTo>
                <a:cubicBezTo>
                  <a:pt x="192" y="688"/>
                  <a:pt x="192" y="720"/>
                  <a:pt x="192" y="768"/>
                </a:cubicBezTo>
                <a:cubicBezTo>
                  <a:pt x="192" y="816"/>
                  <a:pt x="200" y="856"/>
                  <a:pt x="192" y="912"/>
                </a:cubicBezTo>
                <a:cubicBezTo>
                  <a:pt x="184" y="968"/>
                  <a:pt x="168" y="1040"/>
                  <a:pt x="144" y="1104"/>
                </a:cubicBezTo>
                <a:cubicBezTo>
                  <a:pt x="120" y="1168"/>
                  <a:pt x="64" y="1264"/>
                  <a:pt x="48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514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1981080"/>
            <a:ext cx="83808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0" y="432"/>
                </a:moveTo>
                <a:cubicBezTo>
                  <a:pt x="124" y="372"/>
                  <a:pt x="248" y="312"/>
                  <a:pt x="336" y="240"/>
                </a:cubicBezTo>
                <a:cubicBezTo>
                  <a:pt x="424" y="168"/>
                  <a:pt x="476" y="84"/>
                  <a:pt x="5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029200" y="18284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3120" y="2133720"/>
            <a:ext cx="36781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entra por cond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sale por con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lor que sale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18288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2280" y="3962520"/>
                <a:ext cx="243864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rímet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605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35560" y="4724280"/>
                <a:ext cx="3808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068640" y="4952880"/>
            <a:ext cx="13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50292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5029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95800" y="506520"/>
            <a:ext cx="59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caso de aletas de sección uniforme, A(x)=A, P(x)=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 ecuación se simplific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15228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6858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767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95280" y="1371600"/>
                <a:ext cx="2819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62120" y="2514600"/>
            <a:ext cx="7696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 condiciones de borde T(0) =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dT/dx =0  en x = L (largo aleta),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70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43000" y="3657600"/>
                <a:ext cx="24382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den>
                        </m:f>
                      </m:e>
                      <m:e/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A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V="1">
            <a:off x="5562720" y="35049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052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95680" y="4191120"/>
                <a:ext cx="914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                  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733920"/>
            <a:ext cx="2361960" cy="167616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0"/>
                </a:moveTo>
                <a:cubicBezTo>
                  <a:pt x="28" y="152"/>
                  <a:pt x="56" y="304"/>
                  <a:pt x="144" y="432"/>
                </a:cubicBezTo>
                <a:cubicBezTo>
                  <a:pt x="232" y="560"/>
                  <a:pt x="304" y="664"/>
                  <a:pt x="528" y="768"/>
                </a:cubicBezTo>
                <a:cubicBezTo>
                  <a:pt x="752" y="872"/>
                  <a:pt x="1328" y="1008"/>
                  <a:pt x="1488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809880"/>
            <a:ext cx="2361960" cy="1447920"/>
          </a:xfrm>
          <a:custGeom>
            <a:avLst/>
            <a:gdLst/>
            <a:ahLst/>
            <a:rect l="l" t="t" r="r" b="b"/>
            <a:pathLst>
              <a:path w="1488" h="912">
                <a:moveTo>
                  <a:pt x="0" y="0"/>
                </a:moveTo>
                <a:cubicBezTo>
                  <a:pt x="60" y="108"/>
                  <a:pt x="120" y="216"/>
                  <a:pt x="288" y="336"/>
                </a:cubicBezTo>
                <a:cubicBezTo>
                  <a:pt x="456" y="456"/>
                  <a:pt x="808" y="624"/>
                  <a:pt x="1008" y="720"/>
                </a:cubicBezTo>
                <a:cubicBezTo>
                  <a:pt x="1208" y="816"/>
                  <a:pt x="1348" y="864"/>
                  <a:pt x="1488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733920"/>
            <a:ext cx="2438280" cy="990360"/>
          </a:xfrm>
          <a:custGeom>
            <a:avLst/>
            <a:gdLst/>
            <a:ahLst/>
            <a:rect l="l" t="t" r="r" b="b"/>
            <a:pathLst>
              <a:path w="1536" h="624">
                <a:moveTo>
                  <a:pt x="0" y="0"/>
                </a:moveTo>
                <a:cubicBezTo>
                  <a:pt x="92" y="80"/>
                  <a:pt x="184" y="160"/>
                  <a:pt x="336" y="240"/>
                </a:cubicBezTo>
                <a:cubicBezTo>
                  <a:pt x="488" y="320"/>
                  <a:pt x="712" y="416"/>
                  <a:pt x="912" y="480"/>
                </a:cubicBezTo>
                <a:cubicBezTo>
                  <a:pt x="1112" y="544"/>
                  <a:pt x="1324" y="584"/>
                  <a:pt x="153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429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4600" y="1219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990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533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8920" y="1522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total transferido por aleta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76520"/>
            <a:ext cx="89154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la práctica para aplicar lo anterior al diseño se introduce el concepto de eficiencia de al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q/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que q es el calor real transmitido por la aleta (el calculado anteriormente) y 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máximo que es posible transferir por la aleta (caso en que T(x)=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 De este modo q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 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T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43000" y="60948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380880"/>
            <a:ext cx="678168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uego el calor total transmitido por las aletas (área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y la superficie exterior del tubo libre de aletas 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= h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emplazando en la expresion de la resistencia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86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19320" y="2666880"/>
                <a:ext cx="44956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14400" y="4267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la eficiencia de la aleta aumenta, disminuye la resistencia a la transferencia de calor. ¿qué diseño de aleta produce buenas eficienc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5:42:27Z</dcterms:created>
  <dc:creator>Tomás Vargas </dc:creator>
  <dc:description/>
  <dc:language>en-US</dc:language>
  <cp:lastModifiedBy>Tomas Vargas</cp:lastModifiedBy>
  <dcterms:modified xsi:type="dcterms:W3CDTF">2007-08-06T22:35:20Z</dcterms:modified>
  <cp:revision>9</cp:revision>
  <dc:subject/>
  <dc:title>Presentación de PowerPoint</dc:title>
</cp:coreProperties>
</file>