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2093B-D4C4-4DF5-846F-CAD179375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584E9-578F-404F-BA21-20E16CC9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57AF0-7350-4D10-8B2F-CEABA5033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630F-5B88-4DFD-A2CA-9027A4FB7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8C761-C788-468C-81C8-9103059B5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4E2B-CC47-48D1-A3C3-695E63DE7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16A7-6A6E-4749-8D6C-C0FD5396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CE37-53EB-49AA-91CC-CD7F16D7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1B68-244F-47B8-B32C-EF8CA8918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347E-5BBE-4040-A85E-43537991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3866-0EE4-4EED-A08D-CDF09CD7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F6F6-89B5-4D11-9A14-485C1F119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A32C-DBC6-43A8-ABC2-B741D426B7B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8-08-11T19:02:27Z</dcterms:modified>
  <cp:revision>7</cp:revision>
  <dc:subject/>
  <dc:title>Presentación de PowerPoint</dc:title>
</cp:coreProperties>
</file>