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5B3C3-048D-4ACE-8860-4B81B8543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D7E6D-E445-44FD-97D7-2D4B30950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3E3B3-37D5-45DB-B820-256400CE7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F5E83-BF43-43CE-ACB8-CF6A12FAA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D724-E538-4A96-A2D8-987AD90BF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C7711-9E3F-414D-9034-2A7A2F366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206A4-8679-4FF5-AFE7-FFDBD047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901D0-FF14-4BC8-BEC9-679815569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D0F6B-E75B-4B31-AC52-8B06208BC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CFD12-0824-4170-9A5D-F68AADE6E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F60A-7B96-48AF-AB79-24E6C51AB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7F134-120A-4121-A65A-9C0C954D7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E39C-02D8-41CE-A632-79122A42DE3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as Vargas</cp:lastModifiedBy>
  <dcterms:modified xsi:type="dcterms:W3CDTF">2008-08-11T19:02:27Z</dcterms:modified>
  <cp:revision>7</cp:revision>
  <dc:subject/>
  <dc:title>Presentación de PowerPoint</dc:title>
</cp:coreProperties>
</file>