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2CB82-5E9B-4991-8A04-51A6549AC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2EA58-220B-4C1E-B3EE-5337A053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5A3F0-6EDB-46EC-ABAF-1ACC21B1A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ED42A-5085-480A-857D-27BBBA908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038CC-C059-4A03-9CEA-E1F129A8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4AA86-D232-4318-86E4-757428EC1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0DE96-88BC-4CCB-8C8C-8432D2781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FA8D-D8AA-4BA8-84AD-77EEC35F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A25B0-80AA-4463-91B9-1B45A55DE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45FC3-FA70-4F12-8847-3BC1D95DE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281A-A420-494F-B938-D732314E3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BB849-A356-4224-8BB3-BE9858368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AE22-DEB4-4663-B14F-C960BB8CF6E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8-08-11T19:02:27Z</dcterms:modified>
  <cp:revision>7</cp:revision>
  <dc:subject/>
  <dc:title>Presentación de PowerPoint</dc:title>
</cp:coreProperties>
</file>