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9B0-8AA0-4221-880E-98FFA2C3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91F-F2D1-4EE8-B65F-C84E1ED1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8FB-C19A-4871-A2CE-6CC76102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AFFA-BA9D-4FD0-B7FE-0D2C666E1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386-6937-4251-8826-61E6601B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13F7-CF55-4781-B248-FA135273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A9F-D6A8-4DAF-AFFF-4D7BAB0C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1718-F962-497D-A26B-AA20E151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EF4-B50F-421D-B418-E36AAF89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396D-4C91-4D5B-AC2D-7459DDE1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81F-2440-487C-844A-98A848EE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FD0-C282-4786-81C9-5F5C467E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F1C9-6722-4D14-BE29-05E6639C704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1219320"/>
          <a:ext cx="6929640" cy="48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219320"/>
                    <a:ext cx="692964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2286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9966ff"/>
                </a:solidFill>
                <a:latin typeface="Times New Roman"/>
              </a:rPr>
              <a:t>Intercambiador de calor de tubos concéntr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744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0" y="380880"/>
          <a:ext cx="5715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571500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334120" y="3048120"/>
          <a:ext cx="3209760" cy="32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3048120"/>
                    <a:ext cx="32097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178000">
            <a:off x="2437920" y="5105520"/>
            <a:ext cx="4343400" cy="83808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457200"/>
            <a:ext cx="9144000" cy="56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E CALOR TOTAL EN EL INTERCAMBIAD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Calor que cede el fluído calient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= Calor que absorbe el fluído frí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((mC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– T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Si no hay pérdidas importantes de cal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= Q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 (Balance de calor total del intercambiador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BALANCE DIFERENCIAL DE CALOR EN AREA 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 (calor cedido por fluído caliente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dq = (mC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dT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   (calor absorbido por fluído frío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16002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2666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53080" y="37339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487692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54100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Ec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0244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743200" y="609480"/>
                <a:ext cx="22860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8380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5764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819520" y="1295280"/>
                <a:ext cx="2057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3520" y="1981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ton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90920" y="160020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ΔT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Δ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457880" y="3340080"/>
                <a:ext cx="2286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410040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2590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o de balances diferenciales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632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62320" y="5029200"/>
                <a:ext cx="350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406224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429000" y="3124080"/>
                <a:ext cx="190512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C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609480" y="4495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a velocidad de transferencia de calor en dA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533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1295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c.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718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819520" y="990720"/>
                <a:ext cx="2666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i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7621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balance global (Ec 1: Ec. 2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2057400"/>
            <a:ext cx="5715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ustituyendo 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/(mC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en Ec. 8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145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838080" y="2895480"/>
                <a:ext cx="74678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ut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83808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ue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19320" y="4343400"/>
                <a:ext cx="556236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n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out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762120" y="56386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emplazando dq de Ec. 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3908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590920" y="304920"/>
                <a:ext cx="38862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1143000"/>
            <a:ext cx="8915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ordenando y suponiendo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stante a lo largo del intercambi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028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33720" y="1676520"/>
                <a:ext cx="43434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ΔT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ΔT</m:t>
                        </m:r>
                        <m:r>
                          <m:t xml:space="preserve">2</m:t>
                        </m:r>
                      </m:sup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Δ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AO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762120" y="2895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e donde se tien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286000" y="3429000"/>
                <a:ext cx="39625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838080" y="48006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3809880"/>
            <a:ext cx="8077320" cy="29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, ento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=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stas ecuaciones son válidas para flujo paralelo (co-corriente), flujo contracorriente, condensadores y evaporadores (ver siguiente diaposi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74674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n el caso de que el coeficiente U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varía alo largo del intercambiador se puede tomar los valores en los extremos 1 y 2 y calcular en forma mas precisa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9080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76520" y="1981080"/>
                <a:ext cx="3504960" cy="14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Δ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ΔT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57200" y="990720"/>
          <a:ext cx="7848720" cy="53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784872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685800" y="152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erfiles de temperatura en intercambiadores de 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1T23:46:22Z</dcterms:created>
  <dc:creator>Tomás Vargas </dc:creator>
  <dc:description/>
  <dc:language>en-US</dc:language>
  <cp:lastModifiedBy>Tomas Vargas</cp:lastModifiedBy>
  <dcterms:modified xsi:type="dcterms:W3CDTF">2008-08-11T19:01:59Z</dcterms:modified>
  <cp:revision>9</cp:revision>
  <dc:subject/>
  <dc:title>Presentación de PowerPoint</dc:title>
</cp:coreProperties>
</file>