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902-03FD-4BF8-91CB-33EBE62A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90D-EC50-44A7-B4C7-516CD50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C89-C433-4D5A-AEDD-B0896C54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F9-CC81-41C1-9B28-CA96E22D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0DD-110A-4924-B716-F04F9D3C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179-671A-43E8-9BEE-42802DD2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92E-737E-49B0-B019-4F599C9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ED8-FB4F-4ADC-8F4C-FD81FBA0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1C5-3626-4EF9-9C09-466276C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F17-3E29-4C09-A791-065C3A9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743-3899-426B-A1A9-550D11C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EF0-D3EC-4657-9FDE-98D6D70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45C-1843-4DD1-82E4-E1F44BD08A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8-08-11T19:01:59Z</dcterms:modified>
  <cp:revision>9</cp:revision>
  <dc:subject/>
  <dc:title>Presentación de PowerPoint</dc:title>
</cp:coreProperties>
</file>