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3004-E041-406D-9507-78A6395B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6BF-50C5-4595-969A-BE542F4B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1DE-1A09-4146-92DD-7E212980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38C-D832-48C8-BCC6-21CE48C8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2AB-006A-46AE-B8FC-411ED2BF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F08-53EA-4E47-9686-510B2146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2E2A-973C-4A02-AF06-C9D88345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F09-F92C-43C0-999B-A5B8AE3C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2F0E-1E5B-4EEF-B0C5-02F089DC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79B-FD8E-4B31-BC1A-63BBC9EC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546-6165-4892-BD95-1D73882B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FB8-07A6-47C3-A4BF-B8FCAEDC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49F3-87FB-4E65-ABEF-689F4D8D822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1219320"/>
          <a:ext cx="692964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69296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66ff"/>
                </a:solidFill>
                <a:latin typeface="Times New Roman"/>
              </a:rPr>
              <a:t>Intercambiador de calor de tubos concént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74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380880"/>
          <a:ext cx="5715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57150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334120" y="3048120"/>
          <a:ext cx="320976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048120"/>
                    <a:ext cx="3209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2178000">
            <a:off x="2437920" y="5105520"/>
            <a:ext cx="4343400" cy="83808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7200"/>
            <a:ext cx="9144000" cy="56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E CALOR TOTAL EN EL INTERCAMBI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lor que cede el fluído calient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= Calor que absorbe el fluído fr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(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i no hay pérdidas importantes de cal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(Balance de calor total del intercambiador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IFERENCIAL DE CALOR EN AREA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(calor cedido por fluído caliente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(calor absorbido por fluído frío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16002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2666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3733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8769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5410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024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743200" y="609480"/>
                <a:ext cx="22860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838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76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19520" y="1295280"/>
                <a:ext cx="2057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533520" y="1981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90920" y="160020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T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457880" y="3340080"/>
                <a:ext cx="2286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1004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590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o de balances diferenciales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63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362320" y="5029200"/>
                <a:ext cx="35049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0622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429000" y="3124080"/>
                <a:ext cx="1905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094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velocidad de transferencia de calor en d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533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718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19520" y="990720"/>
                <a:ext cx="2666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621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balance global (Ec 1: Ec. 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0574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stituyendo 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/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n Ec. 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14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2895480"/>
                <a:ext cx="7467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83808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19320" y="4343400"/>
                <a:ext cx="5562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762120" y="5638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emplazando dq de Ec.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908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590920" y="304920"/>
                <a:ext cx="38862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28600" y="1143000"/>
            <a:ext cx="891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ordenando y suponiendo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stante a lo largo del intercambi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0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33720" y="1676520"/>
                <a:ext cx="4343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ΔT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ΔT</m:t>
                        </m:r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62120" y="2895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donde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3429000"/>
                <a:ext cx="39625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838080" y="4800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809880"/>
            <a:ext cx="807732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,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as ecuaciones son válidas para flujo paralelo (co-corriente), flujo contracorriente, condensadores y evaporadores (ver siguiente diaposit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746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el caso de que el coeficiente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ría alo largo del intercambiador se puede tomar los valores en los extremos 1 y 2 y calcular en forma mas precis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9080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76520" y="1981080"/>
                <a:ext cx="35049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990720"/>
          <a:ext cx="7848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848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858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files de temperatura en intercambiadore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23:46:22Z</dcterms:created>
  <dc:creator>Tomás Vargas </dc:creator>
  <dc:description/>
  <dc:language>en-US</dc:language>
  <cp:lastModifiedBy>Tomas Vargas</cp:lastModifiedBy>
  <dcterms:modified xsi:type="dcterms:W3CDTF">2008-08-11T19:01:59Z</dcterms:modified>
  <cp:revision>9</cp:revision>
  <dc:subject/>
  <dc:title>Presentación de PowerPoint</dc:title>
</cp:coreProperties>
</file>