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375-943C-4B61-A2C8-56B19B6D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603-C7B4-424F-8783-C68A5F2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1D-F366-40EB-998C-B60EA9AF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BEB-198A-4437-9511-A9B759AE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51B-B1D9-482E-972E-34F99EA0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D5A-243A-4A71-8651-E2643D54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5A4-679B-41AE-AEE2-E158E2E1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7AD-9F34-44CC-BF0B-D9B03D9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455-165D-404A-8C8C-D0119EDE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DBF-B5CA-4590-9BE8-EDDB4F9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D63-4322-4778-A4C8-9F59117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B38-E141-4FBC-9075-DC2DC54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3F94-7524-479F-B42C-C9DB36E684F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8-08-04T17:47:26Z</dcterms:modified>
  <cp:revision>7</cp:revision>
  <dc:subject/>
  <dc:title>Diapositiva 1</dc:title>
</cp:coreProperties>
</file>