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139-DAF7-4506-B18A-1CF6D82B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B2F-DCA1-4E57-92D2-5F7F9265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FD6-6684-46E4-A629-5CBA0D79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E9B-D48B-49E9-84D4-42F22460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C9D-79F9-4E72-9CF2-07E80B4A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6DC-8A29-4B5C-AECB-B500A801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534-9595-47F4-9488-E44CC3CA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B20-2FB4-4C8F-8B5E-E452BB47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AF8-C846-4E8E-992F-99B8F3C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63E-0D33-4CDA-A244-0B2A7B6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03C-D13C-4FF5-B0B9-6B65200B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482-4204-443F-B4BA-E140B1A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84E8-43BD-4FEB-AA31-309CF7A1BA58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4641840"/>
              <a:ext cx="1584360" cy="658800"/>
            </a:xfrm>
            <a:custGeom>
              <a:avLst/>
              <a:gdLst/>
              <a:ahLst/>
              <a:rect l="l" t="t" r="r" b="b"/>
              <a:pathLst>
                <a:path w="998" h="415">
                  <a:moveTo>
                    <a:pt x="0" y="234"/>
                  </a:moveTo>
                  <a:cubicBezTo>
                    <a:pt x="11" y="203"/>
                    <a:pt x="23" y="173"/>
                    <a:pt x="46" y="143"/>
                  </a:cubicBezTo>
                  <a:cubicBezTo>
                    <a:pt x="69" y="113"/>
                    <a:pt x="99" y="75"/>
                    <a:pt x="136" y="52"/>
                  </a:cubicBezTo>
                  <a:cubicBezTo>
                    <a:pt x="173" y="29"/>
                    <a:pt x="234" y="14"/>
                    <a:pt x="272" y="7"/>
                  </a:cubicBezTo>
                  <a:cubicBezTo>
                    <a:pt x="310" y="0"/>
                    <a:pt x="333" y="7"/>
                    <a:pt x="363" y="7"/>
                  </a:cubicBezTo>
                  <a:cubicBezTo>
                    <a:pt x="393" y="7"/>
                    <a:pt x="424" y="0"/>
                    <a:pt x="454" y="7"/>
                  </a:cubicBezTo>
                  <a:cubicBezTo>
                    <a:pt x="484" y="14"/>
                    <a:pt x="500" y="22"/>
                    <a:pt x="545" y="52"/>
                  </a:cubicBezTo>
                  <a:cubicBezTo>
                    <a:pt x="590" y="82"/>
                    <a:pt x="689" y="159"/>
                    <a:pt x="726" y="189"/>
                  </a:cubicBezTo>
                  <a:cubicBezTo>
                    <a:pt x="763" y="219"/>
                    <a:pt x="726" y="196"/>
                    <a:pt x="771" y="234"/>
                  </a:cubicBezTo>
                  <a:cubicBezTo>
                    <a:pt x="816" y="272"/>
                    <a:pt x="960" y="385"/>
                    <a:pt x="998" y="4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Tomas Vargas</cp:lastModifiedBy>
  <dcterms:modified xsi:type="dcterms:W3CDTF">2008-08-04T17:47:26Z</dcterms:modified>
  <cp:revision>7</cp:revision>
  <dc:subject/>
  <dc:title>Diapositiva 1</dc:title>
</cp:coreProperties>
</file>