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138-2C4F-4D0E-BC06-326A1631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F34-76E7-4ED7-B82D-F42DE744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10F-539E-44D8-A1F0-1B4C569B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584-A1B8-414D-9F95-4247DF35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378-E5FE-4F88-92DE-50F125C4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53A-B316-4898-BEE5-0337D788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E5C-B26C-4D9F-BD81-43304A1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668-2341-4FED-8887-91875553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1DB-341E-4841-92E3-92915EC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778-8B9F-4614-9088-75D20C0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107-A3AE-480C-9F4F-2D83842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3AF-AB20-4D87-887F-5C8D20C6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1109-1ABF-4BC0-9964-F72F284589A2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4641840"/>
              <a:ext cx="1584360" cy="658800"/>
            </a:xfrm>
            <a:custGeom>
              <a:avLst/>
              <a:gdLst/>
              <a:ahLst/>
              <a:rect l="l" t="t" r="r" b="b"/>
              <a:pathLst>
                <a:path w="998" h="415">
                  <a:moveTo>
                    <a:pt x="0" y="234"/>
                  </a:moveTo>
                  <a:cubicBezTo>
                    <a:pt x="11" y="203"/>
                    <a:pt x="23" y="173"/>
                    <a:pt x="46" y="143"/>
                  </a:cubicBezTo>
                  <a:cubicBezTo>
                    <a:pt x="69" y="113"/>
                    <a:pt x="99" y="75"/>
                    <a:pt x="136" y="52"/>
                  </a:cubicBezTo>
                  <a:cubicBezTo>
                    <a:pt x="173" y="29"/>
                    <a:pt x="234" y="14"/>
                    <a:pt x="272" y="7"/>
                  </a:cubicBezTo>
                  <a:cubicBezTo>
                    <a:pt x="310" y="0"/>
                    <a:pt x="333" y="7"/>
                    <a:pt x="363" y="7"/>
                  </a:cubicBezTo>
                  <a:cubicBezTo>
                    <a:pt x="393" y="7"/>
                    <a:pt x="424" y="0"/>
                    <a:pt x="454" y="7"/>
                  </a:cubicBezTo>
                  <a:cubicBezTo>
                    <a:pt x="484" y="14"/>
                    <a:pt x="500" y="22"/>
                    <a:pt x="545" y="52"/>
                  </a:cubicBezTo>
                  <a:cubicBezTo>
                    <a:pt x="590" y="82"/>
                    <a:pt x="689" y="159"/>
                    <a:pt x="726" y="189"/>
                  </a:cubicBezTo>
                  <a:cubicBezTo>
                    <a:pt x="763" y="219"/>
                    <a:pt x="726" y="196"/>
                    <a:pt x="771" y="234"/>
                  </a:cubicBezTo>
                  <a:cubicBezTo>
                    <a:pt x="816" y="272"/>
                    <a:pt x="960" y="385"/>
                    <a:pt x="998" y="4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Tomas Vargas</cp:lastModifiedBy>
  <dcterms:modified xsi:type="dcterms:W3CDTF">2008-08-04T17:47:26Z</dcterms:modified>
  <cp:revision>7</cp:revision>
  <dc:subject/>
  <dc:title>Diapositiva 1</dc:title>
</cp:coreProperties>
</file>