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5D3-46C4-487D-8678-9B0E18A9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E72-296C-44D8-97CB-208BCCEB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F0C-B66F-4648-9D87-AC8200B5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2EB-B08F-47F8-AF2A-D014A15B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2EE-B0C6-4D6C-BFC3-85732953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219-CCD1-4462-93E0-2FB14CD0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355-102E-4642-A676-994FA29F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AC0-4C67-46A3-B73E-FAB5BE28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59F-4D63-4A76-8379-56FC07C2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4BA-9044-4B75-AFF7-BAE836BE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AAD-1BBA-475C-9B97-AE3D6774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0FC-CD16-43EC-83F0-0AEA1BD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9DAD-8A43-4940-8CB3-63C1E5FB110B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4641840"/>
              <a:ext cx="1584360" cy="658800"/>
            </a:xfrm>
            <a:custGeom>
              <a:avLst/>
              <a:gdLst/>
              <a:ahLst/>
              <a:rect l="l" t="t" r="r" b="b"/>
              <a:pathLst>
                <a:path w="998" h="415">
                  <a:moveTo>
                    <a:pt x="0" y="234"/>
                  </a:moveTo>
                  <a:cubicBezTo>
                    <a:pt x="11" y="203"/>
                    <a:pt x="23" y="173"/>
                    <a:pt x="46" y="143"/>
                  </a:cubicBezTo>
                  <a:cubicBezTo>
                    <a:pt x="69" y="113"/>
                    <a:pt x="99" y="75"/>
                    <a:pt x="136" y="52"/>
                  </a:cubicBezTo>
                  <a:cubicBezTo>
                    <a:pt x="173" y="29"/>
                    <a:pt x="234" y="14"/>
                    <a:pt x="272" y="7"/>
                  </a:cubicBezTo>
                  <a:cubicBezTo>
                    <a:pt x="310" y="0"/>
                    <a:pt x="333" y="7"/>
                    <a:pt x="363" y="7"/>
                  </a:cubicBezTo>
                  <a:cubicBezTo>
                    <a:pt x="393" y="7"/>
                    <a:pt x="424" y="0"/>
                    <a:pt x="454" y="7"/>
                  </a:cubicBezTo>
                  <a:cubicBezTo>
                    <a:pt x="484" y="14"/>
                    <a:pt x="500" y="22"/>
                    <a:pt x="545" y="52"/>
                  </a:cubicBezTo>
                  <a:cubicBezTo>
                    <a:pt x="590" y="82"/>
                    <a:pt x="689" y="159"/>
                    <a:pt x="726" y="189"/>
                  </a:cubicBezTo>
                  <a:cubicBezTo>
                    <a:pt x="763" y="219"/>
                    <a:pt x="726" y="196"/>
                    <a:pt x="771" y="234"/>
                  </a:cubicBezTo>
                  <a:cubicBezTo>
                    <a:pt x="816" y="272"/>
                    <a:pt x="960" y="385"/>
                    <a:pt x="998" y="4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Tomas Vargas</cp:lastModifiedBy>
  <dcterms:modified xsi:type="dcterms:W3CDTF">2008-08-04T17:47:26Z</dcterms:modified>
  <cp:revision>7</cp:revision>
  <dc:subject/>
  <dc:title>Diapositiva 1</dc:title>
</cp:coreProperties>
</file>