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0B2-86D0-4021-B57D-A7B12172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E483-3FD7-4B1F-8A36-01CE8355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7B4-7AD2-46E7-A9D8-9A0563DE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EBF-211B-41E4-8E3E-5E739327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D7F-A35B-4F42-9F19-5C4E9DEE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EB5-E935-4A28-9E1D-2F10C40A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800-E690-467B-BF38-6EF54897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B95-8741-40EF-8982-0BF42D81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5B8-99FF-4EBB-8670-3AE2390E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A60-3BD5-4FA1-B1E0-DAEF2546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462-EF16-4B1D-95AC-069E9055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42A-E01B-4F0F-BACC-E0F6DAE3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E952-ADBB-4AA0-8C69-44088ACF95F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Tomas Vargas</cp:lastModifiedBy>
  <dcterms:modified xsi:type="dcterms:W3CDTF">2008-08-04T17:44:15Z</dcterms:modified>
  <cp:revision>13</cp:revision>
  <dc:subject/>
  <dc:title>Presentación de PowerPoint</dc:title>
</cp:coreProperties>
</file>