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AE32-7B45-428C-B74F-C569579A2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2BBF-D5A1-4759-A834-7633677A9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3BC1-10AF-4874-97F9-A6395ACFB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870B-4A1F-40D4-A7F3-97C5CEA42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5DB3-0E1F-4B8F-8329-5D47618AD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ADEA-A4D1-4DC4-B558-5A41B24B8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E348-E8E6-4E2D-990B-D96E71D87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B631-9D91-4666-A7CE-A9D33E8E9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6A64-ACE5-4BF9-AD02-F16D3BE67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569B-9B59-4363-9FCA-A7423D64B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4371-3EEC-4DF1-8804-5AD3872C0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5582-D3F1-4628-A28F-EE10DEE9B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4137F-8679-4F4E-A035-833363C45D8F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304920"/>
            <a:ext cx="7467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FLUJO DE CALOR POR CONDUCCIÓN  A TRAVES DE LAS PAREDES DE UN TU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0" y="1371600"/>
            <a:ext cx="6019920" cy="4572000"/>
            <a:chOff x="0" y="1371600"/>
            <a:chExt cx="6019920" cy="4572000"/>
          </a:xfrm>
        </p:grpSpPr>
        <p:sp>
          <p:nvSpPr>
            <p:cNvPr id="43" name=""/>
            <p:cNvSpPr/>
            <p:nvPr/>
          </p:nvSpPr>
          <p:spPr>
            <a:xfrm>
              <a:off x="1371600" y="2286000"/>
              <a:ext cx="3962520" cy="10670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981440" y="2514600"/>
              <a:ext cx="2819160" cy="5335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362320" y="2667240"/>
              <a:ext cx="1981080" cy="2286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371600" y="2819520"/>
              <a:ext cx="0" cy="3124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334120" y="2819520"/>
              <a:ext cx="0" cy="1295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981440" y="2819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00600" y="2819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1676520"/>
              <a:ext cx="609480" cy="1219320"/>
            </a:xfrm>
            <a:prstGeom prst="downArrow">
              <a:avLst>
                <a:gd name="adj1" fmla="val 50000"/>
                <a:gd name="adj2" fmla="val 50015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124440" y="1676520"/>
              <a:ext cx="609480" cy="1143000"/>
            </a:xfrm>
            <a:prstGeom prst="upArrow">
              <a:avLst>
                <a:gd name="adj1" fmla="val 50000"/>
                <a:gd name="adj2" fmla="val 46884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733920" y="137160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0000"/>
                  </a:solidFill>
                  <a:latin typeface="Times New Roman"/>
                </a:rPr>
                <a:t>Fluído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1524240"/>
              <a:ext cx="152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3399ff"/>
                  </a:solidFill>
                  <a:latin typeface="Times New Roman"/>
                </a:rPr>
                <a:t>Fluído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4952880" y="3962520"/>
            <a:ext cx="2514600" cy="2514600"/>
          </a:xfrm>
          <a:prstGeom prst="ellipse">
            <a:avLst/>
          </a:prstGeom>
          <a:solidFill>
            <a:srgbClr val="00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4343400"/>
            <a:ext cx="1676160" cy="16765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2720" y="4572000"/>
            <a:ext cx="1218960" cy="12193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00800" y="5105520"/>
            <a:ext cx="990720" cy="228600"/>
          </a:xfrm>
          <a:prstGeom prst="rightArrow">
            <a:avLst>
              <a:gd name="adj1" fmla="val 50000"/>
              <a:gd name="adj2" fmla="val 108346"/>
            </a:avLst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086600" y="47242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048120" y="15228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609480" y="380880"/>
            <a:ext cx="3353040" cy="2971800"/>
            <a:chOff x="609480" y="380880"/>
            <a:chExt cx="3353040" cy="2971800"/>
          </a:xfrm>
        </p:grpSpPr>
        <p:sp>
          <p:nvSpPr>
            <p:cNvPr id="61" name=""/>
            <p:cNvSpPr/>
            <p:nvPr/>
          </p:nvSpPr>
          <p:spPr>
            <a:xfrm>
              <a:off x="685800" y="380880"/>
              <a:ext cx="3276720" cy="2971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295280" y="838080"/>
              <a:ext cx="2133720" cy="2057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905120" y="1371240"/>
              <a:ext cx="914400" cy="914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447920" y="990360"/>
              <a:ext cx="1828800" cy="1676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905120" y="1371240"/>
              <a:ext cx="990360" cy="990720"/>
            </a:xfrm>
            <a:prstGeom prst="ellipse">
              <a:avLst/>
            </a:prstGeom>
            <a:solidFill>
              <a:srgbClr val="ff505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>
              <a:off x="2438280" y="609480"/>
              <a:ext cx="76212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438280" y="1904760"/>
              <a:ext cx="3812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1447920" y="17524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80" y="17524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>
              <a:off x="2209320" y="1904760"/>
              <a:ext cx="22860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590920" y="159984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981080" y="22096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62120" y="1142640"/>
              <a:ext cx="609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38080" y="12952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d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62120" y="2742840"/>
              <a:ext cx="761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828800" y="99036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400068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105520" y="304920"/>
            <a:ext cx="1981080" cy="11062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4495680" y="990720"/>
            <a:ext cx="41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(Notar que en estado estacionario dT/dr decrece con aumento de 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43200" y="23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643200" y="240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4419720" y="2286000"/>
                <a:ext cx="3317760" cy="365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p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r</m:t>
                                </m:r>
                              </m:num>
                              <m:den>
                                <m:r>
                                  <m:t xml:space="preserve">r</m:t>
                                </m:r>
                              </m:den>
                            </m:f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L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q</m:t>
                                </m:r>
                              </m:den>
                            </m:f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  <m:r>
                              <m:t xml:space="preserve">)</m:t>
                            </m:r>
                            <m:r>
                              <m:t xml:space="preserve">k</m:t>
                            </m:r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</m:e>
                      <m:e/>
                      <m:e/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k</m:t>
                            </m:r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e>
                            </m:d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881520" y="287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2209680" y="2971800"/>
                <a:ext cx="3048120" cy="245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πr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dL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)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5" name=""/>
          <p:cNvSpPr/>
          <p:nvPr/>
        </p:nvSpPr>
        <p:spPr>
          <a:xfrm>
            <a:off x="685800" y="152280"/>
            <a:ext cx="693432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Pero el flujo q a través de la pared de un cilindro se puede expresar con una ecuación similar al caso de una pared plana,, introduciendo dA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L   ,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área media logarítmic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4800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371600" y="1523880"/>
            <a:ext cx="4952880" cy="12906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371600" y="5867280"/>
            <a:ext cx="5486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: radio medio logarítm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066680" y="380880"/>
            <a:ext cx="731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Flujo de calor entre dos fluídos a través de la pared de un tu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67120" y="29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4952880" y="1219320"/>
                <a:ext cx="2743200" cy="17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i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f>
                          <m:num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o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A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o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92" name=""/>
          <p:cNvGraphicFramePr/>
          <p:nvPr/>
        </p:nvGraphicFramePr>
        <p:xfrm>
          <a:off x="533520" y="1447920"/>
          <a:ext cx="3657600" cy="373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47920"/>
                    <a:ext cx="3657600" cy="37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343368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3886200" y="4191120"/>
                <a:ext cx="4791240" cy="102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q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A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A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60036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1447920" y="609480"/>
                <a:ext cx="3124080" cy="108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A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A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A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8" name=""/>
          <p:cNvSpPr/>
          <p:nvPr/>
        </p:nvSpPr>
        <p:spPr>
          <a:xfrm>
            <a:off x="1295280" y="1828800"/>
            <a:ext cx="6400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Pero dA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o/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dA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= D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 y dA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/dA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=D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. Lueg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64320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1905120" y="2666880"/>
                <a:ext cx="2681280" cy="97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f>
                          <m:num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1" name=""/>
          <p:cNvSpPr/>
          <p:nvPr/>
        </p:nvSpPr>
        <p:spPr>
          <a:xfrm>
            <a:off x="367668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71952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1600200" y="4038480"/>
                <a:ext cx="2971800" cy="124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4" name=""/>
          <p:cNvSpPr/>
          <p:nvPr/>
        </p:nvSpPr>
        <p:spPr>
          <a:xfrm>
            <a:off x="1219320" y="5562720"/>
            <a:ext cx="59436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: coeficiente global de transferencia de calor (base área extern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380880"/>
            <a:ext cx="807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Análogamente, si se toma como base el área interna del tub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8136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1600200" y="1219320"/>
                <a:ext cx="3048120" cy="116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f>
                          <m:num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8" name=""/>
          <p:cNvSpPr/>
          <p:nvPr/>
        </p:nvSpPr>
        <p:spPr>
          <a:xfrm>
            <a:off x="2514600" y="40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600200" y="2971800"/>
                <a:ext cx="3276720" cy="14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0" name=""/>
          <p:cNvSpPr/>
          <p:nvPr/>
        </p:nvSpPr>
        <p:spPr>
          <a:xfrm>
            <a:off x="1219320" y="5562720"/>
            <a:ext cx="59436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: coeficiente global de transferencia de calor (base área intern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7T04:18:40Z</dcterms:created>
  <dc:creator>Tomás Vargas </dc:creator>
  <dc:description/>
  <dc:language>en-US</dc:language>
  <cp:lastModifiedBy>Tomas Vargas</cp:lastModifiedBy>
  <dcterms:modified xsi:type="dcterms:W3CDTF">2008-08-04T17:44:15Z</dcterms:modified>
  <cp:revision>13</cp:revision>
  <dc:subject/>
  <dc:title>Presentación de PowerPoint</dc:title>
</cp:coreProperties>
</file>