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659-4F35-496F-956F-8B8662BB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BBD-4FB4-40F5-A3FB-08BE9969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E9B-FE3B-4803-A220-CE7C1660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66D-AB3E-44A5-A7DE-BC2874DF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4F4-B9CC-4B7F-9F31-9B460E5D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21B-4CF1-4EA3-A35D-9C0B1F38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D7E-0916-43A2-96B7-F4418D2A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A74-6354-40C3-92F0-B03CCE97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530-CF79-4F17-9036-0E1E169D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165-8426-4069-8EB5-4F09C77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E4C-08FC-4DB6-A08C-A746E7C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473-4387-4117-AB0C-2D586810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A9D9-CD06-457E-AAB4-C275D928C6B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as Vargas</cp:lastModifiedBy>
  <dcterms:modified xsi:type="dcterms:W3CDTF">2008-08-04T17:44:15Z</dcterms:modified>
  <cp:revision>13</cp:revision>
  <dc:subject/>
  <dc:title>Presentación de PowerPoint</dc:title>
</cp:coreProperties>
</file>