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852-151D-4E57-A5D1-69A06759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9AD-7A59-448D-8340-8C91455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C22-B3A7-4063-BFC2-C3F0013D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946-80DC-45BB-B57F-A06D9A13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CC5-31E3-43D5-92B9-4D877D0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F58-0DBE-4892-B747-C7F4640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C07-2E0D-4C64-8EF7-A3D22F44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849-804C-4464-9ED5-B9D0033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7C2-79E3-490E-BB12-86E63C0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24E-D41E-4FF7-BD66-A5AFC95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2F2-1223-4DC3-BC30-2878B6A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004-886B-4C88-9B79-DB225A9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3C1-3654-4530-8012-4D0BC6A5D5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8-08-04T17:41:42Z</dcterms:modified>
  <cp:revision>1</cp:revision>
  <dc:subject/>
  <dc:title>Presentación de PowerPoint</dc:title>
</cp:coreProperties>
</file>