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C3A-EE87-4C71-9CCB-B8A6C38B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EC8-D727-447F-87B5-071EF6BA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2BF-6A59-46D6-8636-9CE3736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D8D-3240-4B3A-A506-CF7082DF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89F-723C-47CC-93D1-889AEB3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604-C21E-4063-B837-9A355962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624-D797-4825-A6A9-A98BA040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7CD-C276-49BD-87A0-9CFC9DA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F22-CA2E-491D-87FE-1B282C29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A89-6799-4207-8F23-199D523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763-D019-4FD3-8B5F-D599DA8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164-9615-4185-A5AA-A6D1552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1639-AB25-4AED-A9D4-0B29D561CD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8-08-04T17:41:42Z</dcterms:modified>
  <cp:revision>1</cp:revision>
  <dc:subject/>
  <dc:title>Presentación de PowerPoint</dc:title>
</cp:coreProperties>
</file>