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039-54FF-428F-877B-10446AD8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3592-2FC1-42DF-AF33-76C6BEB2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74FB-2683-4517-B0BD-2DF21D1C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B135-9E56-4180-9025-313E5BDD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C2F-F284-462F-9E5A-A38BF82A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5F9C-B9FC-46C7-9FCB-25B0FC92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769F-D9A6-46BB-912B-0853170E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D4E0-03AB-4B1D-9303-611C8F0F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81C1-2707-44B1-B371-47233092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F17-D83E-47BF-84A5-C9A5FA97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71B4-1E27-4187-A028-D735BD57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EC4A-BEA5-4D52-BDDF-9B57637C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D6C3-AA0D-4EF8-B6CE-F2E4579332B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47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4640" y="304920"/>
            <a:ext cx="6048720" cy="937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21:50:05Z</dcterms:created>
  <dc:creator>Ing Quimica</dc:creator>
  <dc:description/>
  <dc:language>en-US</dc:language>
  <cp:lastModifiedBy>Tomas Vargas</cp:lastModifiedBy>
  <dcterms:modified xsi:type="dcterms:W3CDTF">2008-08-04T17:41:42Z</dcterms:modified>
  <cp:revision>1</cp:revision>
  <dc:subject/>
  <dc:title>Presentación de PowerPoint</dc:title>
</cp:coreProperties>
</file>