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4E7-9736-4129-B6DE-D9C6E6D9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57A-D488-4916-979D-19A8070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FF1-63FA-495A-842C-EA684757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FD5-0393-40F5-BCC4-D13224C7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B37-FF19-40D0-9BFC-EE5BF64D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961-2E93-4F92-A211-BDFECDB3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659-1B03-4B0D-B9D1-E47AD20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948-99BD-4BEB-9793-1EF51C38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A62-AB8F-49D2-B400-B3127736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595-4A9B-467C-A790-EE9FE49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04E-32D3-4F40-9A4F-CCA0060C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BD0-467E-43BE-AB70-3E152C5F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1815-A9EF-48E3-A2D5-C01F66489C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8-08-04T17:39:41Z</dcterms:modified>
  <cp:revision>12</cp:revision>
  <dc:subject/>
  <dc:title>Presentación de PowerPoint</dc:title>
</cp:coreProperties>
</file>