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B26-CA23-485D-821E-DD9FEBA9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A9A-B683-4A87-81F6-B6DB68EC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607-3CE0-4665-9979-05179DAF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E82-52DE-4283-824D-40BE789E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093-4D80-4CBC-BB22-6E43EB0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7A5-FC7D-48E2-A9C5-0BA6D5E5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6F3-FC74-4328-A8E7-D964222C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CB7-822B-41A5-986A-E7EAB11B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3B0-1118-4A18-9C02-91165C5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83F-4999-4D4D-9E3B-9223E62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431-94F2-4054-B635-2406953A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43D-3CB4-4B86-A16E-8A57CB1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F44F-FEAE-4A66-87D4-E0BB5FDC24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8-08-04T17:39:41Z</dcterms:modified>
  <cp:revision>12</cp:revision>
  <dc:subject/>
  <dc:title>Presentación de PowerPoint</dc:title>
</cp:coreProperties>
</file>