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F61-6AF4-411F-ACD8-82DD5A0C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01E-B745-4702-9C75-6DF7F6E3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43B-1958-4769-A483-FE7DD88C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594-C1C1-42EF-BBB2-368720E5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3BE5-EB6A-43AD-A0B7-F340DE2C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FE87-B4A7-4BCE-B1AD-4E3ACA98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544-B444-4DD4-A516-11082E50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D32-4C31-4DC9-BE10-C1686CEB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FC6-A340-4143-8C15-50607802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53C3-C836-4B17-AFD7-99FDCC7F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515D-DB65-448D-857C-C6AE26B8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466-77D1-4EE8-ADAF-825C736E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6917-760D-499C-8ADC-1EE8AC0F66F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calor por condu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51424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238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45720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715000" y="1149480"/>
                <a:ext cx="2143080" cy="49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x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990720" y="2666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27672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181480" y="2819520"/>
                <a:ext cx="2714760" cy="33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304920" y="762120"/>
          <a:ext cx="4495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495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de calor por conducción y conve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28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8000" y="38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40720" y="501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50920" y="326880"/>
                <a:ext cx="3606840" cy="628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w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Δx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t xml:space="preserve">w</m:t>
                                            </m:r>
                                          </m:sub>
                                        </m:sSub>
                                        <m:r>
                                          <m:t xml:space="preserve">A</m:t>
                                        </m:r>
                                      </m:num>
                                      <m:den>
                                        <m:r>
                                          <m:t xml:space="preserve">Δx</m:t>
                                        </m:r>
                                      </m:den>
                                    </m:f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479840" y="882720"/>
                <a:ext cx="438804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191120" y="1522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333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48000" y="134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85264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16360" y="3429000"/>
                <a:ext cx="12319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907320" y="3449520"/>
                <a:ext cx="1163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471920" y="4724280"/>
                <a:ext cx="13543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419640" y="537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33336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395280" y="33336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33360"/>
            <a:ext cx="77770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CIO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ASOCIADO A CADA 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emplazando en (7) el flujo de calor expresado en términos de la resistencia en el fluído caliente (ecuación (1),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84360" y="1844640"/>
                <a:ext cx="417672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55640" y="3429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55640" y="4076640"/>
                <a:ext cx="43927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40464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907920"/>
                <a:ext cx="4824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84360" y="260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se puede escribir, en términos de resistencia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2133720"/>
            <a:ext cx="61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mente, para los otro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03640" y="2781360"/>
                <a:ext cx="3956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900000" y="3716280"/>
            <a:ext cx="136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348000" y="3860640"/>
                <a:ext cx="38307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755640" y="5229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sea, cada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es proporcional a la importancia relativa de la resistencia respectiva con respecto a la resistencia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 </dc:creator>
  <dc:description/>
  <dc:language>en-US</dc:language>
  <cp:lastModifiedBy>Tomas Vargas</cp:lastModifiedBy>
  <dcterms:modified xsi:type="dcterms:W3CDTF">2008-08-04T17:39:41Z</dcterms:modified>
  <cp:revision>12</cp:revision>
  <dc:subject/>
  <dc:title>Presentación de PowerPoint</dc:title>
</cp:coreProperties>
</file>