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E529-662B-4C8D-80A4-92744334F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D0C-8708-4EB9-9A57-C47A4B31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F8C-D044-42EC-AB92-B4A70BBE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793-2554-48E3-8413-863AB833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786-8053-4522-A3ED-D4330B12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C8E-1289-4E74-A953-10E7CA35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307D-3CB6-4306-9CA0-1DEA3ADB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82F9-9BD7-4ED5-BE9F-5A84041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9793-9AA4-4586-A2CB-EF7FC75D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ECD6-10D4-4F10-87DA-99180D94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D7D0-FF30-44D5-AD78-C8371294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B871-3094-448B-B54A-EA1B044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3C6-ADE7-403D-BE39-E91C879A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4675-C98A-4CCC-BDED-074158EF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0244-7FEB-46B1-8878-42D38457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CC16-ACBE-4CC9-BC5D-F8C85507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CFDC-06EC-4DDB-B8B2-16680E8E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2560-F9E4-496F-91CF-1B816852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EDB8-A35B-4E22-AB23-79B0E814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9A57-84D5-4A17-B3BC-4939EAFD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8282-666E-417E-A453-FFF61B16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1DC1-F4BA-4C63-AEBC-23332DE2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090A-FA5E-43E3-91EE-747D5178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AAB-8830-4A6D-8C02-A0FE1E54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341B-286A-4A00-9156-97D31D04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B651-4EDB-445D-917E-D01B2829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8A17-26EF-4DCB-BFAD-940295D6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A721-076D-4755-BF1A-0966C19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D10F1-D251-4DFA-BF10-8048090E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792D-64C7-4ABF-B193-30AF4961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8873-FBE5-4D45-9B56-062938F5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09C-B2CC-4B6B-BBA0-A1B02DD1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3FB-5EA1-4D15-AC4B-CF59C1C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6E8-3F60-4AE3-AB13-E0902BC5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BC6-29DA-48CF-A182-A392850D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096-8811-49D4-B07A-C6C479F5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AAB-006D-4275-8D38-2A87CBE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F752-C315-4D9E-9CE7-D6F8D9A6B28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6CCA-C916-4E6D-BCFE-7019C3735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3020-0993-43D8-8C4C-60302F2DECD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 </cp:lastModifiedBy>
  <dcterms:modified xsi:type="dcterms:W3CDTF">2005-05-13T17:23:48Z</dcterms:modified>
  <cp:revision>18</cp:revision>
  <dc:subject/>
  <dc:title>Slide 1</dc:title>
</cp:coreProperties>
</file>