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43E64-84A7-43CE-8FAC-1A9CB1494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ambiar sonri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041D-F60F-4C2C-B447-1CB55BDA4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0F09-73C0-4479-96AB-063646E6E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33D2-B1D2-40EF-9D56-2CBDA89AC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9EF0-649E-46E9-BF39-F99F6DD70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EA4E5-B36C-4D78-910E-F5C95C993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61E61-BA20-4D90-85A8-996AF745A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2A820-59EE-4445-AE85-50343A73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ACF08-BD69-4816-A235-704319B31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9C195-BE09-4A29-A1AA-6361B27DC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7F231-3719-4134-9890-9F0F27467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8D545-B950-4993-9E32-66D82EC1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15FE-2CC1-4B93-80C8-2CFC32DB1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8B4FC-D447-48CA-B9AB-18A79DC5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0CFE8-9EAA-4EB0-8475-C35207B7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4EC27-F907-4FEC-96B2-CA0AA8A88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50F68-3513-4DE3-954D-1BB2B4BB9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2DF61-53F9-4FE9-B939-D73D08EA3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6AE18-660A-4FA4-AF5B-DF627CE4E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E7881-24DB-48FD-B849-4E5E48E45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58CB9-5BF5-4BE7-9597-9101AA429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D7C9D-DE36-4FB2-81B3-46D85F7E9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A2308-E906-4B76-80A1-6F69CD5B1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8DD3-F58F-4D4B-B518-092E21F85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87360-E01B-491E-85F1-A8843BDB7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85C8A-1825-4A95-9ABE-ECCB5758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638D0-33D6-4249-8CF4-2A3F7279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5DFDD-8776-42A3-97E4-2CAF4B00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0B438-2B1F-44C3-863D-3CBBC178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5E9AC-8331-4E78-8863-F16CDD65A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18254-54C6-4986-9750-A49C8CCED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A8D6-B6C5-4308-A747-8348B3021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043A-24D7-4A3A-A60B-D0C97D596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C9A3-E0EB-4E4B-B4A6-722439F1A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E799-9BD3-450D-B41C-FCEF67AD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25BB-CF40-4FB3-92AE-E98E6CE4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B28E-B45B-4814-9680-A0E14E10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A46D9-919A-4298-9E34-6028C9C71D4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7692C-60BD-41CE-8F22-96E6E7CCF8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CFBEF-6351-4190-8C92-A212207C8281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071c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5181480"/>
            <a:ext cx="914400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Carlota Pér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S</a:t>
            </a:r>
            <a:r>
              <a:rPr b="1" lang="es-ES" sz="2000" spc="-1" strike="noStrike">
                <a:solidFill>
                  <a:srgbClr val="ffffff"/>
                </a:solidFill>
                <a:latin typeface="Arial Narrow"/>
              </a:rPr>
              <a:t>eminario Anual del Círculo de Innovación de Icare</a:t>
            </a:r>
            <a:r>
              <a:rPr b="1" lang="es-ES" sz="3600" spc="-1" strike="noStrike">
                <a:solidFill>
                  <a:srgbClr val="ff0000"/>
                </a:solidFill>
                <a:latin typeface="Arial Narrow"/>
              </a:rPr>
              <a:t> </a:t>
            </a:r>
            <a:br>
              <a:rPr sz="3600"/>
            </a:br>
            <a:r>
              <a:rPr b="1" lang="es-ES_tradnl" sz="2000" spc="-1" strike="noStrike">
                <a:solidFill>
                  <a:srgbClr val="ffffff"/>
                </a:solidFill>
                <a:latin typeface="Arial Narrow"/>
              </a:rPr>
              <a:t>Santiago de Chile, Julio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905120" y="228600"/>
            <a:ext cx="5313240" cy="4789440"/>
          </a:xfrm>
          <a:prstGeom prst="ellipse">
            <a:avLst/>
          </a:prstGeom>
          <a:gradFill rotWithShape="0">
            <a:gsLst>
              <a:gs pos="0">
                <a:srgbClr val="ffad35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487960" y="1279440"/>
            <a:ext cx="4141440" cy="28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INÁMICA </a:t>
            </a:r>
            <a:br>
              <a:rPr sz="3800"/>
            </a:br>
            <a:r>
              <a:rPr b="1" lang="es-ES" sz="3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 LA INNOVACION </a:t>
            </a:r>
            <a:br>
              <a:rPr sz="3800"/>
            </a:br>
            <a:r>
              <a:rPr b="1" lang="es-ES" sz="3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Y OPORTUNIDADES </a:t>
            </a:r>
            <a:br>
              <a:rPr sz="3800"/>
            </a:br>
            <a:r>
              <a:rPr b="1" lang="es-ES" sz="3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E CRECIMIENT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a0a2b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 flipV="1">
            <a:off x="1541520" y="1101600"/>
            <a:ext cx="0" cy="48038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8840" rIns="7884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228600"/>
            <a:ext cx="91440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ADA GRAN OLEADA</a:t>
            </a:r>
            <a:r>
              <a:rPr b="1" lang="es-ES_tradnl" sz="2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ES UN PROCESO  “QUEBRADO EN DOS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-23760" y="1906560"/>
            <a:ext cx="15048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Nivel de</a:t>
            </a:r>
            <a:br>
              <a:rPr sz="1600"/>
            </a:b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difusión de</a:t>
            </a:r>
            <a:br>
              <a:rPr sz="1600"/>
            </a:br>
            <a:r>
              <a:rPr b="1" lang="es-ES_tradnl" sz="1600" spc="-1" strike="noStrike">
                <a:solidFill>
                  <a:srgbClr val="ffffff"/>
                </a:solidFill>
                <a:latin typeface="Arial Narrow"/>
              </a:rPr>
              <a:t>la revolución tecn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101080" y="5976720"/>
            <a:ext cx="585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 Narrow"/>
              </a:rPr>
              <a:t>Ti</a:t>
            </a:r>
            <a:r>
              <a:rPr b="1" lang="es-ES_tradnl" sz="1400" spc="-1" strike="noStrike">
                <a:solidFill>
                  <a:srgbClr val="ffffff"/>
                </a:solidFill>
                <a:latin typeface="Arial Narrow"/>
              </a:rPr>
              <a:t>em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541520" y="5905440"/>
            <a:ext cx="69055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8840" rIns="78840" tIns="-39240" bIns="-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1523880" y="685440"/>
            <a:ext cx="3021120" cy="5544360"/>
            <a:chOff x="1523880" y="685440"/>
            <a:chExt cx="3021120" cy="5544360"/>
          </a:xfrm>
        </p:grpSpPr>
        <p:grpSp>
          <p:nvGrpSpPr>
            <p:cNvPr id="286" name=""/>
            <p:cNvGrpSpPr/>
            <p:nvPr/>
          </p:nvGrpSpPr>
          <p:grpSpPr>
            <a:xfrm>
              <a:off x="1523880" y="685440"/>
              <a:ext cx="3021120" cy="5544360"/>
              <a:chOff x="1523880" y="685440"/>
              <a:chExt cx="3021120" cy="5544360"/>
            </a:xfrm>
          </p:grpSpPr>
          <p:sp>
            <p:nvSpPr>
              <p:cNvPr id="287" name=""/>
              <p:cNvSpPr/>
              <p:nvPr/>
            </p:nvSpPr>
            <p:spPr>
              <a:xfrm>
                <a:off x="2093760" y="5902200"/>
                <a:ext cx="0" cy="166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868760" y="6059160"/>
                <a:ext cx="566280" cy="17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792000"/>
                    <a:tab algn="l" pos="1584360"/>
                    <a:tab algn="l" pos="2376360"/>
                    <a:tab algn="l" pos="3168720"/>
                    <a:tab algn="l" pos="3960720"/>
                    <a:tab algn="l" pos="4753080"/>
                    <a:tab algn="l" pos="5545080"/>
                    <a:tab algn="l" pos="6337440"/>
                    <a:tab algn="l" pos="7129440"/>
                    <a:tab algn="l" pos="7921800"/>
                    <a:tab algn="l" pos="8713800"/>
                    <a:tab algn="l" pos="9505800"/>
                    <a:tab algn="l" pos="10298160"/>
                  </a:tabLst>
                </a:pPr>
                <a:r>
                  <a:rPr b="0" lang="es-ES_tradnl" sz="1400" spc="-1" strike="noStrike">
                    <a:solidFill>
                      <a:srgbClr val="ccccff"/>
                    </a:solidFill>
                    <a:latin typeface="Arial Narrow"/>
                  </a:rPr>
                  <a:t>big-ba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092320" y="1208160"/>
                <a:ext cx="0" cy="4705200"/>
              </a:xfrm>
              <a:prstGeom prst="line">
                <a:avLst/>
              </a:prstGeom>
              <a:ln w="2844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8840" rIns="7884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289320" y="1216080"/>
                <a:ext cx="0" cy="4697280"/>
              </a:xfrm>
              <a:prstGeom prst="line">
                <a:avLst/>
              </a:prstGeom>
              <a:ln w="2844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8840" rIns="7884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519440" y="1216080"/>
                <a:ext cx="0" cy="4697280"/>
              </a:xfrm>
              <a:prstGeom prst="line">
                <a:avLst/>
              </a:prstGeom>
              <a:ln w="2844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8840" rIns="7884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V="1">
                <a:off x="4459320" y="3994200"/>
                <a:ext cx="60120" cy="84240"/>
              </a:xfrm>
              <a:prstGeom prst="triangle">
                <a:avLst>
                  <a:gd name="adj" fmla="val 11361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20480" y="685440"/>
                <a:ext cx="20901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9900"/>
                    </a:solidFill>
                    <a:latin typeface="Arial Narrow"/>
                  </a:rPr>
                  <a:t>INSTALACION</a:t>
                </a:r>
                <a:br>
                  <a:rPr sz="2000"/>
                </a:br>
                <a:r>
                  <a:rPr b="1" lang="es-ES_tradnl" sz="2000" spc="-1" strike="noStrike">
                    <a:solidFill>
                      <a:srgbClr val="ff9900"/>
                    </a:solidFill>
                    <a:latin typeface="Arial Narrow"/>
                  </a:rPr>
                  <a:t>del nuevo paradigm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523880" y="5632560"/>
                <a:ext cx="577800" cy="60120"/>
              </a:xfrm>
              <a:custGeom>
                <a:avLst/>
                <a:gdLst/>
                <a:ahLst/>
                <a:rect l="l" t="t" r="r" b="b"/>
                <a:pathLst>
                  <a:path w="270" h="33">
                    <a:moveTo>
                      <a:pt x="0" y="33"/>
                    </a:moveTo>
                    <a:cubicBezTo>
                      <a:pt x="45" y="28"/>
                      <a:pt x="214" y="7"/>
                      <a:pt x="270" y="0"/>
                    </a:cubicBezTo>
                  </a:path>
                </a:pathLst>
              </a:custGeom>
              <a:noFill/>
              <a:ln w="63360">
                <a:solidFill>
                  <a:srgbClr val="ffffff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5" name=""/>
              <p:cNvGrpSpPr/>
              <p:nvPr/>
            </p:nvGrpSpPr>
            <p:grpSpPr>
              <a:xfrm>
                <a:off x="2092320" y="3992400"/>
                <a:ext cx="2418840" cy="1641600"/>
                <a:chOff x="2092320" y="3992400"/>
                <a:chExt cx="2418840" cy="164160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2092320" y="4000320"/>
                  <a:ext cx="2396880" cy="1633680"/>
                </a:xfrm>
                <a:custGeom>
                  <a:avLst/>
                  <a:gdLst/>
                  <a:ahLst/>
                  <a:rect l="l" t="t" r="r" b="b"/>
                  <a:pathLst>
                    <a:path w="1516" h="1029">
                      <a:moveTo>
                        <a:pt x="0" y="1029"/>
                      </a:moveTo>
                      <a:cubicBezTo>
                        <a:pt x="155" y="1012"/>
                        <a:pt x="376" y="973"/>
                        <a:pt x="505" y="948"/>
                      </a:cubicBezTo>
                      <a:cubicBezTo>
                        <a:pt x="634" y="922"/>
                        <a:pt x="689" y="909"/>
                        <a:pt x="758" y="884"/>
                      </a:cubicBezTo>
                      <a:cubicBezTo>
                        <a:pt x="827" y="860"/>
                        <a:pt x="818" y="872"/>
                        <a:pt x="897" y="812"/>
                      </a:cubicBezTo>
                      <a:cubicBezTo>
                        <a:pt x="975" y="751"/>
                        <a:pt x="1132" y="603"/>
                        <a:pt x="1220" y="513"/>
                      </a:cubicBezTo>
                      <a:cubicBezTo>
                        <a:pt x="1308" y="423"/>
                        <a:pt x="1395" y="316"/>
                        <a:pt x="1423" y="254"/>
                      </a:cubicBezTo>
                      <a:cubicBezTo>
                        <a:pt x="1456" y="188"/>
                        <a:pt x="1447" y="209"/>
                        <a:pt x="1465" y="155"/>
                      </a:cubicBezTo>
                      <a:cubicBezTo>
                        <a:pt x="1483" y="101"/>
                        <a:pt x="1509" y="26"/>
                        <a:pt x="1516" y="0"/>
                      </a:cubicBezTo>
                    </a:path>
                  </a:pathLst>
                </a:custGeom>
                <a:noFill/>
                <a:ln w="63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4457520" y="3992400"/>
                  <a:ext cx="53640" cy="42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8" name=""/>
              <p:cNvSpPr/>
              <p:nvPr/>
            </p:nvSpPr>
            <p:spPr>
              <a:xfrm>
                <a:off x="2135160" y="2495520"/>
                <a:ext cx="2409840" cy="192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9900"/>
                    </a:solidFill>
                    <a:latin typeface="Arial Narrow"/>
                  </a:rPr>
                  <a:t>Difusión “forzada” liderizada por</a:t>
                </a:r>
                <a:br>
                  <a:rPr sz="2000"/>
                </a:br>
                <a:r>
                  <a:rPr b="1" lang="es-ES_tradnl" sz="2000" spc="-1" strike="noStrike">
                    <a:solidFill>
                      <a:srgbClr val="ff9900"/>
                    </a:solidFill>
                    <a:latin typeface="Arial Narrow"/>
                  </a:rPr>
                  <a:t>el capital financier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ff9900"/>
                    </a:solidFill>
                    <a:latin typeface="Arial Narrow"/>
                  </a:rPr>
                  <a:t>DESTRUCCIÓN CREADOR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092320" y="1428840"/>
                <a:ext cx="238608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"/>
            <p:cNvSpPr/>
            <p:nvPr/>
          </p:nvSpPr>
          <p:spPr>
            <a:xfrm>
              <a:off x="2515680" y="1442880"/>
              <a:ext cx="15408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" sz="1800" spc="-1" strike="noStrike">
                  <a:solidFill>
                    <a:srgbClr val="ff9900"/>
                  </a:solidFill>
                  <a:latin typeface="Arial"/>
                </a:rPr>
                <a:t>2O - 30 </a:t>
              </a:r>
              <a:r>
                <a:rPr b="1" lang="es-ES_tradnl" sz="1800" spc="-1" strike="noStrike">
                  <a:solidFill>
                    <a:srgbClr val="ff9900"/>
                  </a:solidFill>
                  <a:latin typeface="Arial"/>
                </a:rPr>
                <a:t>añ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7502400" y="5905440"/>
            <a:ext cx="0" cy="166680"/>
          </a:xfrm>
          <a:prstGeom prst="line">
            <a:avLst/>
          </a:prstGeom>
          <a:ln w="12600">
            <a:solidFill>
              <a:srgbClr val="ffffff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198920" y="6021000"/>
            <a:ext cx="607320" cy="3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s-ES_tradnl" sz="1400" spc="-1" strike="noStrike">
                <a:solidFill>
                  <a:srgbClr val="ccccff"/>
                </a:solidFill>
                <a:latin typeface="Arial Narrow"/>
              </a:rPr>
              <a:t>Sigui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es-ES_tradnl" sz="1400" spc="-1" strike="noStrike">
                <a:solidFill>
                  <a:srgbClr val="ccccff"/>
                </a:solidFill>
                <a:latin typeface="Arial Narrow"/>
              </a:rPr>
              <a:t>big-ba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4987440" y="738360"/>
            <a:ext cx="3394080" cy="5177520"/>
            <a:chOff x="4987440" y="738360"/>
            <a:chExt cx="3394080" cy="5177520"/>
          </a:xfrm>
        </p:grpSpPr>
        <p:sp>
          <p:nvSpPr>
            <p:cNvPr id="304" name=""/>
            <p:cNvSpPr/>
            <p:nvPr/>
          </p:nvSpPr>
          <p:spPr>
            <a:xfrm>
              <a:off x="5032440" y="1216080"/>
              <a:ext cx="0" cy="4696920"/>
            </a:xfrm>
            <a:prstGeom prst="line">
              <a:avLst/>
            </a:prstGeom>
            <a:ln w="2844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8840" rIns="7884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4987440" y="738360"/>
              <a:ext cx="3394080" cy="5177520"/>
              <a:chOff x="4987440" y="738360"/>
              <a:chExt cx="3394080" cy="5177520"/>
            </a:xfrm>
          </p:grpSpPr>
          <p:sp>
            <p:nvSpPr>
              <p:cNvPr id="306" name=""/>
              <p:cNvSpPr/>
              <p:nvPr/>
            </p:nvSpPr>
            <p:spPr>
              <a:xfrm flipH="1">
                <a:off x="5089320" y="1428480"/>
                <a:ext cx="243972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399280" y="738360"/>
                <a:ext cx="17550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ccccff"/>
                    </a:solidFill>
                    <a:latin typeface="Arial Narrow"/>
                  </a:rPr>
                  <a:t>DESPLIEGUE</a:t>
                </a:r>
                <a:br>
                  <a:rPr sz="2000"/>
                </a:br>
                <a:r>
                  <a:rPr b="1" lang="es-ES_tradnl" sz="1800" spc="-1" strike="noStrike">
                    <a:solidFill>
                      <a:srgbClr val="ccccff"/>
                    </a:solidFill>
                    <a:latin typeface="Arial Narrow"/>
                  </a:rPr>
                  <a:t>de todo el potenci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8" name=""/>
              <p:cNvGrpSpPr/>
              <p:nvPr/>
            </p:nvGrpSpPr>
            <p:grpSpPr>
              <a:xfrm>
                <a:off x="4987440" y="1212840"/>
                <a:ext cx="3394080" cy="4703040"/>
                <a:chOff x="4987440" y="1212840"/>
                <a:chExt cx="3394080" cy="470304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4987440" y="1212840"/>
                  <a:ext cx="3394080" cy="4703040"/>
                  <a:chOff x="4987440" y="1212840"/>
                  <a:chExt cx="3394080" cy="470304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6269040" y="1212840"/>
                    <a:ext cx="0" cy="4696920"/>
                  </a:xfrm>
                  <a:prstGeom prst="line">
                    <a:avLst/>
                  </a:prstGeom>
                  <a:ln w="28440">
                    <a:solidFill>
                      <a:srgbClr val="80808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8840" rIns="78840" tIns="39240" bIns="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7504200" y="1218960"/>
                    <a:ext cx="0" cy="4696920"/>
                  </a:xfrm>
                  <a:prstGeom prst="line">
                    <a:avLst/>
                  </a:prstGeom>
                  <a:ln w="28440">
                    <a:solidFill>
                      <a:srgbClr val="80808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8840" rIns="78840" tIns="39240" bIns="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12" name=""/>
                  <p:cNvGrpSpPr/>
                  <p:nvPr/>
                </p:nvGrpSpPr>
                <p:grpSpPr>
                  <a:xfrm>
                    <a:off x="4987440" y="2247480"/>
                    <a:ext cx="3394080" cy="1743840"/>
                    <a:chOff x="4987440" y="2247480"/>
                    <a:chExt cx="3394080" cy="1743840"/>
                  </a:xfrm>
                </p:grpSpPr>
                <p:grpSp>
                  <p:nvGrpSpPr>
                    <p:cNvPr id="313" name=""/>
                    <p:cNvGrpSpPr/>
                    <p:nvPr/>
                  </p:nvGrpSpPr>
                  <p:grpSpPr>
                    <a:xfrm>
                      <a:off x="5056200" y="2247480"/>
                      <a:ext cx="3325320" cy="1679040"/>
                      <a:chOff x="5056200" y="2247480"/>
                      <a:chExt cx="3325320" cy="1679040"/>
                    </a:xfrm>
                  </p:grpSpPr>
                  <p:sp>
                    <p:nvSpPr>
                      <p:cNvPr id="314" name=""/>
                      <p:cNvSpPr/>
                      <p:nvPr/>
                    </p:nvSpPr>
                    <p:spPr>
                      <a:xfrm>
                        <a:off x="7527600" y="2248560"/>
                        <a:ext cx="853920" cy="0"/>
                      </a:xfrm>
                      <a:prstGeom prst="line">
                        <a:avLst/>
                      </a:prstGeom>
                      <a:ln w="63360">
                        <a:solidFill>
                          <a:srgbClr val="ffffff"/>
                        </a:solidFill>
                        <a:prstDash val="sysDot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5" name=""/>
                      <p:cNvSpPr/>
                      <p:nvPr/>
                    </p:nvSpPr>
                    <p:spPr>
                      <a:xfrm>
                        <a:off x="5056200" y="2247480"/>
                        <a:ext cx="2476440" cy="1679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64" h="902">
                            <a:moveTo>
                              <a:pt x="0" y="902"/>
                            </a:moveTo>
                            <a:cubicBezTo>
                              <a:pt x="39" y="823"/>
                              <a:pt x="111" y="742"/>
                              <a:pt x="153" y="684"/>
                            </a:cubicBezTo>
                            <a:cubicBezTo>
                              <a:pt x="195" y="624"/>
                              <a:pt x="221" y="588"/>
                              <a:pt x="262" y="534"/>
                            </a:cubicBezTo>
                            <a:cubicBezTo>
                              <a:pt x="294" y="498"/>
                              <a:pt x="336" y="436"/>
                              <a:pt x="368" y="399"/>
                            </a:cubicBezTo>
                            <a:cubicBezTo>
                              <a:pt x="426" y="339"/>
                              <a:pt x="510" y="211"/>
                              <a:pt x="611" y="147"/>
                            </a:cubicBezTo>
                            <a:cubicBezTo>
                              <a:pt x="721" y="82"/>
                              <a:pt x="894" y="32"/>
                              <a:pt x="1008" y="17"/>
                            </a:cubicBezTo>
                            <a:lnTo>
                              <a:pt x="1083" y="8"/>
                            </a:lnTo>
                            <a:lnTo>
                              <a:pt x="1164" y="0"/>
                            </a:lnTo>
                          </a:path>
                        </a:pathLst>
                      </a:custGeom>
                      <a:noFill/>
                      <a:ln w="63360">
                        <a:solidFill>
                          <a:srgbClr val="fffff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316" name=""/>
                    <p:cNvSpPr/>
                    <p:nvPr/>
                  </p:nvSpPr>
                  <p:spPr>
                    <a:xfrm rot="13167600">
                      <a:off x="5003280" y="3903840"/>
                      <a:ext cx="66960" cy="74520"/>
                    </a:xfrm>
                    <a:prstGeom prst="rtTriangle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2680" bIns="-226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17" name=""/>
                  <p:cNvSpPr/>
                  <p:nvPr/>
                </p:nvSpPr>
                <p:spPr>
                  <a:xfrm>
                    <a:off x="5192640" y="3030120"/>
                    <a:ext cx="2484360" cy="2228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2000" spc="-1" strike="noStrike">
                        <a:solidFill>
                          <a:srgbClr val="ccccff"/>
                        </a:solidFill>
                        <a:latin typeface="Arial Narrow"/>
                      </a:rPr>
                      <a:t>Difusión armónic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2000" spc="-1" strike="noStrike">
                        <a:solidFill>
                          <a:srgbClr val="ccccff"/>
                        </a:solidFill>
                        <a:latin typeface="Arial Narrow"/>
                      </a:rPr>
                      <a:t>L</a:t>
                    </a:r>
                    <a:r>
                      <a:rPr b="1" lang="es-ES_tradnl" sz="2000" spc="-1" strike="noStrike">
                        <a:solidFill>
                          <a:srgbClr val="ccccff"/>
                        </a:solidFill>
                        <a:latin typeface="Arial Narrow"/>
                      </a:rPr>
                      <a:t>iderizada por</a:t>
                    </a:r>
                    <a:br>
                      <a:rPr sz="2000"/>
                    </a:br>
                    <a:r>
                      <a:rPr b="1" lang="es-ES_tradnl" sz="2000" spc="-1" strike="noStrike">
                        <a:solidFill>
                          <a:srgbClr val="ccccff"/>
                        </a:solidFill>
                        <a:latin typeface="Arial Narrow"/>
                      </a:rPr>
                      <a:t>el capital productivo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2000" spc="-1" strike="noStrike">
                        <a:solidFill>
                          <a:srgbClr val="ccccff"/>
                        </a:solidFill>
                        <a:latin typeface="Arial Narrow"/>
                      </a:rPr>
                      <a:t>ÉPOCA DE</a:t>
                    </a:r>
                    <a:br>
                      <a:rPr sz="2000"/>
                    </a:br>
                    <a:r>
                      <a:rPr b="1" lang="es-ES_tradnl" sz="2000" spc="-1" strike="noStrike">
                        <a:solidFill>
                          <a:srgbClr val="ccccff"/>
                        </a:solidFill>
                        <a:latin typeface="Arial Narrow"/>
                      </a:rPr>
                      <a:t>BONANZA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5241960" y="1442520"/>
                  <a:ext cx="216864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s-ES" sz="1800" spc="-1" strike="noStrike">
                      <a:solidFill>
                        <a:srgbClr val="ccccff"/>
                      </a:solidFill>
                      <a:latin typeface="Arial"/>
                    </a:rPr>
                    <a:t>2O - 30 </a:t>
                  </a:r>
                  <a:r>
                    <a:rPr b="1" lang="es-ES_tradnl" sz="1800" spc="-1" strike="noStrike">
                      <a:solidFill>
                        <a:srgbClr val="ccccff"/>
                      </a:solidFill>
                      <a:latin typeface="Arial"/>
                    </a:rPr>
                    <a:t>año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19" name=""/>
          <p:cNvSpPr/>
          <p:nvPr/>
        </p:nvSpPr>
        <p:spPr>
          <a:xfrm flipH="1">
            <a:off x="5029200" y="6434280"/>
            <a:ext cx="15840" cy="11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4476600" y="1138320"/>
            <a:ext cx="592200" cy="5121360"/>
            <a:chOff x="4476600" y="1138320"/>
            <a:chExt cx="592200" cy="5121360"/>
          </a:xfrm>
        </p:grpSpPr>
        <p:sp>
          <p:nvSpPr>
            <p:cNvPr id="321" name=""/>
            <p:cNvSpPr/>
            <p:nvPr/>
          </p:nvSpPr>
          <p:spPr>
            <a:xfrm rot="16200000">
              <a:off x="2663640" y="3498840"/>
              <a:ext cx="4191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ffffff"/>
                  </a:solidFill>
                  <a:latin typeface="Arial"/>
                </a:rPr>
                <a:t>COLAPSO BURSÁTIL - RECESIÓN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495680" y="586296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476600" y="1138320"/>
              <a:ext cx="592200" cy="5907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af5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576320" y="1155960"/>
              <a:ext cx="35892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808080"/>
                  </a:solidFill>
                  <a:latin typeface="Arial Narrow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4269600" y="6019920"/>
            <a:ext cx="1131840" cy="763920"/>
            <a:chOff x="4269600" y="6019920"/>
            <a:chExt cx="1131840" cy="763920"/>
          </a:xfrm>
        </p:grpSpPr>
        <p:sp>
          <p:nvSpPr>
            <p:cNvPr id="326" name=""/>
            <p:cNvSpPr/>
            <p:nvPr/>
          </p:nvSpPr>
          <p:spPr>
            <a:xfrm>
              <a:off x="4419720" y="6019920"/>
              <a:ext cx="914400" cy="76176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269600" y="6251400"/>
              <a:ext cx="1131840" cy="53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Estamos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aqu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734500"/>
            </a:gs>
            <a:gs pos="100000">
              <a:srgbClr val="ff99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7124760" y="542880"/>
            <a:ext cx="0" cy="600084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 rot="16200000">
            <a:off x="2849400" y="343152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Ruptura en la mitad decada gran ole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3733920" y="237960"/>
            <a:ext cx="2286000" cy="6543000"/>
            <a:chOff x="3733920" y="237960"/>
            <a:chExt cx="2286000" cy="6543000"/>
          </a:xfrm>
        </p:grpSpPr>
        <p:grpSp>
          <p:nvGrpSpPr>
            <p:cNvPr id="331" name=""/>
            <p:cNvGrpSpPr/>
            <p:nvPr/>
          </p:nvGrpSpPr>
          <p:grpSpPr>
            <a:xfrm>
              <a:off x="3733920" y="821520"/>
              <a:ext cx="2286000" cy="5959440"/>
              <a:chOff x="3733920" y="821520"/>
              <a:chExt cx="2286000" cy="5959440"/>
            </a:xfrm>
          </p:grpSpPr>
          <p:sp>
            <p:nvSpPr>
              <p:cNvPr id="332" name=""/>
              <p:cNvSpPr/>
              <p:nvPr/>
            </p:nvSpPr>
            <p:spPr>
              <a:xfrm flipH="1" rot="16200000">
                <a:off x="2673720" y="3200040"/>
                <a:ext cx="4446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ffffff"/>
                    </a:solidFill>
                    <a:latin typeface="Arial"/>
                  </a:rPr>
                  <a:t>BREAKING POINT OF EACH GREAT SURG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733920" y="821520"/>
                <a:ext cx="2286000" cy="5860800"/>
              </a:xfrm>
              <a:prstGeom prst="downArrow">
                <a:avLst>
                  <a:gd name="adj1" fmla="val 63472"/>
                  <a:gd name="adj2" fmla="val 16593"/>
                </a:avLst>
              </a:prstGeom>
              <a:gradFill rotWithShape="0">
                <a:gsLst>
                  <a:gs pos="0">
                    <a:srgbClr val="ffb03d"/>
                  </a:gs>
                  <a:gs pos="50000">
                    <a:srgbClr val="fee6c3"/>
                  </a:gs>
                  <a:gs pos="100000">
                    <a:srgbClr val="ffb03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372200" y="3618720"/>
                <a:ext cx="976320" cy="21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615960"/>
                    <a:tab algn="l" pos="1231920"/>
                    <a:tab algn="l" pos="1847880"/>
                    <a:tab algn="l" pos="2463840"/>
                    <a:tab algn="l" pos="3079800"/>
                    <a:tab algn="l" pos="3695760"/>
                    <a:tab algn="l" pos="4311720"/>
                    <a:tab algn="l" pos="4927680"/>
                    <a:tab algn="l" pos="5543640"/>
                    <a:tab algn="l" pos="6159600"/>
                    <a:tab algn="l" pos="6775560"/>
                    <a:tab algn="l" pos="7391520"/>
                    <a:tab algn="l" pos="8007480"/>
                    <a:tab algn="l" pos="8623440"/>
                    <a:tab algn="l" pos="9239400"/>
                    <a:tab algn="l" pos="9855360"/>
                    <a:tab algn="l" pos="1047132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Narrow"/>
                  </a:rPr>
                  <a:t>1893–95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Arial Narrow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312080" y="4284720"/>
                <a:ext cx="1095120" cy="96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615960"/>
                    <a:tab algn="l" pos="1231920"/>
                    <a:tab algn="l" pos="1847880"/>
                    <a:tab algn="l" pos="2463840"/>
                    <a:tab algn="l" pos="3079800"/>
                    <a:tab algn="l" pos="3695760"/>
                    <a:tab algn="l" pos="4311720"/>
                    <a:tab algn="l" pos="4927680"/>
                    <a:tab algn="l" pos="5543640"/>
                    <a:tab algn="l" pos="6159600"/>
                    <a:tab algn="l" pos="6775560"/>
                    <a:tab algn="l" pos="7391520"/>
                    <a:tab algn="l" pos="8007480"/>
                    <a:tab algn="l" pos="8623440"/>
                    <a:tab algn="l" pos="9239400"/>
                    <a:tab algn="l" pos="9855360"/>
                    <a:tab algn="l" pos="1047132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Narrow"/>
                  </a:rPr>
                  <a:t>Europ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615960"/>
                    <a:tab algn="l" pos="1231920"/>
                    <a:tab algn="l" pos="1847880"/>
                    <a:tab algn="l" pos="2463840"/>
                    <a:tab algn="l" pos="3079800"/>
                    <a:tab algn="l" pos="3695760"/>
                    <a:tab algn="l" pos="4311720"/>
                    <a:tab algn="l" pos="4927680"/>
                    <a:tab algn="l" pos="5543640"/>
                    <a:tab algn="l" pos="6159600"/>
                    <a:tab algn="l" pos="6775560"/>
                    <a:tab algn="l" pos="7391520"/>
                    <a:tab algn="l" pos="8007480"/>
                    <a:tab algn="l" pos="8623440"/>
                    <a:tab algn="l" pos="9239400"/>
                    <a:tab algn="l" pos="9855360"/>
                    <a:tab algn="l" pos="1047132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Narrow"/>
                  </a:rPr>
                  <a:t>1929–3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615960"/>
                    <a:tab algn="l" pos="1231920"/>
                    <a:tab algn="l" pos="1847880"/>
                    <a:tab algn="l" pos="2463840"/>
                    <a:tab algn="l" pos="3079800"/>
                    <a:tab algn="l" pos="3695760"/>
                    <a:tab algn="l" pos="4311720"/>
                    <a:tab algn="l" pos="4927680"/>
                    <a:tab algn="l" pos="5543640"/>
                    <a:tab algn="l" pos="6159600"/>
                    <a:tab algn="l" pos="6775560"/>
                    <a:tab algn="l" pos="7391520"/>
                    <a:tab algn="l" pos="8007480"/>
                    <a:tab algn="l" pos="8623440"/>
                    <a:tab algn="l" pos="9239400"/>
                    <a:tab algn="l" pos="9855360"/>
                    <a:tab algn="l" pos="1047132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Narrow"/>
                  </a:rPr>
                  <a:t>EEU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615960"/>
                    <a:tab algn="l" pos="1231920"/>
                    <a:tab algn="l" pos="1847880"/>
                    <a:tab algn="l" pos="2463840"/>
                    <a:tab algn="l" pos="3079800"/>
                    <a:tab algn="l" pos="3695760"/>
                    <a:tab algn="l" pos="4311720"/>
                    <a:tab algn="l" pos="4927680"/>
                    <a:tab algn="l" pos="5543640"/>
                    <a:tab algn="l" pos="6159600"/>
                    <a:tab algn="l" pos="6775560"/>
                    <a:tab algn="l" pos="7391520"/>
                    <a:tab algn="l" pos="8007480"/>
                    <a:tab algn="l" pos="8623440"/>
                    <a:tab algn="l" pos="9239400"/>
                    <a:tab algn="l" pos="9855360"/>
                    <a:tab algn="l" pos="1047132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Narrow"/>
                  </a:rPr>
                  <a:t>1929–4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446720" y="2564280"/>
                <a:ext cx="825480" cy="21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615960"/>
                    <a:tab algn="l" pos="1231920"/>
                    <a:tab algn="l" pos="1847880"/>
                    <a:tab algn="l" pos="2463840"/>
                    <a:tab algn="l" pos="3079800"/>
                    <a:tab algn="l" pos="3695760"/>
                    <a:tab algn="l" pos="4311720"/>
                    <a:tab algn="l" pos="4927680"/>
                    <a:tab algn="l" pos="5543640"/>
                    <a:tab algn="l" pos="6159600"/>
                    <a:tab algn="l" pos="6775560"/>
                    <a:tab algn="l" pos="7391520"/>
                    <a:tab algn="l" pos="8007480"/>
                    <a:tab algn="l" pos="8623440"/>
                    <a:tab algn="l" pos="9239400"/>
                    <a:tab algn="l" pos="9855360"/>
                    <a:tab algn="l" pos="1047132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Narrow"/>
                  </a:rPr>
                  <a:t>1848–50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293000" y="5816160"/>
                <a:ext cx="1135080" cy="21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615960"/>
                    <a:tab algn="l" pos="1231920"/>
                    <a:tab algn="l" pos="1847880"/>
                    <a:tab algn="l" pos="2463840"/>
                    <a:tab algn="l" pos="3079800"/>
                    <a:tab algn="l" pos="3695760"/>
                    <a:tab algn="l" pos="4311720"/>
                    <a:tab algn="l" pos="4927680"/>
                    <a:tab algn="l" pos="5543640"/>
                    <a:tab algn="l" pos="6159600"/>
                    <a:tab algn="l" pos="6775560"/>
                    <a:tab algn="l" pos="7391520"/>
                    <a:tab algn="l" pos="8007480"/>
                    <a:tab algn="l" pos="8623440"/>
                    <a:tab algn="l" pos="9239400"/>
                    <a:tab algn="l" pos="9855360"/>
                    <a:tab algn="l" pos="1047132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Narrow"/>
                  </a:rPr>
                  <a:t>2000–??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347000" y="6415560"/>
                <a:ext cx="183960" cy="3654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403880" y="1486080"/>
                <a:ext cx="912960" cy="21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224"/>
                  </a:spcBef>
                  <a:tabLst>
                    <a:tab algn="l" pos="0"/>
                    <a:tab algn="l" pos="615960"/>
                    <a:tab algn="l" pos="1231920"/>
                    <a:tab algn="l" pos="1847880"/>
                    <a:tab algn="l" pos="2463840"/>
                    <a:tab algn="l" pos="3079800"/>
                    <a:tab algn="l" pos="3695760"/>
                    <a:tab algn="l" pos="4311720"/>
                    <a:tab algn="l" pos="4927680"/>
                    <a:tab algn="l" pos="5543640"/>
                    <a:tab algn="l" pos="6159600"/>
                    <a:tab algn="l" pos="6775560"/>
                    <a:tab algn="l" pos="7391520"/>
                    <a:tab algn="l" pos="8007480"/>
                    <a:tab algn="l" pos="8623440"/>
                    <a:tab algn="l" pos="9239400"/>
                    <a:tab algn="l" pos="9855360"/>
                    <a:tab algn="l" pos="1047132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 Narrow"/>
                  </a:rPr>
                  <a:t>1793–9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254480" y="848880"/>
                <a:ext cx="1160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480000"/>
                    </a:solidFill>
                    <a:latin typeface="Arial Narrow"/>
                  </a:rPr>
                  <a:t>RECES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>
              <a:off x="4799160" y="237960"/>
              <a:ext cx="183960" cy="366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2857680" y="542880"/>
            <a:ext cx="0" cy="6000840"/>
          </a:xfrm>
          <a:prstGeom prst="line">
            <a:avLst/>
          </a:prstGeom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625760" y="1171440"/>
            <a:ext cx="2801880" cy="762120"/>
          </a:xfrm>
          <a:prstGeom prst="rect">
            <a:avLst/>
          </a:prstGeom>
          <a:gradFill rotWithShape="0">
            <a:gsLst>
              <a:gs pos="0">
                <a:srgbClr val="ffb03d"/>
              </a:gs>
              <a:gs pos="100000">
                <a:srgbClr val="febb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305320" y="1000080"/>
            <a:ext cx="3540240" cy="1103400"/>
          </a:xfrm>
          <a:prstGeom prst="rightArrow">
            <a:avLst>
              <a:gd name="adj1" fmla="val 71269"/>
              <a:gd name="adj2" fmla="val 52836"/>
            </a:avLst>
          </a:prstGeom>
          <a:gradFill rotWithShape="0">
            <a:gsLst>
              <a:gs pos="0">
                <a:srgbClr val="ffb03d"/>
              </a:gs>
              <a:gs pos="100000">
                <a:srgbClr val="febb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23720" y="849240"/>
            <a:ext cx="1444680" cy="1405080"/>
          </a:xfrm>
          <a:prstGeom prst="ellipse">
            <a:avLst/>
          </a:prstGeom>
          <a:gradFill rotWithShape="0">
            <a:gsLst>
              <a:gs pos="0">
                <a:srgbClr val="b07b2a"/>
              </a:gs>
              <a:gs pos="100000">
                <a:srgbClr val="ffb23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74640" y="2271600"/>
            <a:ext cx="2802240" cy="762120"/>
          </a:xfrm>
          <a:prstGeom prst="rect">
            <a:avLst/>
          </a:prstGeom>
          <a:gradFill rotWithShape="0">
            <a:gsLst>
              <a:gs pos="0">
                <a:srgbClr val="ffb03d"/>
              </a:gs>
              <a:gs pos="100000">
                <a:srgbClr val="febb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254560" y="2100240"/>
            <a:ext cx="3540240" cy="1103400"/>
          </a:xfrm>
          <a:prstGeom prst="rightArrow">
            <a:avLst>
              <a:gd name="adj1" fmla="val 71269"/>
              <a:gd name="adj2" fmla="val 52836"/>
            </a:avLst>
          </a:prstGeom>
          <a:gradFill rotWithShape="0">
            <a:gsLst>
              <a:gs pos="0">
                <a:srgbClr val="ffb03d"/>
              </a:gs>
              <a:gs pos="100000">
                <a:srgbClr val="febb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22280" y="1949400"/>
            <a:ext cx="1444680" cy="1405080"/>
          </a:xfrm>
          <a:prstGeom prst="ellipse">
            <a:avLst/>
          </a:prstGeom>
          <a:gradFill rotWithShape="0">
            <a:gsLst>
              <a:gs pos="0">
                <a:srgbClr val="b07b2a"/>
              </a:gs>
              <a:gs pos="100000">
                <a:srgbClr val="ffb23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574640" y="3371760"/>
            <a:ext cx="2802240" cy="762120"/>
          </a:xfrm>
          <a:prstGeom prst="rect">
            <a:avLst/>
          </a:prstGeom>
          <a:gradFill rotWithShape="0">
            <a:gsLst>
              <a:gs pos="0">
                <a:srgbClr val="ffb03d"/>
              </a:gs>
              <a:gs pos="100000">
                <a:srgbClr val="febb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22280" y="3049560"/>
            <a:ext cx="1444680" cy="1405080"/>
          </a:xfrm>
          <a:prstGeom prst="ellipse">
            <a:avLst/>
          </a:prstGeom>
          <a:gradFill rotWithShape="0">
            <a:gsLst>
              <a:gs pos="0">
                <a:srgbClr val="b07b2a"/>
              </a:gs>
              <a:gs pos="100000">
                <a:srgbClr val="ffb23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254560" y="3200400"/>
            <a:ext cx="3540240" cy="1103400"/>
          </a:xfrm>
          <a:prstGeom prst="rightArrow">
            <a:avLst>
              <a:gd name="adj1" fmla="val 71269"/>
              <a:gd name="adj2" fmla="val 52836"/>
            </a:avLst>
          </a:prstGeom>
          <a:gradFill rotWithShape="0">
            <a:gsLst>
              <a:gs pos="0">
                <a:srgbClr val="ffb03d"/>
              </a:gs>
              <a:gs pos="100000">
                <a:srgbClr val="febb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574640" y="4471920"/>
            <a:ext cx="2802240" cy="762120"/>
          </a:xfrm>
          <a:prstGeom prst="rect">
            <a:avLst/>
          </a:prstGeom>
          <a:gradFill rotWithShape="0">
            <a:gsLst>
              <a:gs pos="0">
                <a:srgbClr val="ffb03d"/>
              </a:gs>
              <a:gs pos="100000">
                <a:srgbClr val="febb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254560" y="4300560"/>
            <a:ext cx="3540240" cy="1103400"/>
          </a:xfrm>
          <a:prstGeom prst="rightArrow">
            <a:avLst>
              <a:gd name="adj1" fmla="val 71269"/>
              <a:gd name="adj2" fmla="val 52836"/>
            </a:avLst>
          </a:prstGeom>
          <a:solidFill>
            <a:srgbClr val="ffb0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22280" y="4149720"/>
            <a:ext cx="1444680" cy="1405080"/>
          </a:xfrm>
          <a:prstGeom prst="ellipse">
            <a:avLst/>
          </a:prstGeom>
          <a:gradFill rotWithShape="0">
            <a:gsLst>
              <a:gs pos="0">
                <a:srgbClr val="b07b2a"/>
              </a:gs>
              <a:gs pos="100000">
                <a:srgbClr val="ffb23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611360" y="5570640"/>
            <a:ext cx="2801880" cy="761760"/>
          </a:xfrm>
          <a:prstGeom prst="rect">
            <a:avLst/>
          </a:prstGeom>
          <a:gradFill rotWithShape="0">
            <a:gsLst>
              <a:gs pos="0">
                <a:srgbClr val="ffb03d"/>
              </a:gs>
              <a:gs pos="100000">
                <a:srgbClr val="febb5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23720" y="5249880"/>
            <a:ext cx="1444680" cy="1405080"/>
          </a:xfrm>
          <a:prstGeom prst="ellipse">
            <a:avLst/>
          </a:prstGeom>
          <a:gradFill rotWithShape="0">
            <a:gsLst>
              <a:gs pos="0">
                <a:srgbClr val="b07b2a"/>
              </a:gs>
              <a:gs pos="100000">
                <a:srgbClr val="ffb23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60240" y="1177920"/>
            <a:ext cx="100656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177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Revolu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Industr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35760" y="2197080"/>
            <a:ext cx="10569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1829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Máquina 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de vapor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y ferrocarril</a:t>
            </a: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66560" y="3278160"/>
            <a:ext cx="13924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1875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Acero, electricidad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e ingeniería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pes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82480" y="4376880"/>
            <a:ext cx="11728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 Narrow"/>
              </a:rPr>
              <a:t>1908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Petróleo,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automóv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y producción 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en ma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62400" y="5573880"/>
            <a:ext cx="10036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 Narrow"/>
              </a:rPr>
              <a:t>1971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Informática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y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telecomu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-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 Narrow"/>
              </a:rPr>
              <a:t>nic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272200" y="5381640"/>
            <a:ext cx="3539880" cy="1103400"/>
          </a:xfrm>
          <a:prstGeom prst="rightArrow">
            <a:avLst>
              <a:gd name="adj1" fmla="val 71269"/>
              <a:gd name="adj2" fmla="val 52831"/>
            </a:avLst>
          </a:prstGeom>
          <a:noFill/>
          <a:ln w="9360">
            <a:solidFill>
              <a:srgbClr val="40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372680" y="-76320"/>
            <a:ext cx="703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ada Instalación culmina en una burbuja financiera </a:t>
            </a:r>
            <a:br>
              <a:rPr sz="2000"/>
            </a:b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ada Despliegue comienza con una época de bonanza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651760" y="789120"/>
            <a:ext cx="1506960" cy="5511960"/>
            <a:chOff x="2651760" y="789120"/>
            <a:chExt cx="1506960" cy="5511960"/>
          </a:xfrm>
        </p:grpSpPr>
        <p:grpSp>
          <p:nvGrpSpPr>
            <p:cNvPr id="365" name=""/>
            <p:cNvGrpSpPr/>
            <p:nvPr/>
          </p:nvGrpSpPr>
          <p:grpSpPr>
            <a:xfrm>
              <a:off x="2651760" y="1415880"/>
              <a:ext cx="1506960" cy="4885200"/>
              <a:chOff x="2651760" y="1415880"/>
              <a:chExt cx="1506960" cy="4885200"/>
            </a:xfrm>
          </p:grpSpPr>
          <p:sp>
            <p:nvSpPr>
              <p:cNvPr id="366" name=""/>
              <p:cNvSpPr/>
              <p:nvPr/>
            </p:nvSpPr>
            <p:spPr>
              <a:xfrm>
                <a:off x="2651760" y="5613120"/>
                <a:ext cx="1506600" cy="68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Internet</a:t>
                </a:r>
                <a:br>
                  <a:rPr sz="1300"/>
                </a:b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Telecomunicaciones</a:t>
                </a:r>
                <a:br>
                  <a:rPr sz="1300"/>
                </a:b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Países lejano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098160" y="4492440"/>
                <a:ext cx="1060200" cy="68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Electricidad,</a:t>
                </a:r>
                <a:br>
                  <a:rPr sz="1300"/>
                </a:b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industriales</a:t>
                </a:r>
                <a:br>
                  <a:rPr sz="1300"/>
                </a:b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e inmobiliario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826000" y="3492360"/>
                <a:ext cx="1331280" cy="68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Países lejanos</a:t>
                </a:r>
                <a:br>
                  <a:rPr sz="1300"/>
                </a:b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redes mundiales</a:t>
                </a:r>
                <a:br>
                  <a:rPr sz="1300"/>
                </a:b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ferrocarril y vapor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155760" y="2473200"/>
                <a:ext cx="100224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Ferrocarrile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461400" y="1415880"/>
                <a:ext cx="69732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Canale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3201840" y="7891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 Narrow"/>
                </a:rPr>
                <a:t>Burbuj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5560920" y="789120"/>
            <a:ext cx="1904040" cy="5333400"/>
            <a:chOff x="5560920" y="789120"/>
            <a:chExt cx="1904040" cy="5333400"/>
          </a:xfrm>
        </p:grpSpPr>
        <p:grpSp>
          <p:nvGrpSpPr>
            <p:cNvPr id="373" name=""/>
            <p:cNvGrpSpPr/>
            <p:nvPr/>
          </p:nvGrpSpPr>
          <p:grpSpPr>
            <a:xfrm>
              <a:off x="5641920" y="1347840"/>
              <a:ext cx="1823040" cy="4774680"/>
              <a:chOff x="5641920" y="1347840"/>
              <a:chExt cx="1823040" cy="4774680"/>
            </a:xfrm>
          </p:grpSpPr>
          <p:sp>
            <p:nvSpPr>
              <p:cNvPr id="374" name=""/>
              <p:cNvSpPr/>
              <p:nvPr/>
            </p:nvSpPr>
            <p:spPr>
              <a:xfrm>
                <a:off x="5641920" y="55717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3000" spc="-1" strike="noStrike">
                    <a:solidFill>
                      <a:srgbClr val="010000"/>
                    </a:solidFill>
                    <a:latin typeface="Arial Narrow"/>
                  </a:rPr>
                  <a:t>?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643360" y="4625640"/>
                <a:ext cx="9640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Auge  de la</a:t>
                </a:r>
                <a:br>
                  <a:rPr sz="1300"/>
                </a:b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post-guerra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644440" y="3597120"/>
                <a:ext cx="182052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La ¨Belle Époque¨ Europa</a:t>
                </a:r>
                <a:br>
                  <a:rPr sz="1300"/>
                </a:b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La Era Progresista EEUU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643720" y="2517480"/>
                <a:ext cx="121392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Auge Victoriano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643000" y="1347840"/>
                <a:ext cx="9900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El gran salto</a:t>
                </a:r>
                <a:br>
                  <a:rPr sz="1300"/>
                </a:br>
                <a:r>
                  <a:rPr b="1" lang="es-ES_tradnl" sz="1300" spc="-1" strike="noStrike">
                    <a:solidFill>
                      <a:srgbClr val="000000"/>
                    </a:solidFill>
                    <a:latin typeface="Arial Narrow"/>
                  </a:rPr>
                  <a:t>británico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5560920" y="789120"/>
              <a:ext cx="164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 Narrow"/>
                </a:rPr>
                <a:t>Epoca de bonanz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2449800" y="6461280"/>
            <a:ext cx="509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y la duración de la recesión es incie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 flipV="1">
            <a:off x="0" y="-720"/>
            <a:ext cx="9144000" cy="24764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76320"/>
            <a:ext cx="91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Guiados por la regularidad histó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277800" y="584280"/>
            <a:ext cx="28310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PODEMOS PREVER </a:t>
            </a:r>
            <a:br>
              <a:rPr sz="2600"/>
            </a:b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HACIA EL FUTUR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233000" y="4405320"/>
            <a:ext cx="662868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La transformación de todos los sectores</a:t>
            </a: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económicos por el nuevo parad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UNA EPOCA DE BONANZA PROB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 …</a:t>
            </a: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y la gestación de la próxima revolución tecnológica</a:t>
            </a: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(bajo este paradigm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958040" y="2666880"/>
            <a:ext cx="519624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ad35"/>
                </a:solidFill>
                <a:latin typeface="Arial Narrow"/>
              </a:rPr>
              <a:t>DE 20 A 30 AÑOS MÁS</a:t>
            </a:r>
            <a:br>
              <a:rPr sz="2800"/>
            </a:br>
            <a:r>
              <a:rPr b="1" lang="es-ES_tradnl" sz="2800" spc="-1" strike="noStrike">
                <a:solidFill>
                  <a:srgbClr val="ffad35"/>
                </a:solidFill>
                <a:latin typeface="Arial Narrow"/>
              </a:rPr>
              <a:t>PARA EL DESPLIEGUE COMPLETO</a:t>
            </a:r>
            <a:br>
              <a:rPr sz="2800"/>
            </a:br>
            <a:r>
              <a:rPr b="1" lang="es-ES_tradnl" sz="2800" spc="-1" strike="noStrike">
                <a:solidFill>
                  <a:srgbClr val="ffad35"/>
                </a:solidFill>
                <a:latin typeface="Arial Narrow"/>
              </a:rPr>
              <a:t>DE LA REVOLUCIÓN INFORMÁ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99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"/>
          <p:cNvGrpSpPr/>
          <p:nvPr/>
        </p:nvGrpSpPr>
        <p:grpSpPr>
          <a:xfrm>
            <a:off x="677880" y="1066680"/>
            <a:ext cx="8092800" cy="1479240"/>
            <a:chOff x="677880" y="1066680"/>
            <a:chExt cx="8092800" cy="1479240"/>
          </a:xfrm>
        </p:grpSpPr>
        <p:sp>
          <p:nvSpPr>
            <p:cNvPr id="387" name=""/>
            <p:cNvSpPr/>
            <p:nvPr/>
          </p:nvSpPr>
          <p:spPr>
            <a:xfrm>
              <a:off x="1786680" y="1066680"/>
              <a:ext cx="6555960" cy="1479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549880" y="1363680"/>
              <a:ext cx="6220800" cy="88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900" spc="-1" strike="noStrike">
                  <a:solidFill>
                    <a:srgbClr val="b2b2b2"/>
                  </a:solidFill>
                  <a:latin typeface="Arial Narrow"/>
                </a:rPr>
                <a:t>Las regularidades históricas </a:t>
              </a:r>
              <a:br>
                <a:rPr sz="2900"/>
              </a:br>
              <a:r>
                <a:rPr b="1" lang="es-ES_tradnl" sz="2900" spc="-1" strike="noStrike">
                  <a:solidFill>
                    <a:srgbClr val="b2b2b2"/>
                  </a:solidFill>
                  <a:latin typeface="Arial Narrow"/>
                </a:rPr>
                <a:t>en los cambios de contexto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77880" y="1066680"/>
              <a:ext cx="1110960" cy="1479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063440" y="1418760"/>
              <a:ext cx="39816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b2b2b2"/>
                  </a:solidFill>
                  <a:latin typeface="Arial Narrow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685800" y="4038480"/>
            <a:ext cx="8076960" cy="1533240"/>
            <a:chOff x="685800" y="4038480"/>
            <a:chExt cx="8076960" cy="1533240"/>
          </a:xfrm>
        </p:grpSpPr>
        <p:sp>
          <p:nvSpPr>
            <p:cNvPr id="392" name=""/>
            <p:cNvSpPr/>
            <p:nvPr/>
          </p:nvSpPr>
          <p:spPr>
            <a:xfrm>
              <a:off x="1790280" y="4038480"/>
              <a:ext cx="6544800" cy="153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554560" y="4321080"/>
              <a:ext cx="6208200" cy="97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900" spc="-1" strike="noStrike">
                  <a:solidFill>
                    <a:srgbClr val="b2b2b2"/>
                  </a:solidFill>
                  <a:latin typeface="Arial Narrow"/>
                </a:rPr>
                <a:t>Innovaciones institucionales</a:t>
              </a:r>
              <a:br>
                <a:rPr sz="2900"/>
              </a:br>
              <a:r>
                <a:rPr b="1" lang="es-ES_tradnl" sz="2900" spc="-1" strike="noStrike">
                  <a:solidFill>
                    <a:srgbClr val="b2b2b2"/>
                  </a:solidFill>
                  <a:latin typeface="Arial Narrow"/>
                </a:rPr>
                <a:t>adecuadas y oportunas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85800" y="4040640"/>
              <a:ext cx="1108800" cy="1531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058400" y="4417920"/>
              <a:ext cx="39744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b2b2b2"/>
                  </a:solidFill>
                  <a:latin typeface="Arial Narrow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673200" y="2590920"/>
            <a:ext cx="8098920" cy="1425240"/>
            <a:chOff x="673200" y="2590920"/>
            <a:chExt cx="8098920" cy="1425240"/>
          </a:xfrm>
        </p:grpSpPr>
        <p:sp>
          <p:nvSpPr>
            <p:cNvPr id="397" name=""/>
            <p:cNvSpPr/>
            <p:nvPr/>
          </p:nvSpPr>
          <p:spPr>
            <a:xfrm>
              <a:off x="1742400" y="2590920"/>
              <a:ext cx="6603480" cy="1425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73200" y="2590920"/>
              <a:ext cx="1111680" cy="1425240"/>
            </a:xfrm>
            <a:prstGeom prst="rect">
              <a:avLst/>
            </a:prstGeom>
            <a:gradFill rotWithShape="0">
              <a:gsLst>
                <a:gs pos="0">
                  <a:srgbClr val="4c2e00"/>
                </a:gs>
                <a:gs pos="50000">
                  <a:srgbClr val="ff9900"/>
                </a:gs>
                <a:gs pos="100000">
                  <a:srgbClr val="4c2e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046160" y="2894400"/>
              <a:ext cx="398880" cy="6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548440" y="2784960"/>
              <a:ext cx="6223680" cy="97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Lo específico del paradigma</a:t>
              </a:r>
              <a:br>
                <a:rPr sz="2900"/>
              </a:b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de la Revolución Informática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c0c3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0" y="11160"/>
            <a:ext cx="8839080" cy="5205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EL ACTUAL CAMBIO DE PARADIG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458000" y="6262560"/>
            <a:ext cx="6380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Un cambio radical de sentido comú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762120" y="830160"/>
            <a:ext cx="7772400" cy="606600"/>
            <a:chOff x="762120" y="830160"/>
            <a:chExt cx="7772400" cy="606600"/>
          </a:xfrm>
        </p:grpSpPr>
        <p:sp>
          <p:nvSpPr>
            <p:cNvPr id="404" name=""/>
            <p:cNvSpPr/>
            <p:nvPr/>
          </p:nvSpPr>
          <p:spPr>
            <a:xfrm>
              <a:off x="762120" y="858960"/>
              <a:ext cx="1833480" cy="549000"/>
            </a:xfrm>
            <a:prstGeom prst="rect">
              <a:avLst/>
            </a:prstGeom>
            <a:gradFill rotWithShape="0">
              <a:gsLst>
                <a:gs pos="0">
                  <a:srgbClr val="a66300"/>
                </a:gs>
                <a:gs pos="50000">
                  <a:srgbClr val="ff9900"/>
                </a:gs>
                <a:gs pos="100000">
                  <a:srgbClr val="a66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4129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675240" y="838080"/>
              <a:ext cx="4859280" cy="590760"/>
            </a:xfrm>
            <a:prstGeom prst="rect">
              <a:avLst/>
            </a:prstGeom>
            <a:gradFill rotWithShape="0">
              <a:gsLst>
                <a:gs pos="0">
                  <a:srgbClr val="bfbfef"/>
                </a:gs>
                <a:gs pos="50000">
                  <a:srgbClr val="fefefe"/>
                </a:gs>
                <a:gs pos="100000">
                  <a:srgbClr val="bfbf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878200" y="830160"/>
              <a:ext cx="550800" cy="606600"/>
            </a:xfrm>
            <a:prstGeom prst="rightArrow">
              <a:avLst>
                <a:gd name="adj1" fmla="val 49843"/>
                <a:gd name="adj2" fmla="val 43880"/>
              </a:avLst>
            </a:prstGeom>
            <a:gradFill rotWithShape="0">
              <a:gsLst>
                <a:gs pos="0">
                  <a:srgbClr val="acace9"/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2b2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043880" y="843120"/>
              <a:ext cx="384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De pirámides centralizadas cerradas</a:t>
              </a:r>
              <a:br>
                <a:rPr sz="2000"/>
              </a:b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a la descentralización en redes abiert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137960" y="995400"/>
              <a:ext cx="1293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ESTRUCTU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762120" y="1604880"/>
            <a:ext cx="7772400" cy="606600"/>
            <a:chOff x="762120" y="1604880"/>
            <a:chExt cx="7772400" cy="606600"/>
          </a:xfrm>
        </p:grpSpPr>
        <p:sp>
          <p:nvSpPr>
            <p:cNvPr id="410" name=""/>
            <p:cNvSpPr/>
            <p:nvPr/>
          </p:nvSpPr>
          <p:spPr>
            <a:xfrm>
              <a:off x="3675240" y="1612800"/>
              <a:ext cx="4859280" cy="590760"/>
            </a:xfrm>
            <a:prstGeom prst="rect">
              <a:avLst/>
            </a:prstGeom>
            <a:gradFill rotWithShape="0">
              <a:gsLst>
                <a:gs pos="0">
                  <a:srgbClr val="bfbfef"/>
                </a:gs>
                <a:gs pos="50000">
                  <a:srgbClr val="fefefe"/>
                </a:gs>
                <a:gs pos="100000">
                  <a:srgbClr val="bfbf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024440" y="1617840"/>
              <a:ext cx="4036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De transformar materias primas a usar </a:t>
              </a:r>
              <a:br>
                <a:rPr sz="2000"/>
              </a:b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“materia gris” para procesar conocimien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878200" y="1604880"/>
              <a:ext cx="550800" cy="606600"/>
            </a:xfrm>
            <a:prstGeom prst="rightArrow">
              <a:avLst>
                <a:gd name="adj1" fmla="val 49843"/>
                <a:gd name="adj2" fmla="val 43880"/>
              </a:avLst>
            </a:prstGeom>
            <a:gradFill rotWithShape="0">
              <a:gsLst>
                <a:gs pos="0">
                  <a:srgbClr val="acace9"/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2b2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62120" y="1633680"/>
              <a:ext cx="1833480" cy="549000"/>
            </a:xfrm>
            <a:prstGeom prst="rect">
              <a:avLst/>
            </a:prstGeom>
            <a:gradFill rotWithShape="0">
              <a:gsLst>
                <a:gs pos="0">
                  <a:srgbClr val="a66300"/>
                </a:gs>
                <a:gs pos="50000">
                  <a:srgbClr val="ff9900"/>
                </a:gs>
                <a:gs pos="100000">
                  <a:srgbClr val="a66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230480" y="1770120"/>
              <a:ext cx="1200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PRODUC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762120" y="3124080"/>
            <a:ext cx="7772400" cy="606600"/>
            <a:chOff x="762120" y="3124080"/>
            <a:chExt cx="7772400" cy="606600"/>
          </a:xfrm>
        </p:grpSpPr>
        <p:sp>
          <p:nvSpPr>
            <p:cNvPr id="416" name=""/>
            <p:cNvSpPr/>
            <p:nvPr/>
          </p:nvSpPr>
          <p:spPr>
            <a:xfrm>
              <a:off x="2878200" y="3124080"/>
              <a:ext cx="550800" cy="606600"/>
            </a:xfrm>
            <a:prstGeom prst="rightArrow">
              <a:avLst>
                <a:gd name="adj1" fmla="val 49843"/>
                <a:gd name="adj2" fmla="val 43880"/>
              </a:avLst>
            </a:prstGeom>
            <a:gradFill rotWithShape="0">
              <a:gsLst>
                <a:gs pos="0">
                  <a:srgbClr val="acace9"/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2b2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675240" y="3132000"/>
              <a:ext cx="4859280" cy="590760"/>
            </a:xfrm>
            <a:prstGeom prst="rect">
              <a:avLst/>
            </a:prstGeom>
            <a:gradFill rotWithShape="0">
              <a:gsLst>
                <a:gs pos="0">
                  <a:srgbClr val="bfbfef"/>
                </a:gs>
                <a:gs pos="50000">
                  <a:srgbClr val="fefefe"/>
                </a:gs>
                <a:gs pos="100000">
                  <a:srgbClr val="bfbf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24440" y="3137040"/>
              <a:ext cx="369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Del salario como un costo a minimizar</a:t>
              </a:r>
              <a:br>
                <a:rPr sz="2000"/>
              </a:b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a la inversión en capital human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62120" y="3152880"/>
              <a:ext cx="1833480" cy="549000"/>
            </a:xfrm>
            <a:prstGeom prst="rect">
              <a:avLst/>
            </a:prstGeom>
            <a:gradFill rotWithShape="0">
              <a:gsLst>
                <a:gs pos="0">
                  <a:srgbClr val="a66300"/>
                </a:gs>
                <a:gs pos="50000">
                  <a:srgbClr val="ff9900"/>
                </a:gs>
                <a:gs pos="100000">
                  <a:srgbClr val="a66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386720" y="3289320"/>
              <a:ext cx="1043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 Narrow"/>
                </a:rPr>
                <a:t>PERSON</a:t>
              </a: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A</a:t>
              </a:r>
              <a:r>
                <a:rPr b="1" lang="es-ES" sz="1800" spc="-1" strike="noStrike">
                  <a:solidFill>
                    <a:srgbClr val="ffffff"/>
                  </a:solidFill>
                  <a:latin typeface="Arial Narrow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762120" y="4648320"/>
            <a:ext cx="7772400" cy="606240"/>
            <a:chOff x="762120" y="4648320"/>
            <a:chExt cx="7772400" cy="606240"/>
          </a:xfrm>
        </p:grpSpPr>
        <p:sp>
          <p:nvSpPr>
            <p:cNvPr id="422" name=""/>
            <p:cNvSpPr/>
            <p:nvPr/>
          </p:nvSpPr>
          <p:spPr>
            <a:xfrm>
              <a:off x="2878200" y="4648320"/>
              <a:ext cx="550800" cy="606240"/>
            </a:xfrm>
            <a:prstGeom prst="rightArrow">
              <a:avLst>
                <a:gd name="adj1" fmla="val 49843"/>
                <a:gd name="adj2" fmla="val 43880"/>
              </a:avLst>
            </a:prstGeom>
            <a:gradFill rotWithShape="0">
              <a:gsLst>
                <a:gs pos="0">
                  <a:srgbClr val="acace9"/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2b2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675240" y="4655880"/>
              <a:ext cx="4859280" cy="590040"/>
            </a:xfrm>
            <a:prstGeom prst="rect">
              <a:avLst/>
            </a:prstGeom>
            <a:gradFill rotWithShape="0">
              <a:gsLst>
                <a:gs pos="0">
                  <a:srgbClr val="bfbfef"/>
                </a:gs>
                <a:gs pos="50000">
                  <a:srgbClr val="fefefe"/>
                </a:gs>
                <a:gs pos="100000">
                  <a:srgbClr val="bfbf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26240" y="4660560"/>
              <a:ext cx="374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De la planificación central rígida</a:t>
              </a:r>
              <a:br>
                <a:rPr sz="2000"/>
              </a:b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a las estrategias flexibles y adaptab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2120" y="4676400"/>
              <a:ext cx="1833480" cy="549000"/>
            </a:xfrm>
            <a:prstGeom prst="rect">
              <a:avLst/>
            </a:prstGeom>
            <a:gradFill rotWithShape="0">
              <a:gsLst>
                <a:gs pos="0">
                  <a:srgbClr val="a66300"/>
                </a:gs>
                <a:gs pos="50000">
                  <a:srgbClr val="ff9900"/>
                </a:gs>
                <a:gs pos="100000">
                  <a:srgbClr val="a66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083600" y="4798440"/>
              <a:ext cx="134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E</a:t>
              </a:r>
              <a:r>
                <a:rPr b="1" lang="es-ES" sz="2000" spc="-1" strike="noStrike">
                  <a:solidFill>
                    <a:srgbClr val="ffffff"/>
                  </a:solidFill>
                  <a:latin typeface="Arial Narrow"/>
                </a:rPr>
                <a:t>STRATEG</a:t>
              </a: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762120" y="5413320"/>
            <a:ext cx="7772400" cy="606600"/>
            <a:chOff x="762120" y="5413320"/>
            <a:chExt cx="7772400" cy="606600"/>
          </a:xfrm>
        </p:grpSpPr>
        <p:sp>
          <p:nvSpPr>
            <p:cNvPr id="428" name=""/>
            <p:cNvSpPr/>
            <p:nvPr/>
          </p:nvSpPr>
          <p:spPr>
            <a:xfrm>
              <a:off x="2878200" y="5413320"/>
              <a:ext cx="550800" cy="606600"/>
            </a:xfrm>
            <a:prstGeom prst="rightArrow">
              <a:avLst>
                <a:gd name="adj1" fmla="val 49843"/>
                <a:gd name="adj2" fmla="val 43880"/>
              </a:avLst>
            </a:prstGeom>
            <a:gradFill rotWithShape="0">
              <a:gsLst>
                <a:gs pos="0">
                  <a:srgbClr val="acace9"/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2b2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675240" y="5421600"/>
              <a:ext cx="4859280" cy="590400"/>
            </a:xfrm>
            <a:prstGeom prst="rect">
              <a:avLst/>
            </a:prstGeom>
            <a:gradFill rotWithShape="0">
              <a:gsLst>
                <a:gs pos="0">
                  <a:srgbClr val="bfbfef"/>
                </a:gs>
                <a:gs pos="50000">
                  <a:srgbClr val="fefefe"/>
                </a:gs>
                <a:gs pos="100000">
                  <a:srgbClr val="bfbf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025880" y="5426280"/>
              <a:ext cx="341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De la estandarización internac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a la segmentación múltiple glob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2120" y="5442120"/>
              <a:ext cx="1833480" cy="549360"/>
            </a:xfrm>
            <a:prstGeom prst="rect">
              <a:avLst/>
            </a:prstGeom>
            <a:gradFill rotWithShape="0">
              <a:gsLst>
                <a:gs pos="0">
                  <a:srgbClr val="a66300"/>
                </a:gs>
                <a:gs pos="50000">
                  <a:srgbClr val="ff9900"/>
                </a:gs>
                <a:gs pos="100000">
                  <a:srgbClr val="a66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335240" y="5578560"/>
              <a:ext cx="1095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 Narrow"/>
                </a:rPr>
                <a:t>M</a:t>
              </a: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ERCA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762120" y="2362320"/>
            <a:ext cx="7772400" cy="606240"/>
            <a:chOff x="762120" y="2362320"/>
            <a:chExt cx="7772400" cy="606240"/>
          </a:xfrm>
        </p:grpSpPr>
        <p:sp>
          <p:nvSpPr>
            <p:cNvPr id="434" name=""/>
            <p:cNvSpPr/>
            <p:nvPr/>
          </p:nvSpPr>
          <p:spPr>
            <a:xfrm>
              <a:off x="3675240" y="2370240"/>
              <a:ext cx="4859280" cy="590400"/>
            </a:xfrm>
            <a:prstGeom prst="rect">
              <a:avLst/>
            </a:prstGeom>
            <a:gradFill rotWithShape="0">
              <a:gsLst>
                <a:gs pos="0">
                  <a:srgbClr val="bfbfef"/>
                </a:gs>
                <a:gs pos="50000">
                  <a:srgbClr val="fefefe"/>
                </a:gs>
                <a:gs pos="100000">
                  <a:srgbClr val="bfbf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022640" y="2374920"/>
              <a:ext cx="4206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De rutinas “optimas” estandarizadas</a:t>
              </a:r>
              <a:br>
                <a:rPr sz="2000"/>
              </a:b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a la mejora continua: el cambio como ruti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62120" y="2390760"/>
              <a:ext cx="1833480" cy="549360"/>
            </a:xfrm>
            <a:prstGeom prst="rect">
              <a:avLst/>
            </a:prstGeom>
            <a:gradFill rotWithShape="0">
              <a:gsLst>
                <a:gs pos="0">
                  <a:srgbClr val="a66300"/>
                </a:gs>
                <a:gs pos="50000">
                  <a:srgbClr val="ff9900"/>
                </a:gs>
                <a:gs pos="100000">
                  <a:srgbClr val="a66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292760" y="2527200"/>
              <a:ext cx="1137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 Narrow"/>
                </a:rPr>
                <a:t>OPERA</a:t>
              </a: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C</a:t>
              </a:r>
              <a:r>
                <a:rPr b="1" lang="es-ES" sz="1800" spc="-1" strike="noStrike">
                  <a:solidFill>
                    <a:srgbClr val="ffffff"/>
                  </a:solidFill>
                  <a:latin typeface="Arial Narrow"/>
                </a:rPr>
                <a:t>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878200" y="2362320"/>
              <a:ext cx="550800" cy="606240"/>
            </a:xfrm>
            <a:prstGeom prst="rightArrow">
              <a:avLst>
                <a:gd name="adj1" fmla="val 49843"/>
                <a:gd name="adj2" fmla="val 43880"/>
              </a:avLst>
            </a:prstGeom>
            <a:gradFill rotWithShape="0">
              <a:gsLst>
                <a:gs pos="0">
                  <a:srgbClr val="acace9"/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2b2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762120" y="3889440"/>
            <a:ext cx="7772400" cy="606240"/>
            <a:chOff x="762120" y="3889440"/>
            <a:chExt cx="7772400" cy="606240"/>
          </a:xfrm>
        </p:grpSpPr>
        <p:sp>
          <p:nvSpPr>
            <p:cNvPr id="440" name=""/>
            <p:cNvSpPr/>
            <p:nvPr/>
          </p:nvSpPr>
          <p:spPr>
            <a:xfrm>
              <a:off x="2878200" y="3889440"/>
              <a:ext cx="550800" cy="606240"/>
            </a:xfrm>
            <a:prstGeom prst="rightArrow">
              <a:avLst>
                <a:gd name="adj1" fmla="val 49843"/>
                <a:gd name="adj2" fmla="val 43880"/>
              </a:avLst>
            </a:prstGeom>
            <a:gradFill rotWithShape="0">
              <a:gsLst>
                <a:gs pos="0">
                  <a:srgbClr val="acace9"/>
                </a:gs>
                <a:gs pos="100000">
                  <a:srgbClr val="3333cc"/>
                </a:gs>
              </a:gsLst>
              <a:lin ang="5400000"/>
            </a:gradFill>
            <a:ln w="9360">
              <a:solidFill>
                <a:srgbClr val="2b2ba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675240" y="3897360"/>
              <a:ext cx="4859280" cy="590040"/>
            </a:xfrm>
            <a:prstGeom prst="rect">
              <a:avLst/>
            </a:prstGeom>
            <a:gradFill rotWithShape="0">
              <a:gsLst>
                <a:gs pos="0">
                  <a:srgbClr val="bfbfef"/>
                </a:gs>
                <a:gs pos="50000">
                  <a:srgbClr val="fefefe"/>
                </a:gs>
                <a:gs pos="100000">
                  <a:srgbClr val="bfbfe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027680" y="3902040"/>
              <a:ext cx="400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Del trato a distanc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 Narrow"/>
                </a:rPr>
                <a:t>a la cooperación innovativa y las alianz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62120" y="3917880"/>
              <a:ext cx="1833480" cy="549000"/>
            </a:xfrm>
            <a:prstGeom prst="rect">
              <a:avLst/>
            </a:prstGeom>
            <a:gradFill rotWithShape="0">
              <a:gsLst>
                <a:gs pos="0">
                  <a:srgbClr val="a66300"/>
                </a:gs>
                <a:gs pos="50000">
                  <a:srgbClr val="ff9900"/>
                </a:gs>
                <a:gs pos="100000">
                  <a:srgbClr val="a66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lvl="1" marL="347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233280" indent="-233280">
                <a:lnSpc>
                  <a:spcPct val="100000"/>
                </a:lnSpc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979200" y="4054320"/>
              <a:ext cx="1450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PROVEED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5c3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"/>
          <p:cNvGrpSpPr/>
          <p:nvPr/>
        </p:nvGrpSpPr>
        <p:grpSpPr>
          <a:xfrm>
            <a:off x="-16920" y="4572000"/>
            <a:ext cx="9149400" cy="2059560"/>
            <a:chOff x="-16920" y="4572000"/>
            <a:chExt cx="9149400" cy="2059560"/>
          </a:xfrm>
        </p:grpSpPr>
        <p:sp>
          <p:nvSpPr>
            <p:cNvPr id="446" name=""/>
            <p:cNvSpPr/>
            <p:nvPr/>
          </p:nvSpPr>
          <p:spPr>
            <a:xfrm>
              <a:off x="-16920" y="5562720"/>
              <a:ext cx="91494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ffffff"/>
                  </a:solidFill>
                  <a:latin typeface="Arial Narrow"/>
                </a:rPr>
                <a:t>NECESITAMOS COMPRENDER </a:t>
              </a:r>
              <a:br>
                <a:rPr sz="3200"/>
              </a:br>
              <a:r>
                <a:rPr b="1" lang="es-ES_tradnl" sz="3200" spc="-1" strike="noStrike">
                  <a:solidFill>
                    <a:srgbClr val="ffffff"/>
                  </a:solidFill>
                  <a:latin typeface="Arial Narrow"/>
                </a:rPr>
                <a:t>EL CAMBIO DE PARADIGMA EN EL MODO DE INNOVA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328920" y="4572000"/>
              <a:ext cx="2457360" cy="781200"/>
            </a:xfrm>
            <a:prstGeom prst="downArrow">
              <a:avLst>
                <a:gd name="adj1" fmla="val 63954"/>
                <a:gd name="adj2" fmla="val 55769"/>
              </a:avLst>
            </a:prstGeom>
            <a:gradFill rotWithShape="0">
              <a:gsLst>
                <a:gs pos="0">
                  <a:srgbClr val="ffad35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671400" y="1676520"/>
            <a:ext cx="7772400" cy="2592360"/>
            <a:chOff x="671400" y="1676520"/>
            <a:chExt cx="7772400" cy="2592360"/>
          </a:xfrm>
        </p:grpSpPr>
        <p:sp>
          <p:nvSpPr>
            <p:cNvPr id="449" name=""/>
            <p:cNvSpPr/>
            <p:nvPr/>
          </p:nvSpPr>
          <p:spPr>
            <a:xfrm>
              <a:off x="671400" y="1676520"/>
              <a:ext cx="7772400" cy="2592360"/>
            </a:xfrm>
            <a:prstGeom prst="ellipse">
              <a:avLst/>
            </a:prstGeom>
            <a:gradFill rotWithShape="0">
              <a:gsLst>
                <a:gs pos="0">
                  <a:srgbClr val="fec775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247480" y="1892520"/>
              <a:ext cx="4629240" cy="21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Arial Narrow"/>
                </a:rPr>
                <a:t>Ahora tenemos que partir de allí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000000"/>
                  </a:solidFill>
                  <a:latin typeface="Arial Narrow"/>
                </a:rPr>
                <a:t>e insertarnos ventajosamente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000000"/>
                  </a:solidFill>
                  <a:latin typeface="Arial Narrow"/>
                </a:rPr>
                <a:t>en la bonanza por veni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 flipV="1">
            <a:off x="-14040" y="0"/>
            <a:ext cx="9144000" cy="22478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246120" y="422280"/>
            <a:ext cx="263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YA ESO </a:t>
            </a:r>
            <a:br>
              <a:rPr sz="2800"/>
            </a:b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LO APRENDI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d35"/>
            </a:gs>
            <a:gs pos="100000">
              <a:srgbClr val="7b531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"/>
          <p:cNvGrpSpPr/>
          <p:nvPr/>
        </p:nvGrpSpPr>
        <p:grpSpPr>
          <a:xfrm>
            <a:off x="380880" y="3032280"/>
            <a:ext cx="8419320" cy="1008720"/>
            <a:chOff x="380880" y="3032280"/>
            <a:chExt cx="8419320" cy="1008720"/>
          </a:xfrm>
        </p:grpSpPr>
        <p:sp>
          <p:nvSpPr>
            <p:cNvPr id="454" name=""/>
            <p:cNvSpPr/>
            <p:nvPr/>
          </p:nvSpPr>
          <p:spPr>
            <a:xfrm>
              <a:off x="380880" y="3046320"/>
              <a:ext cx="4038840" cy="703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DEPARTAMENTO DE INVESTIGACIÓN Y DESARROLLO EN CADA EMPRE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990680" y="3032280"/>
              <a:ext cx="3809520" cy="1008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GESTION TECNOLOGICA: 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INGENIERÍA SIMULTÁNEA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DENTRO Y FUERA DE LA EMPRE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479520" y="596880"/>
            <a:ext cx="8318520" cy="2222640"/>
            <a:chOff x="479520" y="596880"/>
            <a:chExt cx="8318520" cy="2222640"/>
          </a:xfrm>
        </p:grpSpPr>
        <p:grpSp>
          <p:nvGrpSpPr>
            <p:cNvPr id="457" name=""/>
            <p:cNvGrpSpPr/>
            <p:nvPr/>
          </p:nvGrpSpPr>
          <p:grpSpPr>
            <a:xfrm>
              <a:off x="479520" y="596880"/>
              <a:ext cx="3886200" cy="2209680"/>
              <a:chOff x="479520" y="596880"/>
              <a:chExt cx="3886200" cy="2209680"/>
            </a:xfrm>
          </p:grpSpPr>
          <p:sp>
            <p:nvSpPr>
              <p:cNvPr id="458" name=""/>
              <p:cNvSpPr/>
              <p:nvPr/>
            </p:nvSpPr>
            <p:spPr>
              <a:xfrm>
                <a:off x="479520" y="596880"/>
                <a:ext cx="3886200" cy="2209680"/>
              </a:xfrm>
              <a:prstGeom prst="downArrow">
                <a:avLst>
                  <a:gd name="adj1" fmla="val 66991"/>
                  <a:gd name="adj2" fmla="val 25921"/>
                </a:avLst>
              </a:prstGeom>
              <a:gradFill rotWithShape="0">
                <a:gsLst>
                  <a:gs pos="0">
                    <a:srgbClr val="ffad35"/>
                  </a:gs>
                  <a:gs pos="100000">
                    <a:srgbClr val="6b481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137960" y="1512720"/>
                <a:ext cx="25689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200" spc="-1" strike="noStrike">
                    <a:solidFill>
                      <a:srgbClr val="ffffff"/>
                    </a:solidFill>
                    <a:latin typeface="Arial Narrow"/>
                  </a:rPr>
                  <a:t>LA SOCIEDAD</a:t>
                </a:r>
                <a:br>
                  <a:rPr sz="2200"/>
                </a:br>
                <a:r>
                  <a:rPr b="1" lang="es-ES_tradnl" sz="2200" spc="-1" strike="noStrike">
                    <a:solidFill>
                      <a:srgbClr val="ffffff"/>
                    </a:solidFill>
                    <a:latin typeface="Arial Narrow"/>
                  </a:rPr>
                  <a:t>CIENTIFICO-TECNICA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073880" y="673200"/>
                <a:ext cx="2734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Viejo paradigma</a:t>
                </a:r>
                <a:br>
                  <a:rPr sz="1800"/>
                </a:b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de producción en mas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4911840" y="606600"/>
              <a:ext cx="3886200" cy="2212920"/>
              <a:chOff x="4911840" y="606600"/>
              <a:chExt cx="3886200" cy="2212920"/>
            </a:xfrm>
          </p:grpSpPr>
          <p:sp>
            <p:nvSpPr>
              <p:cNvPr id="462" name=""/>
              <p:cNvSpPr/>
              <p:nvPr/>
            </p:nvSpPr>
            <p:spPr>
              <a:xfrm>
                <a:off x="4911840" y="606600"/>
                <a:ext cx="3886200" cy="2212920"/>
              </a:xfrm>
              <a:prstGeom prst="downArrow">
                <a:avLst>
                  <a:gd name="adj1" fmla="val 66991"/>
                  <a:gd name="adj2" fmla="val 25921"/>
                </a:avLst>
              </a:prstGeom>
              <a:gradFill rotWithShape="0">
                <a:gsLst>
                  <a:gs pos="0">
                    <a:srgbClr val="ffad35"/>
                  </a:gs>
                  <a:gs pos="100000">
                    <a:srgbClr val="6b481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601600" y="1508040"/>
                <a:ext cx="25063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200" spc="-1" strike="noStrike">
                    <a:solidFill>
                      <a:srgbClr val="ffffff"/>
                    </a:solidFill>
                    <a:latin typeface="Arial Narrow"/>
                  </a:rPr>
                  <a:t>LA SOCIEDAD</a:t>
                </a:r>
                <a:br>
                  <a:rPr sz="2200"/>
                </a:br>
                <a:r>
                  <a:rPr b="1" lang="es-ES_tradnl" sz="2200" spc="-1" strike="noStrike">
                    <a:solidFill>
                      <a:srgbClr val="ffffff"/>
                    </a:solidFill>
                    <a:latin typeface="Arial Narrow"/>
                  </a:rPr>
                  <a:t>DEL CONOCIMIENTO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575320" y="673200"/>
                <a:ext cx="2610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Nuevo paradigma</a:t>
                </a:r>
                <a:br>
                  <a:rPr sz="1800"/>
                </a:b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de producción flexib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5" name=""/>
          <p:cNvGrpSpPr/>
          <p:nvPr/>
        </p:nvGrpSpPr>
        <p:grpSpPr>
          <a:xfrm>
            <a:off x="459720" y="4051440"/>
            <a:ext cx="8285040" cy="916920"/>
            <a:chOff x="459720" y="4051440"/>
            <a:chExt cx="8285040" cy="916920"/>
          </a:xfrm>
        </p:grpSpPr>
        <p:sp>
          <p:nvSpPr>
            <p:cNvPr id="466" name=""/>
            <p:cNvSpPr/>
            <p:nvPr/>
          </p:nvSpPr>
          <p:spPr>
            <a:xfrm>
              <a:off x="459720" y="4205160"/>
              <a:ext cx="3926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Actividad especializada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y separada de la línea de mando operati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09320" y="4051440"/>
              <a:ext cx="3835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Actividad incorporada a la práctica diaria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de toda la organización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y de la red de socios y aliad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380880" y="5119560"/>
            <a:ext cx="8534520" cy="1618560"/>
            <a:chOff x="380880" y="5119560"/>
            <a:chExt cx="8534520" cy="1618560"/>
          </a:xfrm>
        </p:grpSpPr>
        <p:sp>
          <p:nvSpPr>
            <p:cNvPr id="469" name=""/>
            <p:cNvSpPr/>
            <p:nvPr/>
          </p:nvSpPr>
          <p:spPr>
            <a:xfrm>
              <a:off x="380880" y="5272200"/>
              <a:ext cx="4038840" cy="1008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LA INNOVACIÓN 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POR GRANDES BLOQUES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Productos y procesos complet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876920" y="5119560"/>
              <a:ext cx="4038480" cy="1618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LA INNOVACIÓN CONSTANTE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INCREMENTAL Y RADICAL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Mejora continua 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y exploraciones múltiples 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ffffff"/>
                  </a:solidFill>
                  <a:latin typeface="Arial Narrow"/>
                </a:rPr>
                <a:t>en diversos puntos del negoci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385200" y="76320"/>
            <a:ext cx="84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OS MODOS DE CONCEBIR LA ACTIVIDAD INNOV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533520" y="3368520"/>
            <a:ext cx="8381880" cy="31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25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Alta productividad de la ingeniería de desarrol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25000"/>
              </a:lnSpc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Bajo costo de la innovación frecu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Lo intangible se convierte en fuente principal de nuevo va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La intercomunicación total permite la coordinación y </a:t>
            </a: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 el monitoreo efectivo y no-invas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El acceso inmediato a la información facilita la realización </a:t>
            </a: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Arial Narrow"/>
              </a:rPr>
              <a:t> de estrategias de innovación complejas y flex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rot="5400000">
            <a:off x="4235040" y="1266480"/>
            <a:ext cx="669960" cy="3197160"/>
          </a:xfrm>
          <a:prstGeom prst="rightArrow">
            <a:avLst>
              <a:gd name="adj1" fmla="val 63361"/>
              <a:gd name="adj2" fmla="val 46921"/>
            </a:avLst>
          </a:prstGeom>
          <a:gradFill rotWithShape="0">
            <a:gsLst>
              <a:gs pos="0">
                <a:srgbClr val="ff9900"/>
              </a:gs>
              <a:gs pos="50000">
                <a:srgbClr val="feeed7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65560" y="152280"/>
            <a:ext cx="791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¿Por qué se produce una transformación tan profund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3640" y="990720"/>
            <a:ext cx="847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d495"/>
                </a:solidFill>
                <a:latin typeface="Arial Narrow"/>
              </a:rPr>
              <a:t>PORQUE LA INFORMÁTICA CAMBIA RADICALMENTE </a:t>
            </a:r>
            <a:br>
              <a:rPr sz="2800"/>
            </a:br>
            <a:r>
              <a:rPr b="1" lang="es-ES_tradnl" sz="2800" spc="-1" strike="noStrike">
                <a:solidFill>
                  <a:srgbClr val="ffd495"/>
                </a:solidFill>
                <a:latin typeface="Arial Narrow"/>
              </a:rPr>
              <a:t>LAS CONDICIONES ECONÓMICAS</a:t>
            </a:r>
            <a:br>
              <a:rPr sz="2800"/>
            </a:br>
            <a:r>
              <a:rPr b="1" lang="es-ES_tradnl" sz="2800" spc="-1" strike="noStrike">
                <a:solidFill>
                  <a:srgbClr val="ffd495"/>
                </a:solidFill>
                <a:latin typeface="Arial Narrow"/>
              </a:rPr>
              <a:t>Y LAS POSIBILIDADES DE COORDINACIÓN DE PROCE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95e3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"/>
          <p:cNvGrpSpPr/>
          <p:nvPr/>
        </p:nvGrpSpPr>
        <p:grpSpPr>
          <a:xfrm>
            <a:off x="204840" y="0"/>
            <a:ext cx="8734320" cy="6521040"/>
            <a:chOff x="204840" y="0"/>
            <a:chExt cx="8734320" cy="6521040"/>
          </a:xfrm>
        </p:grpSpPr>
        <p:sp>
          <p:nvSpPr>
            <p:cNvPr id="477" name=""/>
            <p:cNvSpPr/>
            <p:nvPr/>
          </p:nvSpPr>
          <p:spPr>
            <a:xfrm flipV="1">
              <a:off x="360360" y="3897720"/>
              <a:ext cx="8423280" cy="2622600"/>
            </a:xfrm>
            <a:prstGeom prst="downArrow">
              <a:avLst>
                <a:gd name="adj1" fmla="val 83537"/>
                <a:gd name="adj2" fmla="val 48685"/>
              </a:avLst>
            </a:prstGeom>
            <a:gradFill rotWithShape="0">
              <a:gsLst>
                <a:gs pos="0">
                  <a:srgbClr val="333333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60360" y="0"/>
              <a:ext cx="8423280" cy="3429000"/>
            </a:xfrm>
            <a:prstGeom prst="downArrow">
              <a:avLst>
                <a:gd name="adj1" fmla="val 81194"/>
                <a:gd name="adj2" fmla="val 42472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04840" y="3416400"/>
              <a:ext cx="873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 Narrow"/>
                </a:rPr>
                <a:t>EL NUEVO PARADIGMA FACILITA LAS INNOVACIONES ESPECÍFIC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953800" y="128520"/>
              <a:ext cx="323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ad35"/>
                  </a:solidFill>
                  <a:latin typeface="Arial Narrow"/>
                </a:rPr>
                <a:t>En términos tecnológic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118240" y="4809960"/>
              <a:ext cx="488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ad35"/>
                  </a:solidFill>
                  <a:latin typeface="Arial Narrow"/>
                </a:rPr>
                <a:t>En términos de estructura de mercad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1544040" y="669960"/>
            <a:ext cx="6054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Acceso rápido a la frontera mundial del conoc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Comunicación con el mundo acadé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Diseño ayudado por computad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Simulación y pruebas por computad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Instrumentos de altísima prec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293840" y="5364000"/>
            <a:ext cx="65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Conexión directa con los clientes y sus neces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Proliferación de nichos de especialidad de bajo volu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 Narrow"/>
              </a:rPr>
              <a:t>Organizaciones modulares facilitadoras de pruebas pil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3d31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5684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8195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6844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440" y="152280"/>
            <a:ext cx="90648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S LOGICAS DISTINT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 LA RELACION OFERTA-DEMA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471600" y="3402000"/>
            <a:ext cx="3490920" cy="2751120"/>
            <a:chOff x="471600" y="3402000"/>
            <a:chExt cx="3490920" cy="2751120"/>
          </a:xfrm>
        </p:grpSpPr>
        <p:sp>
          <p:nvSpPr>
            <p:cNvPr id="489" name=""/>
            <p:cNvSpPr/>
            <p:nvPr/>
          </p:nvSpPr>
          <p:spPr>
            <a:xfrm>
              <a:off x="471600" y="3402000"/>
              <a:ext cx="3490920" cy="275112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47640" y="3554280"/>
              <a:ext cx="3197520" cy="19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Arial"/>
                </a:rPr>
                <a:t>LA OFERT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4480" indent="-287280">
                <a:lnSpc>
                  <a:spcPct val="11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enrumb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4480" indent="-287280">
                <a:lnSpc>
                  <a:spcPct val="11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molde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4480" indent="-287280">
                <a:lnSpc>
                  <a:spcPct val="11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estructur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4480" indent="-287280">
                <a:lnSpc>
                  <a:spcPct val="11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homogeneiz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63600" y="5524560"/>
              <a:ext cx="1972080" cy="4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LA DEMAND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471600" y="1868400"/>
            <a:ext cx="8123040" cy="1417680"/>
            <a:chOff x="471600" y="1868400"/>
            <a:chExt cx="8123040" cy="1417680"/>
          </a:xfrm>
        </p:grpSpPr>
        <p:grpSp>
          <p:nvGrpSpPr>
            <p:cNvPr id="493" name=""/>
            <p:cNvGrpSpPr/>
            <p:nvPr/>
          </p:nvGrpSpPr>
          <p:grpSpPr>
            <a:xfrm>
              <a:off x="471600" y="1868400"/>
              <a:ext cx="8123040" cy="1417680"/>
              <a:chOff x="471600" y="1868400"/>
              <a:chExt cx="8123040" cy="1417680"/>
            </a:xfrm>
          </p:grpSpPr>
          <p:sp>
            <p:nvSpPr>
              <p:cNvPr id="494" name=""/>
              <p:cNvSpPr/>
              <p:nvPr/>
            </p:nvSpPr>
            <p:spPr>
              <a:xfrm>
                <a:off x="5103720" y="1905120"/>
                <a:ext cx="3490920" cy="13809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097160" y="1873080"/>
                <a:ext cx="378000" cy="130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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71600" y="1868400"/>
                <a:ext cx="3490920" cy="13813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7" name=""/>
            <p:cNvSpPr/>
            <p:nvPr/>
          </p:nvSpPr>
          <p:spPr>
            <a:xfrm>
              <a:off x="652320" y="2106720"/>
              <a:ext cx="3197520" cy="92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ció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n mas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337000" y="2106720"/>
              <a:ext cx="3197520" cy="92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ció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lex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5103720" y="3438360"/>
            <a:ext cx="3735360" cy="2751480"/>
            <a:chOff x="5103720" y="3438360"/>
            <a:chExt cx="3735360" cy="2751480"/>
          </a:xfrm>
        </p:grpSpPr>
        <p:sp>
          <p:nvSpPr>
            <p:cNvPr id="500" name=""/>
            <p:cNvSpPr/>
            <p:nvPr/>
          </p:nvSpPr>
          <p:spPr>
            <a:xfrm>
              <a:off x="5103720" y="3438360"/>
              <a:ext cx="3490920" cy="2751480"/>
            </a:xfrm>
            <a:prstGeom prst="rect">
              <a:avLst/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641920" y="3554280"/>
              <a:ext cx="3197160" cy="19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ffff"/>
                  </a:solidFill>
                  <a:latin typeface="Arial"/>
                </a:rPr>
                <a:t>LA DEMAND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4480" indent="-287280">
                <a:lnSpc>
                  <a:spcPct val="11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orient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4480" indent="-287280">
                <a:lnSpc>
                  <a:spcPct val="11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molde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4480" indent="-287280">
                <a:lnSpc>
                  <a:spcPct val="11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segment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4480" indent="-287280">
                <a:lnSpc>
                  <a:spcPct val="11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diversifica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6212160" y="5524560"/>
            <a:ext cx="170712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OFER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ad35"/>
            </a:gs>
            <a:gs pos="50000">
              <a:srgbClr val="b07824"/>
            </a:gs>
            <a:gs pos="100000">
              <a:srgbClr val="fead3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57200" y="-7632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Las bases para el crecimiento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de empresas o país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09680" y="1436400"/>
            <a:ext cx="8047080" cy="4397760"/>
            <a:chOff x="409680" y="1436400"/>
            <a:chExt cx="8047080" cy="4397760"/>
          </a:xfrm>
        </p:grpSpPr>
        <p:sp>
          <p:nvSpPr>
            <p:cNvPr id="135" name=""/>
            <p:cNvSpPr/>
            <p:nvPr/>
          </p:nvSpPr>
          <p:spPr>
            <a:xfrm>
              <a:off x="5043600" y="2974680"/>
              <a:ext cx="1839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38360" y="2244600"/>
              <a:ext cx="3247920" cy="30700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35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9680" y="2391840"/>
              <a:ext cx="3905280" cy="222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800" spc="-1" strike="noStrike">
                  <a:solidFill>
                    <a:srgbClr val="ffffff"/>
                  </a:solidFill>
                  <a:latin typeface="Arial Narrow"/>
                </a:rPr>
                <a:t>Una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ffffff"/>
                  </a:solidFill>
                  <a:latin typeface="Arial Narrow"/>
                </a:rPr>
                <a:t>oportunidad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ffffff"/>
                  </a:solidFill>
                  <a:latin typeface="Arial Narrow"/>
                </a:rPr>
                <a:t>tecnológica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ffffff"/>
                  </a:solidFill>
                  <a:latin typeface="Arial Narrow"/>
                </a:rPr>
                <a:t>y de mercad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08480" y="2306520"/>
              <a:ext cx="3248280" cy="307008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35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43560" y="2714400"/>
              <a:ext cx="2776680" cy="225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800" spc="-1" strike="noStrike">
                  <a:solidFill>
                    <a:srgbClr val="ffffff"/>
                  </a:solidFill>
                  <a:latin typeface="Arial Narrow"/>
                </a:rPr>
                <a:t>Una 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ffffff"/>
                  </a:solidFill>
                  <a:latin typeface="Arial Narrow"/>
                </a:rPr>
                <a:t>organización 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ffffff"/>
                  </a:solidFill>
                  <a:latin typeface="Arial Narrow"/>
                </a:rPr>
                <a:t>adecuada 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ffffff"/>
                  </a:solidFill>
                  <a:latin typeface="Arial Narrow"/>
                </a:rPr>
                <a:t>para 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ffffff"/>
                  </a:solidFill>
                  <a:latin typeface="Arial Narrow"/>
                </a:rPr>
                <a:t>aprovecharl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2694240" y="1436400"/>
              <a:ext cx="3672360" cy="1593000"/>
              <a:chOff x="2694240" y="1436400"/>
              <a:chExt cx="3672360" cy="1593000"/>
            </a:xfrm>
          </p:grpSpPr>
          <p:sp>
            <p:nvSpPr>
              <p:cNvPr id="141" name=""/>
              <p:cNvSpPr/>
              <p:nvPr/>
            </p:nvSpPr>
            <p:spPr>
              <a:xfrm flipH="1" flipV="1" rot="10968600">
                <a:off x="2712600" y="2081160"/>
                <a:ext cx="2406600" cy="375840"/>
              </a:xfrm>
              <a:custGeom>
                <a:avLst/>
                <a:gdLst/>
                <a:ahLst/>
                <a:rect l="l" t="t" r="r" b="b"/>
                <a:pathLst>
                  <a:path w="729" h="136">
                    <a:moveTo>
                      <a:pt x="0" y="107"/>
                    </a:moveTo>
                    <a:lnTo>
                      <a:pt x="16" y="130"/>
                    </a:lnTo>
                    <a:lnTo>
                      <a:pt x="59" y="112"/>
                    </a:lnTo>
                    <a:lnTo>
                      <a:pt x="98" y="99"/>
                    </a:lnTo>
                    <a:lnTo>
                      <a:pt x="135" y="89"/>
                    </a:lnTo>
                    <a:lnTo>
                      <a:pt x="173" y="77"/>
                    </a:lnTo>
                    <a:lnTo>
                      <a:pt x="207" y="70"/>
                    </a:lnTo>
                    <a:lnTo>
                      <a:pt x="237" y="65"/>
                    </a:lnTo>
                    <a:lnTo>
                      <a:pt x="264" y="60"/>
                    </a:lnTo>
                    <a:lnTo>
                      <a:pt x="295" y="55"/>
                    </a:lnTo>
                    <a:lnTo>
                      <a:pt x="324" y="54"/>
                    </a:lnTo>
                    <a:lnTo>
                      <a:pt x="360" y="56"/>
                    </a:lnTo>
                    <a:lnTo>
                      <a:pt x="388" y="57"/>
                    </a:lnTo>
                    <a:lnTo>
                      <a:pt x="418" y="59"/>
                    </a:lnTo>
                    <a:lnTo>
                      <a:pt x="447" y="64"/>
                    </a:lnTo>
                    <a:lnTo>
                      <a:pt x="483" y="67"/>
                    </a:lnTo>
                    <a:lnTo>
                      <a:pt x="522" y="75"/>
                    </a:lnTo>
                    <a:lnTo>
                      <a:pt x="546" y="82"/>
                    </a:lnTo>
                    <a:lnTo>
                      <a:pt x="572" y="90"/>
                    </a:lnTo>
                    <a:lnTo>
                      <a:pt x="598" y="96"/>
                    </a:lnTo>
                    <a:lnTo>
                      <a:pt x="623" y="105"/>
                    </a:lnTo>
                    <a:lnTo>
                      <a:pt x="656" y="121"/>
                    </a:lnTo>
                    <a:lnTo>
                      <a:pt x="679" y="135"/>
                    </a:lnTo>
                    <a:lnTo>
                      <a:pt x="728" y="93"/>
                    </a:lnTo>
                    <a:lnTo>
                      <a:pt x="688" y="68"/>
                    </a:lnTo>
                    <a:lnTo>
                      <a:pt x="637" y="48"/>
                    </a:lnTo>
                    <a:lnTo>
                      <a:pt x="589" y="35"/>
                    </a:lnTo>
                    <a:lnTo>
                      <a:pt x="529" y="23"/>
                    </a:lnTo>
                    <a:lnTo>
                      <a:pt x="449" y="5"/>
                    </a:lnTo>
                    <a:lnTo>
                      <a:pt x="369" y="0"/>
                    </a:lnTo>
                    <a:lnTo>
                      <a:pt x="289" y="2"/>
                    </a:lnTo>
                    <a:lnTo>
                      <a:pt x="225" y="14"/>
                    </a:lnTo>
                    <a:lnTo>
                      <a:pt x="148" y="34"/>
                    </a:lnTo>
                    <a:lnTo>
                      <a:pt x="91" y="59"/>
                    </a:lnTo>
                    <a:lnTo>
                      <a:pt x="0" y="107"/>
                    </a:lnTo>
                  </a:path>
                </a:pathLst>
              </a:custGeom>
              <a:gradFill rotWithShape="0">
                <a:gsLst>
                  <a:gs pos="0">
                    <a:srgbClr val="453700"/>
                  </a:gs>
                  <a:gs pos="100000">
                    <a:srgbClr val="ffcc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 flipV="1" rot="10968600">
                <a:off x="5721120" y="1597320"/>
                <a:ext cx="617760" cy="1146960"/>
              </a:xfrm>
              <a:custGeom>
                <a:avLst/>
                <a:gdLst/>
                <a:ahLst/>
                <a:rect l="l" t="t" r="r" b="b"/>
                <a:pathLst>
                  <a:path w="187" h="414">
                    <a:moveTo>
                      <a:pt x="8" y="359"/>
                    </a:moveTo>
                    <a:lnTo>
                      <a:pt x="44" y="413"/>
                    </a:lnTo>
                    <a:lnTo>
                      <a:pt x="45" y="391"/>
                    </a:lnTo>
                    <a:lnTo>
                      <a:pt x="50" y="371"/>
                    </a:lnTo>
                    <a:lnTo>
                      <a:pt x="56" y="344"/>
                    </a:lnTo>
                    <a:lnTo>
                      <a:pt x="64" y="315"/>
                    </a:lnTo>
                    <a:lnTo>
                      <a:pt x="71" y="284"/>
                    </a:lnTo>
                    <a:lnTo>
                      <a:pt x="79" y="254"/>
                    </a:lnTo>
                    <a:lnTo>
                      <a:pt x="88" y="228"/>
                    </a:lnTo>
                    <a:lnTo>
                      <a:pt x="96" y="204"/>
                    </a:lnTo>
                    <a:lnTo>
                      <a:pt x="106" y="181"/>
                    </a:lnTo>
                    <a:lnTo>
                      <a:pt x="117" y="156"/>
                    </a:lnTo>
                    <a:lnTo>
                      <a:pt x="130" y="130"/>
                    </a:lnTo>
                    <a:lnTo>
                      <a:pt x="144" y="106"/>
                    </a:lnTo>
                    <a:lnTo>
                      <a:pt x="159" y="85"/>
                    </a:lnTo>
                    <a:lnTo>
                      <a:pt x="174" y="61"/>
                    </a:lnTo>
                    <a:lnTo>
                      <a:pt x="186" y="42"/>
                    </a:lnTo>
                    <a:lnTo>
                      <a:pt x="159" y="0"/>
                    </a:lnTo>
                    <a:lnTo>
                      <a:pt x="136" y="29"/>
                    </a:lnTo>
                    <a:lnTo>
                      <a:pt x="103" y="75"/>
                    </a:lnTo>
                    <a:lnTo>
                      <a:pt x="64" y="134"/>
                    </a:lnTo>
                    <a:lnTo>
                      <a:pt x="40" y="186"/>
                    </a:lnTo>
                    <a:lnTo>
                      <a:pt x="25" y="246"/>
                    </a:lnTo>
                    <a:lnTo>
                      <a:pt x="10" y="299"/>
                    </a:lnTo>
                    <a:lnTo>
                      <a:pt x="0" y="345"/>
                    </a:lnTo>
                    <a:lnTo>
                      <a:pt x="43" y="412"/>
                    </a:lnTo>
                    <a:lnTo>
                      <a:pt x="43" y="411"/>
                    </a:lnTo>
                    <a:lnTo>
                      <a:pt x="8" y="359"/>
                    </a:lnTo>
                  </a:path>
                </a:pathLst>
              </a:custGeom>
              <a:gradFill rotWithShape="0">
                <a:gsLst>
                  <a:gs pos="0">
                    <a:srgbClr val="453700"/>
                  </a:gs>
                  <a:gs pos="100000">
                    <a:srgbClr val="ffcc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 flipV="1" rot="10968600">
                <a:off x="4455720" y="2537640"/>
                <a:ext cx="1379880" cy="457560"/>
              </a:xfrm>
              <a:custGeom>
                <a:avLst/>
                <a:gdLst/>
                <a:ahLst/>
                <a:rect l="l" t="t" r="r" b="b"/>
                <a:pathLst>
                  <a:path w="418" h="165">
                    <a:moveTo>
                      <a:pt x="0" y="119"/>
                    </a:moveTo>
                    <a:lnTo>
                      <a:pt x="30" y="164"/>
                    </a:lnTo>
                    <a:lnTo>
                      <a:pt x="53" y="154"/>
                    </a:lnTo>
                    <a:lnTo>
                      <a:pt x="75" y="145"/>
                    </a:lnTo>
                    <a:lnTo>
                      <a:pt x="100" y="137"/>
                    </a:lnTo>
                    <a:lnTo>
                      <a:pt x="123" y="127"/>
                    </a:lnTo>
                    <a:lnTo>
                      <a:pt x="151" y="118"/>
                    </a:lnTo>
                    <a:lnTo>
                      <a:pt x="182" y="107"/>
                    </a:lnTo>
                    <a:lnTo>
                      <a:pt x="221" y="96"/>
                    </a:lnTo>
                    <a:lnTo>
                      <a:pt x="259" y="85"/>
                    </a:lnTo>
                    <a:lnTo>
                      <a:pt x="284" y="78"/>
                    </a:lnTo>
                    <a:lnTo>
                      <a:pt x="315" y="71"/>
                    </a:lnTo>
                    <a:lnTo>
                      <a:pt x="347" y="65"/>
                    </a:lnTo>
                    <a:lnTo>
                      <a:pt x="378" y="60"/>
                    </a:lnTo>
                    <a:lnTo>
                      <a:pt x="403" y="58"/>
                    </a:lnTo>
                    <a:lnTo>
                      <a:pt x="417" y="57"/>
                    </a:lnTo>
                    <a:lnTo>
                      <a:pt x="380" y="1"/>
                    </a:lnTo>
                    <a:lnTo>
                      <a:pt x="351" y="0"/>
                    </a:lnTo>
                    <a:lnTo>
                      <a:pt x="297" y="7"/>
                    </a:lnTo>
                    <a:lnTo>
                      <a:pt x="238" y="18"/>
                    </a:lnTo>
                    <a:lnTo>
                      <a:pt x="188" y="34"/>
                    </a:lnTo>
                    <a:lnTo>
                      <a:pt x="132" y="52"/>
                    </a:lnTo>
                    <a:lnTo>
                      <a:pt x="77" y="74"/>
                    </a:lnTo>
                    <a:lnTo>
                      <a:pt x="41" y="92"/>
                    </a:lnTo>
                    <a:lnTo>
                      <a:pt x="0" y="119"/>
                    </a:lnTo>
                  </a:path>
                </a:pathLst>
              </a:custGeom>
              <a:gradFill rotWithShape="0">
                <a:gsLst>
                  <a:gs pos="0">
                    <a:srgbClr val="453700"/>
                  </a:gs>
                  <a:gs pos="100000">
                    <a:srgbClr val="ffcc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 flipV="1" rot="10968600">
                <a:off x="2723760" y="1521720"/>
                <a:ext cx="3522960" cy="1312920"/>
              </a:xfrm>
              <a:custGeom>
                <a:avLst/>
                <a:gdLst/>
                <a:ahLst/>
                <a:rect l="l" t="t" r="r" b="b"/>
                <a:pathLst>
                  <a:path w="1067" h="474">
                    <a:moveTo>
                      <a:pt x="0" y="321"/>
                    </a:moveTo>
                    <a:lnTo>
                      <a:pt x="45" y="285"/>
                    </a:lnTo>
                    <a:lnTo>
                      <a:pt x="71" y="270"/>
                    </a:lnTo>
                    <a:lnTo>
                      <a:pt x="100" y="251"/>
                    </a:lnTo>
                    <a:lnTo>
                      <a:pt x="128" y="235"/>
                    </a:lnTo>
                    <a:lnTo>
                      <a:pt x="158" y="219"/>
                    </a:lnTo>
                    <a:lnTo>
                      <a:pt x="186" y="205"/>
                    </a:lnTo>
                    <a:lnTo>
                      <a:pt x="215" y="193"/>
                    </a:lnTo>
                    <a:lnTo>
                      <a:pt x="244" y="180"/>
                    </a:lnTo>
                    <a:lnTo>
                      <a:pt x="283" y="166"/>
                    </a:lnTo>
                    <a:lnTo>
                      <a:pt x="319" y="157"/>
                    </a:lnTo>
                    <a:lnTo>
                      <a:pt x="351" y="147"/>
                    </a:lnTo>
                    <a:lnTo>
                      <a:pt x="390" y="140"/>
                    </a:lnTo>
                    <a:lnTo>
                      <a:pt x="429" y="132"/>
                    </a:lnTo>
                    <a:lnTo>
                      <a:pt x="466" y="126"/>
                    </a:lnTo>
                    <a:lnTo>
                      <a:pt x="498" y="123"/>
                    </a:lnTo>
                    <a:lnTo>
                      <a:pt x="535" y="117"/>
                    </a:lnTo>
                    <a:lnTo>
                      <a:pt x="567" y="115"/>
                    </a:lnTo>
                    <a:lnTo>
                      <a:pt x="603" y="113"/>
                    </a:lnTo>
                    <a:lnTo>
                      <a:pt x="638" y="110"/>
                    </a:lnTo>
                    <a:lnTo>
                      <a:pt x="675" y="112"/>
                    </a:lnTo>
                    <a:lnTo>
                      <a:pt x="709" y="111"/>
                    </a:lnTo>
                    <a:lnTo>
                      <a:pt x="745" y="114"/>
                    </a:lnTo>
                    <a:lnTo>
                      <a:pt x="780" y="118"/>
                    </a:lnTo>
                    <a:lnTo>
                      <a:pt x="813" y="122"/>
                    </a:lnTo>
                    <a:lnTo>
                      <a:pt x="842" y="130"/>
                    </a:lnTo>
                    <a:lnTo>
                      <a:pt x="869" y="138"/>
                    </a:lnTo>
                    <a:lnTo>
                      <a:pt x="892" y="148"/>
                    </a:lnTo>
                    <a:lnTo>
                      <a:pt x="1066" y="0"/>
                    </a:lnTo>
                    <a:lnTo>
                      <a:pt x="1047" y="30"/>
                    </a:lnTo>
                    <a:lnTo>
                      <a:pt x="1025" y="64"/>
                    </a:lnTo>
                    <a:lnTo>
                      <a:pt x="1008" y="92"/>
                    </a:lnTo>
                    <a:lnTo>
                      <a:pt x="995" y="112"/>
                    </a:lnTo>
                    <a:lnTo>
                      <a:pt x="981" y="136"/>
                    </a:lnTo>
                    <a:lnTo>
                      <a:pt x="972" y="157"/>
                    </a:lnTo>
                    <a:lnTo>
                      <a:pt x="963" y="178"/>
                    </a:lnTo>
                    <a:lnTo>
                      <a:pt x="957" y="199"/>
                    </a:lnTo>
                    <a:lnTo>
                      <a:pt x="947" y="223"/>
                    </a:lnTo>
                    <a:lnTo>
                      <a:pt x="939" y="250"/>
                    </a:lnTo>
                    <a:lnTo>
                      <a:pt x="932" y="279"/>
                    </a:lnTo>
                    <a:lnTo>
                      <a:pt x="926" y="303"/>
                    </a:lnTo>
                    <a:lnTo>
                      <a:pt x="917" y="333"/>
                    </a:lnTo>
                    <a:lnTo>
                      <a:pt x="915" y="358"/>
                    </a:lnTo>
                    <a:lnTo>
                      <a:pt x="895" y="360"/>
                    </a:lnTo>
                    <a:lnTo>
                      <a:pt x="875" y="362"/>
                    </a:lnTo>
                    <a:lnTo>
                      <a:pt x="856" y="365"/>
                    </a:lnTo>
                    <a:lnTo>
                      <a:pt x="832" y="369"/>
                    </a:lnTo>
                    <a:lnTo>
                      <a:pt x="808" y="374"/>
                    </a:lnTo>
                    <a:lnTo>
                      <a:pt x="787" y="381"/>
                    </a:lnTo>
                    <a:lnTo>
                      <a:pt x="766" y="386"/>
                    </a:lnTo>
                    <a:lnTo>
                      <a:pt x="744" y="392"/>
                    </a:lnTo>
                    <a:lnTo>
                      <a:pt x="720" y="400"/>
                    </a:lnTo>
                    <a:lnTo>
                      <a:pt x="697" y="408"/>
                    </a:lnTo>
                    <a:lnTo>
                      <a:pt x="673" y="416"/>
                    </a:lnTo>
                    <a:lnTo>
                      <a:pt x="652" y="423"/>
                    </a:lnTo>
                    <a:lnTo>
                      <a:pt x="630" y="433"/>
                    </a:lnTo>
                    <a:lnTo>
                      <a:pt x="607" y="441"/>
                    </a:lnTo>
                    <a:lnTo>
                      <a:pt x="588" y="448"/>
                    </a:lnTo>
                    <a:lnTo>
                      <a:pt x="563" y="458"/>
                    </a:lnTo>
                    <a:lnTo>
                      <a:pt x="532" y="473"/>
                    </a:lnTo>
                    <a:lnTo>
                      <a:pt x="707" y="312"/>
                    </a:lnTo>
                    <a:lnTo>
                      <a:pt x="677" y="295"/>
                    </a:lnTo>
                    <a:lnTo>
                      <a:pt x="649" y="285"/>
                    </a:lnTo>
                    <a:lnTo>
                      <a:pt x="596" y="267"/>
                    </a:lnTo>
                    <a:lnTo>
                      <a:pt x="570" y="262"/>
                    </a:lnTo>
                    <a:lnTo>
                      <a:pt x="544" y="255"/>
                    </a:lnTo>
                    <a:lnTo>
                      <a:pt x="496" y="247"/>
                    </a:lnTo>
                    <a:lnTo>
                      <a:pt x="466" y="243"/>
                    </a:lnTo>
                    <a:lnTo>
                      <a:pt x="432" y="236"/>
                    </a:lnTo>
                    <a:lnTo>
                      <a:pt x="404" y="234"/>
                    </a:lnTo>
                    <a:lnTo>
                      <a:pt x="379" y="232"/>
                    </a:lnTo>
                    <a:lnTo>
                      <a:pt x="355" y="230"/>
                    </a:lnTo>
                    <a:lnTo>
                      <a:pt x="327" y="230"/>
                    </a:lnTo>
                    <a:lnTo>
                      <a:pt x="298" y="231"/>
                    </a:lnTo>
                    <a:lnTo>
                      <a:pt x="268" y="235"/>
                    </a:lnTo>
                    <a:lnTo>
                      <a:pt x="241" y="237"/>
                    </a:lnTo>
                    <a:lnTo>
                      <a:pt x="210" y="244"/>
                    </a:lnTo>
                    <a:lnTo>
                      <a:pt x="180" y="252"/>
                    </a:lnTo>
                    <a:lnTo>
                      <a:pt x="147" y="263"/>
                    </a:lnTo>
                    <a:lnTo>
                      <a:pt x="118" y="273"/>
                    </a:lnTo>
                    <a:lnTo>
                      <a:pt x="86" y="285"/>
                    </a:lnTo>
                    <a:lnTo>
                      <a:pt x="53" y="299"/>
                    </a:lnTo>
                    <a:lnTo>
                      <a:pt x="0" y="321"/>
                    </a:lnTo>
                  </a:path>
                </a:pathLst>
              </a:custGeom>
              <a:gradFill rotWithShape="0">
                <a:gsLst>
                  <a:gs pos="0">
                    <a:srgbClr val="453700"/>
                  </a:gs>
                  <a:gs pos="100000">
                    <a:srgbClr val="ffcc00"/>
                  </a:gs>
                </a:gsLst>
                <a:lin ang="54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 rot="10892400">
              <a:off x="3879000" y="4921920"/>
              <a:ext cx="2202120" cy="344520"/>
            </a:xfrm>
            <a:custGeom>
              <a:avLst/>
              <a:gdLst/>
              <a:ahLst/>
              <a:rect l="l" t="t" r="r" b="b"/>
              <a:pathLst>
                <a:path w="729" h="136">
                  <a:moveTo>
                    <a:pt x="0" y="107"/>
                  </a:moveTo>
                  <a:lnTo>
                    <a:pt x="16" y="130"/>
                  </a:lnTo>
                  <a:lnTo>
                    <a:pt x="59" y="112"/>
                  </a:lnTo>
                  <a:lnTo>
                    <a:pt x="98" y="99"/>
                  </a:lnTo>
                  <a:lnTo>
                    <a:pt x="135" y="89"/>
                  </a:lnTo>
                  <a:lnTo>
                    <a:pt x="173" y="77"/>
                  </a:lnTo>
                  <a:lnTo>
                    <a:pt x="207" y="70"/>
                  </a:lnTo>
                  <a:lnTo>
                    <a:pt x="237" y="65"/>
                  </a:lnTo>
                  <a:lnTo>
                    <a:pt x="264" y="60"/>
                  </a:lnTo>
                  <a:lnTo>
                    <a:pt x="295" y="55"/>
                  </a:lnTo>
                  <a:lnTo>
                    <a:pt x="324" y="54"/>
                  </a:lnTo>
                  <a:lnTo>
                    <a:pt x="360" y="56"/>
                  </a:lnTo>
                  <a:lnTo>
                    <a:pt x="388" y="57"/>
                  </a:lnTo>
                  <a:lnTo>
                    <a:pt x="418" y="59"/>
                  </a:lnTo>
                  <a:lnTo>
                    <a:pt x="447" y="64"/>
                  </a:lnTo>
                  <a:lnTo>
                    <a:pt x="483" y="67"/>
                  </a:lnTo>
                  <a:lnTo>
                    <a:pt x="522" y="75"/>
                  </a:lnTo>
                  <a:lnTo>
                    <a:pt x="546" y="82"/>
                  </a:lnTo>
                  <a:lnTo>
                    <a:pt x="572" y="90"/>
                  </a:lnTo>
                  <a:lnTo>
                    <a:pt x="598" y="96"/>
                  </a:lnTo>
                  <a:lnTo>
                    <a:pt x="623" y="105"/>
                  </a:lnTo>
                  <a:lnTo>
                    <a:pt x="656" y="121"/>
                  </a:lnTo>
                  <a:lnTo>
                    <a:pt x="679" y="135"/>
                  </a:lnTo>
                  <a:lnTo>
                    <a:pt x="728" y="93"/>
                  </a:lnTo>
                  <a:lnTo>
                    <a:pt x="688" y="68"/>
                  </a:lnTo>
                  <a:lnTo>
                    <a:pt x="637" y="48"/>
                  </a:lnTo>
                  <a:lnTo>
                    <a:pt x="589" y="35"/>
                  </a:lnTo>
                  <a:lnTo>
                    <a:pt x="529" y="23"/>
                  </a:lnTo>
                  <a:lnTo>
                    <a:pt x="449" y="5"/>
                  </a:lnTo>
                  <a:lnTo>
                    <a:pt x="369" y="0"/>
                  </a:lnTo>
                  <a:lnTo>
                    <a:pt x="289" y="2"/>
                  </a:lnTo>
                  <a:lnTo>
                    <a:pt x="225" y="14"/>
                  </a:lnTo>
                  <a:lnTo>
                    <a:pt x="148" y="34"/>
                  </a:lnTo>
                  <a:lnTo>
                    <a:pt x="91" y="59"/>
                  </a:lnTo>
                  <a:lnTo>
                    <a:pt x="0" y="107"/>
                  </a:lnTo>
                </a:path>
              </a:pathLst>
            </a:custGeom>
            <a:gradFill rotWithShape="0">
              <a:gsLst>
                <a:gs pos="0">
                  <a:srgbClr val="453700"/>
                </a:gs>
                <a:gs pos="100000">
                  <a:srgbClr val="ffcc00"/>
                </a:gs>
              </a:gsLst>
              <a:lin ang="1611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10892400">
              <a:off x="2768400" y="4703400"/>
              <a:ext cx="564840" cy="1050840"/>
            </a:xfrm>
            <a:custGeom>
              <a:avLst/>
              <a:gdLst/>
              <a:ahLst/>
              <a:rect l="l" t="t" r="r" b="b"/>
              <a:pathLst>
                <a:path w="187" h="414">
                  <a:moveTo>
                    <a:pt x="8" y="359"/>
                  </a:moveTo>
                  <a:lnTo>
                    <a:pt x="44" y="413"/>
                  </a:lnTo>
                  <a:lnTo>
                    <a:pt x="45" y="391"/>
                  </a:lnTo>
                  <a:lnTo>
                    <a:pt x="50" y="371"/>
                  </a:lnTo>
                  <a:lnTo>
                    <a:pt x="56" y="344"/>
                  </a:lnTo>
                  <a:lnTo>
                    <a:pt x="64" y="315"/>
                  </a:lnTo>
                  <a:lnTo>
                    <a:pt x="71" y="284"/>
                  </a:lnTo>
                  <a:lnTo>
                    <a:pt x="79" y="254"/>
                  </a:lnTo>
                  <a:lnTo>
                    <a:pt x="88" y="228"/>
                  </a:lnTo>
                  <a:lnTo>
                    <a:pt x="96" y="204"/>
                  </a:lnTo>
                  <a:lnTo>
                    <a:pt x="106" y="181"/>
                  </a:lnTo>
                  <a:lnTo>
                    <a:pt x="117" y="156"/>
                  </a:lnTo>
                  <a:lnTo>
                    <a:pt x="130" y="130"/>
                  </a:lnTo>
                  <a:lnTo>
                    <a:pt x="144" y="106"/>
                  </a:lnTo>
                  <a:lnTo>
                    <a:pt x="159" y="85"/>
                  </a:lnTo>
                  <a:lnTo>
                    <a:pt x="174" y="61"/>
                  </a:lnTo>
                  <a:lnTo>
                    <a:pt x="186" y="42"/>
                  </a:lnTo>
                  <a:lnTo>
                    <a:pt x="159" y="0"/>
                  </a:lnTo>
                  <a:lnTo>
                    <a:pt x="136" y="29"/>
                  </a:lnTo>
                  <a:lnTo>
                    <a:pt x="103" y="75"/>
                  </a:lnTo>
                  <a:lnTo>
                    <a:pt x="64" y="134"/>
                  </a:lnTo>
                  <a:lnTo>
                    <a:pt x="40" y="186"/>
                  </a:lnTo>
                  <a:lnTo>
                    <a:pt x="25" y="246"/>
                  </a:lnTo>
                  <a:lnTo>
                    <a:pt x="10" y="299"/>
                  </a:lnTo>
                  <a:lnTo>
                    <a:pt x="0" y="345"/>
                  </a:lnTo>
                  <a:lnTo>
                    <a:pt x="43" y="412"/>
                  </a:lnTo>
                  <a:lnTo>
                    <a:pt x="43" y="411"/>
                  </a:lnTo>
                  <a:lnTo>
                    <a:pt x="8" y="359"/>
                  </a:lnTo>
                </a:path>
              </a:pathLst>
            </a:custGeom>
            <a:gradFill rotWithShape="0">
              <a:gsLst>
                <a:gs pos="0">
                  <a:srgbClr val="453700"/>
                </a:gs>
                <a:gs pos="100000">
                  <a:srgbClr val="ffcc00"/>
                </a:gs>
              </a:gsLst>
              <a:lin ang="1611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0892400">
              <a:off x="3214800" y="4457520"/>
              <a:ext cx="1263600" cy="419040"/>
            </a:xfrm>
            <a:custGeom>
              <a:avLst/>
              <a:gdLst/>
              <a:ahLst/>
              <a:rect l="l" t="t" r="r" b="b"/>
              <a:pathLst>
                <a:path w="418" h="165">
                  <a:moveTo>
                    <a:pt x="0" y="119"/>
                  </a:moveTo>
                  <a:lnTo>
                    <a:pt x="30" y="164"/>
                  </a:lnTo>
                  <a:lnTo>
                    <a:pt x="53" y="154"/>
                  </a:lnTo>
                  <a:lnTo>
                    <a:pt x="75" y="145"/>
                  </a:lnTo>
                  <a:lnTo>
                    <a:pt x="100" y="137"/>
                  </a:lnTo>
                  <a:lnTo>
                    <a:pt x="123" y="127"/>
                  </a:lnTo>
                  <a:lnTo>
                    <a:pt x="151" y="118"/>
                  </a:lnTo>
                  <a:lnTo>
                    <a:pt x="182" y="107"/>
                  </a:lnTo>
                  <a:lnTo>
                    <a:pt x="221" y="96"/>
                  </a:lnTo>
                  <a:lnTo>
                    <a:pt x="259" y="85"/>
                  </a:lnTo>
                  <a:lnTo>
                    <a:pt x="284" y="78"/>
                  </a:lnTo>
                  <a:lnTo>
                    <a:pt x="315" y="71"/>
                  </a:lnTo>
                  <a:lnTo>
                    <a:pt x="347" y="65"/>
                  </a:lnTo>
                  <a:lnTo>
                    <a:pt x="378" y="60"/>
                  </a:lnTo>
                  <a:lnTo>
                    <a:pt x="403" y="58"/>
                  </a:lnTo>
                  <a:lnTo>
                    <a:pt x="417" y="57"/>
                  </a:lnTo>
                  <a:lnTo>
                    <a:pt x="380" y="1"/>
                  </a:lnTo>
                  <a:lnTo>
                    <a:pt x="351" y="0"/>
                  </a:lnTo>
                  <a:lnTo>
                    <a:pt x="297" y="7"/>
                  </a:lnTo>
                  <a:lnTo>
                    <a:pt x="238" y="18"/>
                  </a:lnTo>
                  <a:lnTo>
                    <a:pt x="188" y="34"/>
                  </a:lnTo>
                  <a:lnTo>
                    <a:pt x="132" y="52"/>
                  </a:lnTo>
                  <a:lnTo>
                    <a:pt x="77" y="74"/>
                  </a:lnTo>
                  <a:lnTo>
                    <a:pt x="41" y="92"/>
                  </a:lnTo>
                  <a:lnTo>
                    <a:pt x="0" y="119"/>
                  </a:lnTo>
                </a:path>
              </a:pathLst>
            </a:custGeom>
            <a:gradFill rotWithShape="0">
              <a:gsLst>
                <a:gs pos="0">
                  <a:srgbClr val="453700"/>
                </a:gs>
                <a:gs pos="100000">
                  <a:srgbClr val="ffcc00"/>
                </a:gs>
              </a:gsLst>
              <a:lin ang="1611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10892400">
              <a:off x="2847960" y="4589280"/>
              <a:ext cx="3224160" cy="1201680"/>
            </a:xfrm>
            <a:custGeom>
              <a:avLst/>
              <a:gdLst/>
              <a:ahLst/>
              <a:rect l="l" t="t" r="r" b="b"/>
              <a:pathLst>
                <a:path w="1067" h="474">
                  <a:moveTo>
                    <a:pt x="0" y="321"/>
                  </a:moveTo>
                  <a:lnTo>
                    <a:pt x="45" y="285"/>
                  </a:lnTo>
                  <a:lnTo>
                    <a:pt x="71" y="270"/>
                  </a:lnTo>
                  <a:lnTo>
                    <a:pt x="100" y="251"/>
                  </a:lnTo>
                  <a:lnTo>
                    <a:pt x="128" y="235"/>
                  </a:lnTo>
                  <a:lnTo>
                    <a:pt x="158" y="219"/>
                  </a:lnTo>
                  <a:lnTo>
                    <a:pt x="186" y="205"/>
                  </a:lnTo>
                  <a:lnTo>
                    <a:pt x="215" y="193"/>
                  </a:lnTo>
                  <a:lnTo>
                    <a:pt x="244" y="180"/>
                  </a:lnTo>
                  <a:lnTo>
                    <a:pt x="283" y="166"/>
                  </a:lnTo>
                  <a:lnTo>
                    <a:pt x="319" y="157"/>
                  </a:lnTo>
                  <a:lnTo>
                    <a:pt x="351" y="147"/>
                  </a:lnTo>
                  <a:lnTo>
                    <a:pt x="390" y="140"/>
                  </a:lnTo>
                  <a:lnTo>
                    <a:pt x="429" y="132"/>
                  </a:lnTo>
                  <a:lnTo>
                    <a:pt x="466" y="126"/>
                  </a:lnTo>
                  <a:lnTo>
                    <a:pt x="498" y="123"/>
                  </a:lnTo>
                  <a:lnTo>
                    <a:pt x="535" y="117"/>
                  </a:lnTo>
                  <a:lnTo>
                    <a:pt x="567" y="115"/>
                  </a:lnTo>
                  <a:lnTo>
                    <a:pt x="603" y="113"/>
                  </a:lnTo>
                  <a:lnTo>
                    <a:pt x="638" y="110"/>
                  </a:lnTo>
                  <a:lnTo>
                    <a:pt x="675" y="112"/>
                  </a:lnTo>
                  <a:lnTo>
                    <a:pt x="709" y="111"/>
                  </a:lnTo>
                  <a:lnTo>
                    <a:pt x="745" y="114"/>
                  </a:lnTo>
                  <a:lnTo>
                    <a:pt x="780" y="118"/>
                  </a:lnTo>
                  <a:lnTo>
                    <a:pt x="813" y="122"/>
                  </a:lnTo>
                  <a:lnTo>
                    <a:pt x="842" y="130"/>
                  </a:lnTo>
                  <a:lnTo>
                    <a:pt x="869" y="138"/>
                  </a:lnTo>
                  <a:lnTo>
                    <a:pt x="892" y="148"/>
                  </a:lnTo>
                  <a:lnTo>
                    <a:pt x="1066" y="0"/>
                  </a:lnTo>
                  <a:lnTo>
                    <a:pt x="1047" y="30"/>
                  </a:lnTo>
                  <a:lnTo>
                    <a:pt x="1025" y="64"/>
                  </a:lnTo>
                  <a:lnTo>
                    <a:pt x="1008" y="92"/>
                  </a:lnTo>
                  <a:lnTo>
                    <a:pt x="995" y="112"/>
                  </a:lnTo>
                  <a:lnTo>
                    <a:pt x="981" y="136"/>
                  </a:lnTo>
                  <a:lnTo>
                    <a:pt x="972" y="157"/>
                  </a:lnTo>
                  <a:lnTo>
                    <a:pt x="963" y="178"/>
                  </a:lnTo>
                  <a:lnTo>
                    <a:pt x="957" y="199"/>
                  </a:lnTo>
                  <a:lnTo>
                    <a:pt x="947" y="223"/>
                  </a:lnTo>
                  <a:lnTo>
                    <a:pt x="939" y="250"/>
                  </a:lnTo>
                  <a:lnTo>
                    <a:pt x="932" y="279"/>
                  </a:lnTo>
                  <a:lnTo>
                    <a:pt x="926" y="303"/>
                  </a:lnTo>
                  <a:lnTo>
                    <a:pt x="917" y="333"/>
                  </a:lnTo>
                  <a:lnTo>
                    <a:pt x="915" y="358"/>
                  </a:lnTo>
                  <a:lnTo>
                    <a:pt x="895" y="360"/>
                  </a:lnTo>
                  <a:lnTo>
                    <a:pt x="875" y="362"/>
                  </a:lnTo>
                  <a:lnTo>
                    <a:pt x="856" y="365"/>
                  </a:lnTo>
                  <a:lnTo>
                    <a:pt x="832" y="369"/>
                  </a:lnTo>
                  <a:lnTo>
                    <a:pt x="808" y="374"/>
                  </a:lnTo>
                  <a:lnTo>
                    <a:pt x="787" y="381"/>
                  </a:lnTo>
                  <a:lnTo>
                    <a:pt x="766" y="386"/>
                  </a:lnTo>
                  <a:lnTo>
                    <a:pt x="744" y="392"/>
                  </a:lnTo>
                  <a:lnTo>
                    <a:pt x="720" y="400"/>
                  </a:lnTo>
                  <a:lnTo>
                    <a:pt x="697" y="408"/>
                  </a:lnTo>
                  <a:lnTo>
                    <a:pt x="673" y="416"/>
                  </a:lnTo>
                  <a:lnTo>
                    <a:pt x="652" y="423"/>
                  </a:lnTo>
                  <a:lnTo>
                    <a:pt x="630" y="433"/>
                  </a:lnTo>
                  <a:lnTo>
                    <a:pt x="607" y="441"/>
                  </a:lnTo>
                  <a:lnTo>
                    <a:pt x="588" y="448"/>
                  </a:lnTo>
                  <a:lnTo>
                    <a:pt x="563" y="458"/>
                  </a:lnTo>
                  <a:lnTo>
                    <a:pt x="532" y="473"/>
                  </a:lnTo>
                  <a:lnTo>
                    <a:pt x="707" y="312"/>
                  </a:lnTo>
                  <a:lnTo>
                    <a:pt x="677" y="295"/>
                  </a:lnTo>
                  <a:lnTo>
                    <a:pt x="649" y="285"/>
                  </a:lnTo>
                  <a:lnTo>
                    <a:pt x="596" y="267"/>
                  </a:lnTo>
                  <a:lnTo>
                    <a:pt x="570" y="262"/>
                  </a:lnTo>
                  <a:lnTo>
                    <a:pt x="544" y="255"/>
                  </a:lnTo>
                  <a:lnTo>
                    <a:pt x="496" y="247"/>
                  </a:lnTo>
                  <a:lnTo>
                    <a:pt x="466" y="243"/>
                  </a:lnTo>
                  <a:lnTo>
                    <a:pt x="432" y="236"/>
                  </a:lnTo>
                  <a:lnTo>
                    <a:pt x="404" y="234"/>
                  </a:lnTo>
                  <a:lnTo>
                    <a:pt x="379" y="232"/>
                  </a:lnTo>
                  <a:lnTo>
                    <a:pt x="355" y="230"/>
                  </a:lnTo>
                  <a:lnTo>
                    <a:pt x="327" y="230"/>
                  </a:lnTo>
                  <a:lnTo>
                    <a:pt x="298" y="231"/>
                  </a:lnTo>
                  <a:lnTo>
                    <a:pt x="268" y="235"/>
                  </a:lnTo>
                  <a:lnTo>
                    <a:pt x="241" y="237"/>
                  </a:lnTo>
                  <a:lnTo>
                    <a:pt x="210" y="244"/>
                  </a:lnTo>
                  <a:lnTo>
                    <a:pt x="180" y="252"/>
                  </a:lnTo>
                  <a:lnTo>
                    <a:pt x="147" y="263"/>
                  </a:lnTo>
                  <a:lnTo>
                    <a:pt x="118" y="273"/>
                  </a:lnTo>
                  <a:lnTo>
                    <a:pt x="86" y="285"/>
                  </a:lnTo>
                  <a:lnTo>
                    <a:pt x="53" y="299"/>
                  </a:lnTo>
                  <a:lnTo>
                    <a:pt x="0" y="321"/>
                  </a:lnTo>
                </a:path>
              </a:pathLst>
            </a:custGeom>
            <a:gradFill rotWithShape="0">
              <a:gsLst>
                <a:gs pos="0">
                  <a:srgbClr val="453700"/>
                </a:gs>
                <a:gs pos="100000">
                  <a:srgbClr val="ffcc00"/>
                </a:gs>
              </a:gsLst>
              <a:lin ang="1611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76320" y="57913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Arial Narrow"/>
              </a:rPr>
              <a:t>El   QUÉ   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y  el  CÓMO</a:t>
            </a:r>
            <a:r>
              <a:rPr b="1" lang="en-US" sz="3400" spc="-1" strike="noStrike">
                <a:solidFill>
                  <a:srgbClr val="ffffff"/>
                </a:solidFill>
                <a:latin typeface="Arial Narrow"/>
              </a:rPr>
              <a:t>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28195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440" y="152280"/>
            <a:ext cx="90648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S LOGICAS DISTINT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 LA RELACION TECNOLOGIA-MER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471600" y="1600200"/>
            <a:ext cx="3525120" cy="5105520"/>
            <a:chOff x="471600" y="1600200"/>
            <a:chExt cx="3525120" cy="5105520"/>
          </a:xfrm>
        </p:grpSpPr>
        <p:sp>
          <p:nvSpPr>
            <p:cNvPr id="506" name=""/>
            <p:cNvSpPr/>
            <p:nvPr/>
          </p:nvSpPr>
          <p:spPr>
            <a:xfrm>
              <a:off x="568440" y="624852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68440" y="6248520"/>
              <a:ext cx="1904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71600" y="1600200"/>
              <a:ext cx="3490920" cy="13809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52320" y="1838160"/>
              <a:ext cx="3197520" cy="92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Producció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en mas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71600" y="3133800"/>
              <a:ext cx="3490920" cy="32306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d9d9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76640" y="3505320"/>
              <a:ext cx="352008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1840" indent="-231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TECNOLOGÍA AL SERVICIO DE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La masific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El reemplazo de lo natural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por lo sintétic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El reemplazo de lo hecho 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a mano por mecaniz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Estandarización en todos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los plan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4097160" y="1604880"/>
            <a:ext cx="4626360" cy="4795920"/>
            <a:chOff x="4097160" y="1604880"/>
            <a:chExt cx="4626360" cy="4795920"/>
          </a:xfrm>
        </p:grpSpPr>
        <p:sp>
          <p:nvSpPr>
            <p:cNvPr id="513" name=""/>
            <p:cNvSpPr/>
            <p:nvPr/>
          </p:nvSpPr>
          <p:spPr>
            <a:xfrm>
              <a:off x="5103720" y="1636560"/>
              <a:ext cx="3490920" cy="1381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103720" y="3170160"/>
              <a:ext cx="3490920" cy="32306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d9d9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097160" y="1604880"/>
              <a:ext cx="378000" cy="13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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184720" y="1838160"/>
              <a:ext cx="3197160" cy="92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Producció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Arial"/>
                </a:rPr>
                <a:t>flex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964040" y="3502080"/>
              <a:ext cx="375948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1840" indent="-231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 Narrow"/>
                </a:rPr>
                <a:t>TECNOLOGÍA MÚLTI-PROPÓSITO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Masificación de bajo cos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Rescate de lo natural con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organización moder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Valorización de lo hecho 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a la medida 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(artesanía </a:t>
              </a:r>
              <a:r>
                <a:rPr b="1" i="1" lang="es-ES_tradnl" sz="1800" spc="-1" strike="noStrike">
                  <a:solidFill>
                    <a:srgbClr val="000000"/>
                  </a:solidFill>
                  <a:latin typeface="Arial"/>
                </a:rPr>
                <a:t>high-tech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34a0e"/>
            </a:gs>
            <a:gs pos="50000">
              <a:srgbClr val="ffa41f"/>
            </a:gs>
            <a:gs pos="100000">
              <a:srgbClr val="734a0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5867280" y="4349880"/>
            <a:ext cx="1295640" cy="520560"/>
          </a:xfrm>
          <a:prstGeom prst="rect">
            <a:avLst/>
          </a:prstGeom>
          <a:solidFill>
            <a:srgbClr val="e488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133720" y="4349880"/>
            <a:ext cx="1218960" cy="520560"/>
          </a:xfrm>
          <a:prstGeom prst="rect">
            <a:avLst/>
          </a:prstGeom>
          <a:solidFill>
            <a:srgbClr val="e488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352680" y="4343400"/>
            <a:ext cx="2514600" cy="5205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56240" y="4413240"/>
            <a:ext cx="5131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6080" bIns="46080" anchor="t">
            <a:spAutoFit/>
          </a:bodyPr>
          <a:p>
            <a:pPr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OMMODITY          </a:t>
            </a: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GENERICO     ESPECIALIDAD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    A LA MED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2110320" y="4937040"/>
            <a:ext cx="4983840" cy="593640"/>
            <a:chOff x="2110320" y="4937040"/>
            <a:chExt cx="4983840" cy="593640"/>
          </a:xfrm>
        </p:grpSpPr>
        <p:sp>
          <p:nvSpPr>
            <p:cNvPr id="523" name=""/>
            <p:cNvSpPr/>
            <p:nvPr/>
          </p:nvSpPr>
          <p:spPr>
            <a:xfrm>
              <a:off x="2735280" y="5181480"/>
              <a:ext cx="380988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287520" y="4951440"/>
              <a:ext cx="2601720" cy="579240"/>
            </a:xfrm>
            <a:prstGeom prst="rect">
              <a:avLst/>
            </a:prstGeom>
            <a:solidFill>
              <a:srgbClr val="ce7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Innovación, versatilidad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interacción con clien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110320" y="5013360"/>
              <a:ext cx="487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(-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530040" y="4937040"/>
              <a:ext cx="564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(+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2110320" y="5638680"/>
            <a:ext cx="4983840" cy="579240"/>
            <a:chOff x="2110320" y="5638680"/>
            <a:chExt cx="4983840" cy="579240"/>
          </a:xfrm>
        </p:grpSpPr>
        <p:sp>
          <p:nvSpPr>
            <p:cNvPr id="528" name=""/>
            <p:cNvSpPr/>
            <p:nvPr/>
          </p:nvSpPr>
          <p:spPr>
            <a:xfrm>
              <a:off x="2735280" y="5945040"/>
              <a:ext cx="380988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384360" y="5638680"/>
              <a:ext cx="2399040" cy="579240"/>
            </a:xfrm>
            <a:prstGeom prst="rect">
              <a:avLst/>
            </a:prstGeom>
            <a:solidFill>
              <a:srgbClr val="9c5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 algn="ctr"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Importancia del precio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y calidades básic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606360" y="5700600"/>
              <a:ext cx="487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(-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110320" y="5700600"/>
              <a:ext cx="564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(+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586440" y="762120"/>
            <a:ext cx="564120" cy="3658680"/>
            <a:chOff x="586440" y="762120"/>
            <a:chExt cx="564120" cy="3658680"/>
          </a:xfrm>
        </p:grpSpPr>
        <p:sp>
          <p:nvSpPr>
            <p:cNvPr id="533" name=""/>
            <p:cNvSpPr/>
            <p:nvPr/>
          </p:nvSpPr>
          <p:spPr>
            <a:xfrm>
              <a:off x="830160" y="1387800"/>
              <a:ext cx="0" cy="259056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16200000">
              <a:off x="-13680" y="2246040"/>
              <a:ext cx="1643040" cy="335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6080" bIns="46080" anchor="t">
              <a:spAutoFit/>
            </a:bodyPr>
            <a:p>
              <a:pPr algn="ctr"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Vulnerabilida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86440" y="3962520"/>
              <a:ext cx="564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(+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86440" y="762120"/>
              <a:ext cx="487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6080" bIns="46080" anchor="t">
              <a:spAutoFit/>
            </a:bodyPr>
            <a:p>
              <a:pPr>
                <a:tabLst>
                  <a:tab algn="l" pos="0"/>
                  <a:tab algn="l" pos="750960"/>
                  <a:tab algn="l" pos="1501920"/>
                  <a:tab algn="l" pos="2252520"/>
                  <a:tab algn="l" pos="3003480"/>
                  <a:tab algn="l" pos="3754440"/>
                  <a:tab algn="l" pos="4505400"/>
                  <a:tab algn="l" pos="5256360"/>
                  <a:tab algn="l" pos="6006960"/>
                  <a:tab algn="l" pos="6757920"/>
                  <a:tab algn="l" pos="7508880"/>
                  <a:tab algn="l" pos="8259840"/>
                  <a:tab algn="l" pos="9010800"/>
                  <a:tab algn="l" pos="9761400"/>
                  <a:tab algn="l" pos="1051236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(-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988920" y="0"/>
            <a:ext cx="73213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LA SEGMENTACIÓN DE MERCADOS COMO PRÁCTICA</a:t>
            </a:r>
            <a:br>
              <a:rPr sz="2600"/>
            </a:b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Y LA VARIEDAD DE CONDICIONES DE COMPET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1218240" y="762120"/>
            <a:ext cx="7522560" cy="3780720"/>
            <a:chOff x="1218240" y="762120"/>
            <a:chExt cx="7522560" cy="3780720"/>
          </a:xfrm>
        </p:grpSpPr>
        <p:grpSp>
          <p:nvGrpSpPr>
            <p:cNvPr id="539" name=""/>
            <p:cNvGrpSpPr/>
            <p:nvPr/>
          </p:nvGrpSpPr>
          <p:grpSpPr>
            <a:xfrm>
              <a:off x="1218240" y="762120"/>
              <a:ext cx="608760" cy="3658680"/>
              <a:chOff x="1218240" y="762120"/>
              <a:chExt cx="608760" cy="3658680"/>
            </a:xfrm>
          </p:grpSpPr>
          <p:sp>
            <p:nvSpPr>
              <p:cNvPr id="540" name=""/>
              <p:cNvSpPr/>
              <p:nvPr/>
            </p:nvSpPr>
            <p:spPr>
              <a:xfrm>
                <a:off x="1560600" y="1387800"/>
                <a:ext cx="0" cy="2590560"/>
              </a:xfrm>
              <a:prstGeom prst="line">
                <a:avLst/>
              </a:prstGeom>
              <a:ln w="10152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rot="16200000">
                <a:off x="921240" y="2372760"/>
                <a:ext cx="1231920" cy="579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6080" bIns="46080" anchor="t">
                <a:spAutoFit/>
              </a:bodyPr>
              <a:p>
                <a:pPr algn="ctr">
                  <a:tabLst>
                    <a:tab algn="l" pos="0"/>
                    <a:tab algn="l" pos="750960"/>
                    <a:tab algn="l" pos="1501920"/>
                    <a:tab algn="l" pos="2252520"/>
                    <a:tab algn="l" pos="3003480"/>
                    <a:tab algn="l" pos="3754440"/>
                    <a:tab algn="l" pos="4505400"/>
                    <a:tab algn="l" pos="5256360"/>
                    <a:tab algn="l" pos="6006960"/>
                    <a:tab algn="l" pos="6757920"/>
                    <a:tab algn="l" pos="7508880"/>
                    <a:tab algn="l" pos="8259840"/>
                    <a:tab algn="l" pos="9010800"/>
                    <a:tab algn="l" pos="9761400"/>
                    <a:tab algn="l" pos="1051236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Margen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por unida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218240" y="762120"/>
                <a:ext cx="5641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tabLst>
                    <a:tab algn="l" pos="0"/>
                    <a:tab algn="l" pos="750960"/>
                    <a:tab algn="l" pos="1501920"/>
                    <a:tab algn="l" pos="2252520"/>
                    <a:tab algn="l" pos="3003480"/>
                    <a:tab algn="l" pos="3754440"/>
                    <a:tab algn="l" pos="4505400"/>
                    <a:tab algn="l" pos="5256360"/>
                    <a:tab algn="l" pos="6006960"/>
                    <a:tab algn="l" pos="6757920"/>
                    <a:tab algn="l" pos="7508880"/>
                    <a:tab algn="l" pos="8259840"/>
                    <a:tab algn="l" pos="9010800"/>
                    <a:tab algn="l" pos="9761400"/>
                    <a:tab algn="l" pos="10512360"/>
                  </a:tabLst>
                </a:pPr>
                <a:r>
                  <a:rPr b="1" lang="es-ES_tradnl" sz="2400" spc="-1" strike="noStrike">
                    <a:solidFill>
                      <a:srgbClr val="ffffff"/>
                    </a:solidFill>
                    <a:latin typeface="Arial"/>
                  </a:rPr>
                  <a:t>(+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316520" y="3962520"/>
                <a:ext cx="48780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6080" bIns="46080" anchor="t">
                <a:spAutoFit/>
              </a:bodyPr>
              <a:p>
                <a:pPr>
                  <a:tabLst>
                    <a:tab algn="l" pos="0"/>
                    <a:tab algn="l" pos="750960"/>
                    <a:tab algn="l" pos="1501920"/>
                    <a:tab algn="l" pos="2252520"/>
                    <a:tab algn="l" pos="3003480"/>
                    <a:tab algn="l" pos="3754440"/>
                    <a:tab algn="l" pos="4505400"/>
                    <a:tab algn="l" pos="5256360"/>
                    <a:tab algn="l" pos="6006960"/>
                    <a:tab algn="l" pos="6757920"/>
                    <a:tab algn="l" pos="7508880"/>
                    <a:tab algn="l" pos="8259840"/>
                    <a:tab algn="l" pos="9010800"/>
                    <a:tab algn="l" pos="9761400"/>
                    <a:tab algn="l" pos="10512360"/>
                  </a:tabLst>
                </a:pPr>
                <a:r>
                  <a:rPr b="1" lang="es-ES_tradnl" sz="2400" spc="-1" strike="noStrike">
                    <a:solidFill>
                      <a:srgbClr val="ffffff"/>
                    </a:solidFill>
                    <a:latin typeface="Arial"/>
                  </a:rPr>
                  <a:t>(-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4" name=""/>
            <p:cNvGrpSpPr/>
            <p:nvPr/>
          </p:nvGrpSpPr>
          <p:grpSpPr>
            <a:xfrm>
              <a:off x="2133720" y="1082880"/>
              <a:ext cx="6607080" cy="3459960"/>
              <a:chOff x="2133720" y="1082880"/>
              <a:chExt cx="6607080" cy="3459960"/>
            </a:xfrm>
          </p:grpSpPr>
          <p:grpSp>
            <p:nvGrpSpPr>
              <p:cNvPr id="545" name=""/>
              <p:cNvGrpSpPr/>
              <p:nvPr/>
            </p:nvGrpSpPr>
            <p:grpSpPr>
              <a:xfrm>
                <a:off x="2133720" y="1082880"/>
                <a:ext cx="6607080" cy="3459960"/>
                <a:chOff x="2133720" y="1082880"/>
                <a:chExt cx="6607080" cy="345996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5869080" y="2079720"/>
                  <a:ext cx="1295640" cy="1676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a41f"/>
                    </a:gs>
                    <a:gs pos="50000">
                      <a:srgbClr val="fed08e"/>
                    </a:gs>
                    <a:gs pos="100000">
                      <a:srgbClr val="ffa41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5869080" y="3762720"/>
                  <a:ext cx="1295640" cy="596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ef5e9"/>
                    </a:gs>
                    <a:gs pos="100000">
                      <a:srgbClr val="ffa41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5869080" y="1400400"/>
                  <a:ext cx="1295640" cy="673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a41f"/>
                    </a:gs>
                    <a:gs pos="100000">
                      <a:srgbClr val="000000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2135520" y="2079720"/>
                  <a:ext cx="1218960" cy="1676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a41f"/>
                    </a:gs>
                    <a:gs pos="50000">
                      <a:srgbClr val="fed08e"/>
                    </a:gs>
                    <a:gs pos="100000">
                      <a:srgbClr val="ffa41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2135520" y="3762720"/>
                  <a:ext cx="1218960" cy="596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ef5e9"/>
                    </a:gs>
                    <a:gs pos="100000">
                      <a:srgbClr val="ffa41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2135520" y="1400400"/>
                  <a:ext cx="1218960" cy="673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a41f"/>
                    </a:gs>
                    <a:gs pos="100000">
                      <a:srgbClr val="000000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3354480" y="2073600"/>
                  <a:ext cx="2514600" cy="1676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8888e0"/>
                    </a:gs>
                    <a:gs pos="100000">
                      <a:srgbClr val="3333cc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2133720" y="1393920"/>
                  <a:ext cx="5016600" cy="29592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3354480" y="3749760"/>
                  <a:ext cx="2514600" cy="596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e5e5f7"/>
                    </a:gs>
                    <a:gs pos="100000">
                      <a:srgbClr val="3333cc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3354480" y="1393920"/>
                  <a:ext cx="2514600" cy="673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cc"/>
                    </a:gs>
                    <a:gs pos="100000">
                      <a:srgbClr val="07071f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56" name=""/>
                <p:cNvGrpSpPr/>
                <p:nvPr/>
              </p:nvGrpSpPr>
              <p:grpSpPr>
                <a:xfrm>
                  <a:off x="7433280" y="1082880"/>
                  <a:ext cx="1307520" cy="3459960"/>
                  <a:chOff x="7433280" y="1082880"/>
                  <a:chExt cx="1307520" cy="3459960"/>
                </a:xfrm>
              </p:grpSpPr>
              <p:sp>
                <p:nvSpPr>
                  <p:cNvPr id="557" name=""/>
                  <p:cNvSpPr/>
                  <p:nvPr/>
                </p:nvSpPr>
                <p:spPr>
                  <a:xfrm>
                    <a:off x="7433280" y="4206960"/>
                    <a:ext cx="1307520" cy="335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6080" bIns="46080" anchor="t">
                    <a:spAutoFit/>
                  </a:bodyPr>
                  <a:p>
                    <a:pPr algn="ctr">
                      <a:tabLst>
                        <a:tab algn="l" pos="0"/>
                        <a:tab algn="l" pos="750960"/>
                        <a:tab algn="l" pos="1501920"/>
                        <a:tab algn="l" pos="2252520"/>
                        <a:tab algn="l" pos="3003480"/>
                        <a:tab algn="l" pos="3754440"/>
                        <a:tab algn="l" pos="4505400"/>
                        <a:tab algn="l" pos="5256360"/>
                        <a:tab algn="l" pos="6006960"/>
                        <a:tab algn="l" pos="6757920"/>
                        <a:tab algn="l" pos="7508880"/>
                        <a:tab algn="l" pos="8259840"/>
                        <a:tab algn="l" pos="9010800"/>
                        <a:tab algn="l" pos="9761400"/>
                        <a:tab algn="l" pos="10512360"/>
                      </a:tabLst>
                    </a:pPr>
                    <a:r>
                      <a:rPr b="1" lang="es-ES_tradnl" sz="1600" spc="-1" strike="noStrike">
                        <a:solidFill>
                          <a:srgbClr val="ffffff"/>
                        </a:solidFill>
                        <a:latin typeface="Arial"/>
                      </a:rPr>
                      <a:t>ESTÁNDAR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58" name=""/>
                  <p:cNvGrpSpPr/>
                  <p:nvPr/>
                </p:nvGrpSpPr>
                <p:grpSpPr>
                  <a:xfrm>
                    <a:off x="7626600" y="1082880"/>
                    <a:ext cx="969480" cy="3102120"/>
                    <a:chOff x="7626600" y="1082880"/>
                    <a:chExt cx="969480" cy="3102120"/>
                  </a:xfrm>
                </p:grpSpPr>
                <p:sp>
                  <p:nvSpPr>
                    <p:cNvPr id="559" name=""/>
                    <p:cNvSpPr/>
                    <p:nvPr/>
                  </p:nvSpPr>
                  <p:spPr>
                    <a:xfrm>
                      <a:off x="7626600" y="1082880"/>
                      <a:ext cx="96948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6080" bIns="4608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750960"/>
                          <a:tab algn="l" pos="1501920"/>
                          <a:tab algn="l" pos="2252520"/>
                          <a:tab algn="l" pos="3003480"/>
                          <a:tab algn="l" pos="3754440"/>
                          <a:tab algn="l" pos="4505400"/>
                          <a:tab algn="l" pos="5256360"/>
                          <a:tab algn="l" pos="6006960"/>
                          <a:tab algn="l" pos="6757920"/>
                          <a:tab algn="l" pos="7508880"/>
                          <a:tab algn="l" pos="8259840"/>
                          <a:tab algn="l" pos="9010800"/>
                          <a:tab algn="l" pos="9761400"/>
                          <a:tab algn="l" pos="1051236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ICH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0" name=""/>
                    <p:cNvSpPr/>
                    <p:nvPr/>
                  </p:nvSpPr>
                  <p:spPr>
                    <a:xfrm>
                      <a:off x="8071200" y="1365480"/>
                      <a:ext cx="0" cy="2819520"/>
                    </a:xfrm>
                    <a:prstGeom prst="line">
                      <a:avLst/>
                    </a:prstGeom>
                    <a:ln w="101520">
                      <a:solidFill>
                        <a:srgbClr val="000000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1" name=""/>
                    <p:cNvSpPr/>
                    <p:nvPr/>
                  </p:nvSpPr>
                  <p:spPr>
                    <a:xfrm rot="16200000">
                      <a:off x="7254000" y="2725200"/>
                      <a:ext cx="1619280" cy="579240"/>
                    </a:xfrm>
                    <a:prstGeom prst="rect">
                      <a:avLst/>
                    </a:prstGeom>
                    <a:solidFill>
                      <a:srgbClr val="ff99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360" rIns="90360" tIns="46080" bIns="4608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750960"/>
                          <a:tab algn="l" pos="1501920"/>
                          <a:tab algn="l" pos="2252520"/>
                          <a:tab algn="l" pos="3003480"/>
                          <a:tab algn="l" pos="3754440"/>
                          <a:tab algn="l" pos="4505400"/>
                          <a:tab algn="l" pos="5256360"/>
                          <a:tab algn="l" pos="6006960"/>
                          <a:tab algn="l" pos="6757920"/>
                          <a:tab algn="l" pos="7508880"/>
                          <a:tab algn="l" pos="8259840"/>
                          <a:tab algn="l" pos="9010800"/>
                          <a:tab algn="l" pos="9761400"/>
                          <a:tab algn="l" pos="1051236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erenciación creci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562" name=""/>
              <p:cNvSpPr/>
              <p:nvPr/>
            </p:nvSpPr>
            <p:spPr>
              <a:xfrm flipV="1">
                <a:off x="4573800" y="1387440"/>
                <a:ext cx="0" cy="297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3" name=""/>
          <p:cNvSpPr/>
          <p:nvPr/>
        </p:nvSpPr>
        <p:spPr>
          <a:xfrm>
            <a:off x="706320" y="6400800"/>
            <a:ext cx="77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 el cuadro completo se despliega en cada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572000" y="4343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4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"/>
          <p:cNvGrpSpPr/>
          <p:nvPr/>
        </p:nvGrpSpPr>
        <p:grpSpPr>
          <a:xfrm>
            <a:off x="399960" y="4027320"/>
            <a:ext cx="3849480" cy="1992600"/>
            <a:chOff x="399960" y="4027320"/>
            <a:chExt cx="3849480" cy="1992600"/>
          </a:xfrm>
        </p:grpSpPr>
        <p:grpSp>
          <p:nvGrpSpPr>
            <p:cNvPr id="566" name=""/>
            <p:cNvGrpSpPr/>
            <p:nvPr/>
          </p:nvGrpSpPr>
          <p:grpSpPr>
            <a:xfrm>
              <a:off x="399960" y="4495680"/>
              <a:ext cx="3849480" cy="1524240"/>
              <a:chOff x="399960" y="4495680"/>
              <a:chExt cx="3849480" cy="1524240"/>
            </a:xfrm>
          </p:grpSpPr>
          <p:sp>
            <p:nvSpPr>
              <p:cNvPr id="567" name=""/>
              <p:cNvSpPr/>
              <p:nvPr/>
            </p:nvSpPr>
            <p:spPr>
              <a:xfrm>
                <a:off x="399960" y="4495680"/>
                <a:ext cx="3849480" cy="1524240"/>
              </a:xfrm>
              <a:custGeom>
                <a:avLst/>
                <a:gdLst/>
                <a:ahLst/>
                <a:rect l="l" t="t" r="r" b="b"/>
                <a:pathLst>
                  <a:path w="1482" h="1472">
                    <a:moveTo>
                      <a:pt x="0" y="1471"/>
                    </a:moveTo>
                    <a:lnTo>
                      <a:pt x="0" y="0"/>
                    </a:lnTo>
                    <a:lnTo>
                      <a:pt x="1481" y="0"/>
                    </a:lnTo>
                    <a:lnTo>
                      <a:pt x="1481" y="1471"/>
                    </a:lnTo>
                    <a:lnTo>
                      <a:pt x="0" y="1471"/>
                    </a:lnTo>
                    <a:lnTo>
                      <a:pt x="0" y="1471"/>
                    </a:lnTo>
                    <a:lnTo>
                      <a:pt x="0" y="0"/>
                    </a:lnTo>
                    <a:lnTo>
                      <a:pt x="1481" y="0"/>
                    </a:lnTo>
                    <a:lnTo>
                      <a:pt x="1481" y="1471"/>
                    </a:lnTo>
                    <a:lnTo>
                      <a:pt x="0" y="1471"/>
                    </a:lnTo>
                    <a:lnTo>
                      <a:pt x="0" y="1471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99960" y="4495680"/>
                <a:ext cx="3849480" cy="1524240"/>
              </a:xfrm>
              <a:custGeom>
                <a:avLst/>
                <a:gdLst/>
                <a:ahLst/>
                <a:rect l="l" t="t" r="r" b="b"/>
                <a:pathLst>
                  <a:path w="1482" h="1472">
                    <a:moveTo>
                      <a:pt x="0" y="1471"/>
                    </a:moveTo>
                    <a:lnTo>
                      <a:pt x="0" y="0"/>
                    </a:lnTo>
                    <a:lnTo>
                      <a:pt x="1481" y="0"/>
                    </a:lnTo>
                    <a:lnTo>
                      <a:pt x="1481" y="1471"/>
                    </a:lnTo>
                    <a:lnTo>
                      <a:pt x="0" y="1471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99960" y="4495680"/>
                <a:ext cx="3849480" cy="1524240"/>
              </a:xfrm>
              <a:custGeom>
                <a:avLst/>
                <a:gdLst/>
                <a:ahLst/>
                <a:rect l="l" t="t" r="r" b="b"/>
                <a:pathLst>
                  <a:path w="1482" h="1472">
                    <a:moveTo>
                      <a:pt x="0" y="1471"/>
                    </a:moveTo>
                    <a:lnTo>
                      <a:pt x="0" y="0"/>
                    </a:lnTo>
                    <a:lnTo>
                      <a:pt x="1481" y="0"/>
                    </a:lnTo>
                    <a:lnTo>
                      <a:pt x="1481" y="1471"/>
                    </a:lnTo>
                    <a:lnTo>
                      <a:pt x="0" y="1471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0" name=""/>
            <p:cNvSpPr/>
            <p:nvPr/>
          </p:nvSpPr>
          <p:spPr>
            <a:xfrm>
              <a:off x="841320" y="4575600"/>
              <a:ext cx="281952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"Objetivación</a:t>
              </a:r>
              <a:br>
                <a:rPr sz="1600"/>
              </a:b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de la tecnología“ en </a:t>
              </a:r>
              <a:br>
                <a:rPr sz="1600"/>
              </a:b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manuales, planos, etc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841320" y="5334480"/>
              <a:ext cx="2965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marL="231840" indent="-23184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•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Permite transferencia</a:t>
              </a:r>
              <a:br>
                <a:rPr sz="1600"/>
              </a:b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pasiva por “paquetes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728720" y="4027320"/>
              <a:ext cx="1189080" cy="316080"/>
            </a:xfrm>
            <a:custGeom>
              <a:avLst/>
              <a:gdLst/>
              <a:ahLst/>
              <a:rect l="l" t="t" r="r" b="b"/>
              <a:pathLst>
                <a:path w="749" h="223">
                  <a:moveTo>
                    <a:pt x="374" y="222"/>
                  </a:moveTo>
                  <a:lnTo>
                    <a:pt x="0" y="60"/>
                  </a:lnTo>
                  <a:lnTo>
                    <a:pt x="176" y="60"/>
                  </a:lnTo>
                  <a:lnTo>
                    <a:pt x="176" y="0"/>
                  </a:lnTo>
                  <a:lnTo>
                    <a:pt x="573" y="0"/>
                  </a:lnTo>
                  <a:lnTo>
                    <a:pt x="573" y="60"/>
                  </a:lnTo>
                  <a:lnTo>
                    <a:pt x="748" y="60"/>
                  </a:lnTo>
                  <a:lnTo>
                    <a:pt x="374" y="222"/>
                  </a:lnTo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304920" y="999360"/>
            <a:ext cx="4038480" cy="2962800"/>
            <a:chOff x="304920" y="999360"/>
            <a:chExt cx="4038480" cy="2962800"/>
          </a:xfrm>
        </p:grpSpPr>
        <p:sp>
          <p:nvSpPr>
            <p:cNvPr id="574" name=""/>
            <p:cNvSpPr/>
            <p:nvPr/>
          </p:nvSpPr>
          <p:spPr>
            <a:xfrm>
              <a:off x="457200" y="999360"/>
              <a:ext cx="375300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ctr"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cc00"/>
                  </a:solidFill>
                  <a:latin typeface="Arial Narrow"/>
                </a:rPr>
                <a:t>Paradigma de producción en mas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5" name=""/>
            <p:cNvGrpSpPr/>
            <p:nvPr/>
          </p:nvGrpSpPr>
          <p:grpSpPr>
            <a:xfrm>
              <a:off x="304920" y="1352520"/>
              <a:ext cx="4038480" cy="2609640"/>
              <a:chOff x="304920" y="1352520"/>
              <a:chExt cx="4038480" cy="2609640"/>
            </a:xfrm>
          </p:grpSpPr>
          <p:grpSp>
            <p:nvGrpSpPr>
              <p:cNvPr id="576" name=""/>
              <p:cNvGrpSpPr/>
              <p:nvPr/>
            </p:nvGrpSpPr>
            <p:grpSpPr>
              <a:xfrm>
                <a:off x="399960" y="1352520"/>
                <a:ext cx="3849480" cy="2609640"/>
                <a:chOff x="399960" y="1352520"/>
                <a:chExt cx="3849480" cy="2609640"/>
              </a:xfrm>
            </p:grpSpPr>
            <p:sp>
              <p:nvSpPr>
                <p:cNvPr id="577" name=""/>
                <p:cNvSpPr/>
                <p:nvPr/>
              </p:nvSpPr>
              <p:spPr>
                <a:xfrm>
                  <a:off x="399960" y="1352520"/>
                  <a:ext cx="3849480" cy="2609640"/>
                </a:xfrm>
                <a:custGeom>
                  <a:avLst/>
                  <a:gdLst/>
                  <a:ahLst/>
                  <a:rect l="l" t="t" r="r" b="b"/>
                  <a:pathLst>
                    <a:path w="1482" h="1434">
                      <a:moveTo>
                        <a:pt x="0" y="1433"/>
                      </a:moveTo>
                      <a:lnTo>
                        <a:pt x="0" y="0"/>
                      </a:lnTo>
                      <a:lnTo>
                        <a:pt x="1481" y="0"/>
                      </a:lnTo>
                      <a:lnTo>
                        <a:pt x="1481" y="1433"/>
                      </a:lnTo>
                      <a:lnTo>
                        <a:pt x="0" y="1433"/>
                      </a:lnTo>
                      <a:lnTo>
                        <a:pt x="0" y="1433"/>
                      </a:lnTo>
                      <a:lnTo>
                        <a:pt x="0" y="0"/>
                      </a:lnTo>
                      <a:lnTo>
                        <a:pt x="1481" y="0"/>
                      </a:lnTo>
                      <a:lnTo>
                        <a:pt x="1481" y="1433"/>
                      </a:lnTo>
                      <a:lnTo>
                        <a:pt x="0" y="1433"/>
                      </a:lnTo>
                      <a:lnTo>
                        <a:pt x="0" y="1433"/>
                      </a:lnTo>
                    </a:path>
                  </a:pathLst>
                </a:custGeom>
                <a:gradFill rotWithShape="0">
                  <a:gsLst>
                    <a:gs pos="0">
                      <a:srgbClr val="ffcc00"/>
                    </a:gs>
                    <a:gs pos="100000">
                      <a:srgbClr val="fefef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399960" y="1352520"/>
                  <a:ext cx="3849480" cy="2609640"/>
                </a:xfrm>
                <a:custGeom>
                  <a:avLst/>
                  <a:gdLst/>
                  <a:ahLst/>
                  <a:rect l="l" t="t" r="r" b="b"/>
                  <a:pathLst>
                    <a:path w="1482" h="1434">
                      <a:moveTo>
                        <a:pt x="0" y="1433"/>
                      </a:moveTo>
                      <a:lnTo>
                        <a:pt x="0" y="0"/>
                      </a:lnTo>
                      <a:lnTo>
                        <a:pt x="1481" y="0"/>
                      </a:lnTo>
                      <a:lnTo>
                        <a:pt x="1481" y="1433"/>
                      </a:lnTo>
                      <a:lnTo>
                        <a:pt x="0" y="1433"/>
                      </a:lnTo>
                    </a:path>
                  </a:pathLst>
                </a:custGeom>
                <a:gradFill rotWithShape="0">
                  <a:gsLst>
                    <a:gs pos="0">
                      <a:srgbClr val="ffcc00"/>
                    </a:gs>
                    <a:gs pos="100000">
                      <a:srgbClr val="fefef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399960" y="1352520"/>
                  <a:ext cx="3849480" cy="2609640"/>
                </a:xfrm>
                <a:custGeom>
                  <a:avLst/>
                  <a:gdLst/>
                  <a:ahLst/>
                  <a:rect l="l" t="t" r="r" b="b"/>
                  <a:pathLst>
                    <a:path w="1482" h="1434">
                      <a:moveTo>
                        <a:pt x="0" y="1433"/>
                      </a:moveTo>
                      <a:lnTo>
                        <a:pt x="0" y="0"/>
                      </a:lnTo>
                      <a:lnTo>
                        <a:pt x="1481" y="0"/>
                      </a:lnTo>
                      <a:lnTo>
                        <a:pt x="1481" y="1433"/>
                      </a:lnTo>
                      <a:lnTo>
                        <a:pt x="0" y="1433"/>
                      </a:lnTo>
                    </a:path>
                  </a:pathLst>
                </a:custGeom>
                <a:gradFill rotWithShape="0">
                  <a:gsLst>
                    <a:gs pos="0">
                      <a:srgbClr val="ffcc00"/>
                    </a:gs>
                    <a:gs pos="100000">
                      <a:srgbClr val="fefef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0" name=""/>
              <p:cNvSpPr/>
              <p:nvPr/>
            </p:nvSpPr>
            <p:spPr>
              <a:xfrm>
                <a:off x="1372320" y="2558160"/>
                <a:ext cx="1858680" cy="34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spAutoFit/>
              </a:bodyPr>
              <a:p>
                <a:pPr>
                  <a:lnSpc>
                    <a:spcPct val="9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TECNOLOGIA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373040" y="2859480"/>
                <a:ext cx="1962360" cy="86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b">
                <a:spAutoFit/>
              </a:bodyPr>
              <a:p>
                <a:pPr>
                  <a:lnSpc>
                    <a:spcPct val="3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• </a:t>
                </a: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Maduras</a:t>
                </a:r>
                <a:br>
                  <a:rPr sz="1800"/>
                </a:b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3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• </a:t>
                </a: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Robustas </a:t>
                </a:r>
                <a:br>
                  <a:rPr sz="1800"/>
                </a:b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30000"/>
                  </a:lnSpc>
                  <a:spcBef>
                    <a:spcPts val="6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• </a:t>
                </a:r>
                <a:r>
                  <a:rPr b="1" lang="es-ES_tradnl" sz="1800" spc="-1" strike="noStrike">
                    <a:solidFill>
                      <a:srgbClr val="000000"/>
                    </a:solidFill>
                    <a:latin typeface="Arial"/>
                  </a:rPr>
                  <a:t>Documentada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728720" y="2155680"/>
                <a:ext cx="1189080" cy="316080"/>
              </a:xfrm>
              <a:custGeom>
                <a:avLst/>
                <a:gdLst/>
                <a:ahLst/>
                <a:rect l="l" t="t" r="r" b="b"/>
                <a:pathLst>
                  <a:path w="749" h="223">
                    <a:moveTo>
                      <a:pt x="374" y="222"/>
                    </a:moveTo>
                    <a:lnTo>
                      <a:pt x="0" y="60"/>
                    </a:lnTo>
                    <a:lnTo>
                      <a:pt x="176" y="60"/>
                    </a:lnTo>
                    <a:lnTo>
                      <a:pt x="176" y="0"/>
                    </a:lnTo>
                    <a:lnTo>
                      <a:pt x="573" y="0"/>
                    </a:lnTo>
                    <a:lnTo>
                      <a:pt x="573" y="60"/>
                    </a:lnTo>
                    <a:lnTo>
                      <a:pt x="748" y="60"/>
                    </a:lnTo>
                    <a:lnTo>
                      <a:pt x="374" y="222"/>
                    </a:ln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04920" y="1470240"/>
                <a:ext cx="4038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EL DESARROLLO TECNOLÓGICO </a:t>
                </a:r>
                <a:br>
                  <a:rPr sz="1600"/>
                </a:b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COMO FUNCIÓN ESPECIALIZAD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4" name=""/>
          <p:cNvGrpSpPr/>
          <p:nvPr/>
        </p:nvGrpSpPr>
        <p:grpSpPr>
          <a:xfrm>
            <a:off x="4782960" y="4027320"/>
            <a:ext cx="4056120" cy="1992600"/>
            <a:chOff x="4782960" y="4027320"/>
            <a:chExt cx="4056120" cy="1992600"/>
          </a:xfrm>
        </p:grpSpPr>
        <p:sp>
          <p:nvSpPr>
            <p:cNvPr id="585" name=""/>
            <p:cNvSpPr/>
            <p:nvPr/>
          </p:nvSpPr>
          <p:spPr>
            <a:xfrm>
              <a:off x="6172200" y="4027320"/>
              <a:ext cx="1185840" cy="316080"/>
            </a:xfrm>
            <a:custGeom>
              <a:avLst/>
              <a:gdLst/>
              <a:ahLst/>
              <a:rect l="l" t="t" r="r" b="b"/>
              <a:pathLst>
                <a:path w="747" h="223">
                  <a:moveTo>
                    <a:pt x="373" y="222"/>
                  </a:moveTo>
                  <a:lnTo>
                    <a:pt x="0" y="59"/>
                  </a:lnTo>
                  <a:lnTo>
                    <a:pt x="174" y="59"/>
                  </a:lnTo>
                  <a:lnTo>
                    <a:pt x="174" y="0"/>
                  </a:lnTo>
                  <a:lnTo>
                    <a:pt x="572" y="0"/>
                  </a:lnTo>
                  <a:lnTo>
                    <a:pt x="572" y="59"/>
                  </a:lnTo>
                  <a:lnTo>
                    <a:pt x="746" y="59"/>
                  </a:lnTo>
                  <a:lnTo>
                    <a:pt x="373" y="222"/>
                  </a:lnTo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6" name=""/>
            <p:cNvGrpSpPr/>
            <p:nvPr/>
          </p:nvGrpSpPr>
          <p:grpSpPr>
            <a:xfrm>
              <a:off x="4782960" y="4495680"/>
              <a:ext cx="3997080" cy="1524240"/>
              <a:chOff x="4782960" y="4495680"/>
              <a:chExt cx="3997080" cy="1524240"/>
            </a:xfrm>
          </p:grpSpPr>
          <p:sp>
            <p:nvSpPr>
              <p:cNvPr id="587" name=""/>
              <p:cNvSpPr/>
              <p:nvPr/>
            </p:nvSpPr>
            <p:spPr>
              <a:xfrm>
                <a:off x="4782960" y="4495680"/>
                <a:ext cx="3997080" cy="1524240"/>
              </a:xfrm>
              <a:custGeom>
                <a:avLst/>
                <a:gdLst/>
                <a:ahLst/>
                <a:rect l="l" t="t" r="r" b="b"/>
                <a:pathLst>
                  <a:path w="1890" h="1472">
                    <a:moveTo>
                      <a:pt x="0" y="1471"/>
                    </a:moveTo>
                    <a:lnTo>
                      <a:pt x="0" y="0"/>
                    </a:lnTo>
                    <a:lnTo>
                      <a:pt x="1889" y="0"/>
                    </a:lnTo>
                    <a:lnTo>
                      <a:pt x="1889" y="1471"/>
                    </a:lnTo>
                    <a:lnTo>
                      <a:pt x="0" y="1471"/>
                    </a:lnTo>
                    <a:lnTo>
                      <a:pt x="0" y="1471"/>
                    </a:lnTo>
                    <a:lnTo>
                      <a:pt x="0" y="0"/>
                    </a:lnTo>
                    <a:lnTo>
                      <a:pt x="1889" y="0"/>
                    </a:lnTo>
                    <a:lnTo>
                      <a:pt x="1889" y="1471"/>
                    </a:lnTo>
                    <a:lnTo>
                      <a:pt x="0" y="1471"/>
                    </a:lnTo>
                    <a:lnTo>
                      <a:pt x="0" y="1471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782960" y="4495680"/>
                <a:ext cx="3997080" cy="1524240"/>
              </a:xfrm>
              <a:custGeom>
                <a:avLst/>
                <a:gdLst/>
                <a:ahLst/>
                <a:rect l="l" t="t" r="r" b="b"/>
                <a:pathLst>
                  <a:path w="1890" h="1472">
                    <a:moveTo>
                      <a:pt x="0" y="1471"/>
                    </a:moveTo>
                    <a:lnTo>
                      <a:pt x="0" y="0"/>
                    </a:lnTo>
                    <a:lnTo>
                      <a:pt x="1889" y="0"/>
                    </a:lnTo>
                    <a:lnTo>
                      <a:pt x="1889" y="1471"/>
                    </a:lnTo>
                    <a:lnTo>
                      <a:pt x="0" y="1471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782960" y="4495680"/>
                <a:ext cx="3997080" cy="1524240"/>
              </a:xfrm>
              <a:custGeom>
                <a:avLst/>
                <a:gdLst/>
                <a:ahLst/>
                <a:rect l="l" t="t" r="r" b="b"/>
                <a:pathLst>
                  <a:path w="1890" h="1472">
                    <a:moveTo>
                      <a:pt x="0" y="1471"/>
                    </a:moveTo>
                    <a:lnTo>
                      <a:pt x="0" y="0"/>
                    </a:lnTo>
                    <a:lnTo>
                      <a:pt x="1889" y="0"/>
                    </a:lnTo>
                    <a:lnTo>
                      <a:pt x="1889" y="1471"/>
                    </a:lnTo>
                    <a:lnTo>
                      <a:pt x="0" y="1471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0" name=""/>
            <p:cNvSpPr/>
            <p:nvPr/>
          </p:nvSpPr>
          <p:spPr>
            <a:xfrm>
              <a:off x="5105520" y="4573440"/>
              <a:ext cx="3276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propiación  profunda </a:t>
              </a:r>
              <a:br>
                <a:rPr sz="1600"/>
              </a:b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de la tecnología por el </a:t>
              </a:r>
              <a:br>
                <a:rPr sz="1600"/>
              </a:b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capital humano de la empre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105520" y="5334480"/>
              <a:ext cx="3733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marL="169920" indent="-16992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Si se transfiere, exige procesos activos de capt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0" y="33120"/>
            <a:ext cx="9142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LA INNOVACIÓN EN EL NUEVO PARADIG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Y LA TRANSFERENCIA DE TECNOL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4749840" y="999360"/>
            <a:ext cx="4030200" cy="2962800"/>
            <a:chOff x="4749840" y="999360"/>
            <a:chExt cx="4030200" cy="2962800"/>
          </a:xfrm>
        </p:grpSpPr>
        <p:grpSp>
          <p:nvGrpSpPr>
            <p:cNvPr id="594" name=""/>
            <p:cNvGrpSpPr/>
            <p:nvPr/>
          </p:nvGrpSpPr>
          <p:grpSpPr>
            <a:xfrm>
              <a:off x="4749840" y="1352520"/>
              <a:ext cx="4030200" cy="2609640"/>
              <a:chOff x="4749840" y="1352520"/>
              <a:chExt cx="4030200" cy="2609640"/>
            </a:xfrm>
          </p:grpSpPr>
          <p:sp>
            <p:nvSpPr>
              <p:cNvPr id="595" name=""/>
              <p:cNvSpPr/>
              <p:nvPr/>
            </p:nvSpPr>
            <p:spPr>
              <a:xfrm>
                <a:off x="4749840" y="1352520"/>
                <a:ext cx="4030200" cy="2609640"/>
              </a:xfrm>
              <a:custGeom>
                <a:avLst/>
                <a:gdLst/>
                <a:ahLst/>
                <a:rect l="l" t="t" r="r" b="b"/>
                <a:pathLst>
                  <a:path w="1890" h="1434">
                    <a:moveTo>
                      <a:pt x="0" y="1433"/>
                    </a:moveTo>
                    <a:lnTo>
                      <a:pt x="0" y="0"/>
                    </a:lnTo>
                    <a:lnTo>
                      <a:pt x="1889" y="0"/>
                    </a:lnTo>
                    <a:lnTo>
                      <a:pt x="1889" y="1433"/>
                    </a:lnTo>
                    <a:lnTo>
                      <a:pt x="0" y="1433"/>
                    </a:lnTo>
                    <a:lnTo>
                      <a:pt x="0" y="1433"/>
                    </a:lnTo>
                    <a:lnTo>
                      <a:pt x="0" y="0"/>
                    </a:lnTo>
                    <a:lnTo>
                      <a:pt x="1889" y="0"/>
                    </a:lnTo>
                    <a:lnTo>
                      <a:pt x="1889" y="1433"/>
                    </a:lnTo>
                    <a:lnTo>
                      <a:pt x="0" y="1433"/>
                    </a:lnTo>
                    <a:lnTo>
                      <a:pt x="0" y="1433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4749840" y="1352520"/>
                <a:ext cx="4030200" cy="2609640"/>
              </a:xfrm>
              <a:custGeom>
                <a:avLst/>
                <a:gdLst/>
                <a:ahLst/>
                <a:rect l="l" t="t" r="r" b="b"/>
                <a:pathLst>
                  <a:path w="1890" h="1434">
                    <a:moveTo>
                      <a:pt x="0" y="1433"/>
                    </a:moveTo>
                    <a:lnTo>
                      <a:pt x="0" y="0"/>
                    </a:lnTo>
                    <a:lnTo>
                      <a:pt x="1889" y="0"/>
                    </a:lnTo>
                    <a:lnTo>
                      <a:pt x="1889" y="1433"/>
                    </a:lnTo>
                    <a:lnTo>
                      <a:pt x="0" y="1433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749840" y="1352520"/>
                <a:ext cx="4030200" cy="2609640"/>
              </a:xfrm>
              <a:custGeom>
                <a:avLst/>
                <a:gdLst/>
                <a:ahLst/>
                <a:rect l="l" t="t" r="r" b="b"/>
                <a:pathLst>
                  <a:path w="1890" h="1434">
                    <a:moveTo>
                      <a:pt x="0" y="1433"/>
                    </a:moveTo>
                    <a:lnTo>
                      <a:pt x="0" y="0"/>
                    </a:lnTo>
                    <a:lnTo>
                      <a:pt x="1889" y="0"/>
                    </a:lnTo>
                    <a:lnTo>
                      <a:pt x="1889" y="1433"/>
                    </a:lnTo>
                    <a:lnTo>
                      <a:pt x="0" y="1433"/>
                    </a:lnTo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8" name=""/>
            <p:cNvSpPr/>
            <p:nvPr/>
          </p:nvSpPr>
          <p:spPr>
            <a:xfrm>
              <a:off x="4952880" y="2881800"/>
              <a:ext cx="3657600" cy="84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marL="169920" indent="-169920">
                <a:lnSpc>
                  <a:spcPct val="7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•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Dinám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69920" indent="-169920">
                <a:lnSpc>
                  <a:spcPct val="7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•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Específicas a la empre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69920" indent="-169920">
                <a:lnSpc>
                  <a:spcPct val="7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•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on alto componente táci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876920" y="999360"/>
              <a:ext cx="379224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ctr">
                <a:lnSpc>
                  <a:spcPct val="6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cc00"/>
                  </a:solidFill>
                  <a:latin typeface="Arial Narrow"/>
                </a:rPr>
                <a:t>Paradigma de producción flexi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2057400"/>
              <a:ext cx="1185840" cy="316080"/>
            </a:xfrm>
            <a:custGeom>
              <a:avLst/>
              <a:gdLst/>
              <a:ahLst/>
              <a:rect l="l" t="t" r="r" b="b"/>
              <a:pathLst>
                <a:path w="747" h="223">
                  <a:moveTo>
                    <a:pt x="373" y="222"/>
                  </a:moveTo>
                  <a:lnTo>
                    <a:pt x="0" y="59"/>
                  </a:lnTo>
                  <a:lnTo>
                    <a:pt x="174" y="59"/>
                  </a:lnTo>
                  <a:lnTo>
                    <a:pt x="174" y="0"/>
                  </a:lnTo>
                  <a:lnTo>
                    <a:pt x="572" y="0"/>
                  </a:lnTo>
                  <a:lnTo>
                    <a:pt x="572" y="59"/>
                  </a:lnTo>
                  <a:lnTo>
                    <a:pt x="746" y="59"/>
                  </a:lnTo>
                  <a:lnTo>
                    <a:pt x="373" y="222"/>
                  </a:lnTo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800600" y="1444320"/>
              <a:ext cx="388620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LA INGENIERÍA SIMULTÁNE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Y LA MEJORA CONTINU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836320" y="2554920"/>
              <a:ext cx="18586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spAutoFit/>
            </a:bodyPr>
            <a:p>
              <a:pPr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TECNOLOG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152280" y="6196680"/>
            <a:ext cx="8516880" cy="326520"/>
            <a:chOff x="152280" y="6196680"/>
            <a:chExt cx="8516880" cy="326520"/>
          </a:xfrm>
        </p:grpSpPr>
        <p:sp>
          <p:nvSpPr>
            <p:cNvPr id="604" name=""/>
            <p:cNvSpPr/>
            <p:nvPr/>
          </p:nvSpPr>
          <p:spPr>
            <a:xfrm>
              <a:off x="152280" y="6197760"/>
              <a:ext cx="43434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ctr">
                <a:lnSpc>
                  <a:spcPct val="80000"/>
                </a:lnSpc>
                <a:spcBef>
                  <a:spcPts val="7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900" spc="-1" strike="noStrike">
                  <a:solidFill>
                    <a:srgbClr val="ffcc00"/>
                  </a:solidFill>
                  <a:latin typeface="Arial Narrow"/>
                </a:rPr>
                <a:t>TRANSFERENCIA POR COMPRA-VENT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645080" y="6196680"/>
              <a:ext cx="4024080" cy="2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ctr">
                <a:lnSpc>
                  <a:spcPct val="60000"/>
                </a:lnSpc>
                <a:spcBef>
                  <a:spcPts val="7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900" spc="-1" strike="noStrike">
                  <a:solidFill>
                    <a:srgbClr val="ffcc00"/>
                  </a:solidFill>
                  <a:latin typeface="Arial Narrow"/>
                </a:rPr>
                <a:t>TRANSFERENCIA POR ALIANZA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ad35"/>
            </a:gs>
            <a:gs pos="50000">
              <a:srgbClr val="b07824"/>
            </a:gs>
            <a:gs pos="100000">
              <a:srgbClr val="fead3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5043600" y="23130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0" y="-12600"/>
            <a:ext cx="8771040" cy="3198600"/>
            <a:chOff x="0" y="-12600"/>
            <a:chExt cx="8771040" cy="3198600"/>
          </a:xfrm>
        </p:grpSpPr>
        <p:sp>
          <p:nvSpPr>
            <p:cNvPr id="608" name=""/>
            <p:cNvSpPr/>
            <p:nvPr/>
          </p:nvSpPr>
          <p:spPr>
            <a:xfrm>
              <a:off x="0" y="-12600"/>
              <a:ext cx="3422520" cy="3198600"/>
            </a:xfrm>
            <a:prstGeom prst="rightArrow">
              <a:avLst>
                <a:gd name="adj1" fmla="val 74676"/>
                <a:gd name="adj2" fmla="val 12211"/>
              </a:avLst>
            </a:prstGeom>
            <a:gradFill rotWithShape="0">
              <a:gsLst>
                <a:gs pos="0">
                  <a:srgbClr val="634812"/>
                </a:gs>
                <a:gs pos="100000">
                  <a:srgbClr val="d79d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22800" y="626760"/>
              <a:ext cx="2107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LA DIFEREN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745080" y="628560"/>
              <a:ext cx="5025960" cy="250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Idoneidad de la estrateg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Calidad del capital human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Calidad de las redes y alianz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Innovativida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0" y="3657600"/>
            <a:ext cx="9144000" cy="3198960"/>
            <a:chOff x="0" y="3657600"/>
            <a:chExt cx="9144000" cy="3198960"/>
          </a:xfrm>
        </p:grpSpPr>
        <p:sp>
          <p:nvSpPr>
            <p:cNvPr id="612" name=""/>
            <p:cNvSpPr/>
            <p:nvPr/>
          </p:nvSpPr>
          <p:spPr>
            <a:xfrm>
              <a:off x="0" y="3657600"/>
              <a:ext cx="3394080" cy="3198960"/>
            </a:xfrm>
            <a:prstGeom prst="rightArrow">
              <a:avLst>
                <a:gd name="adj1" fmla="val 74676"/>
                <a:gd name="adj2" fmla="val 12108"/>
              </a:avLst>
            </a:prstGeom>
            <a:gradFill rotWithShape="0">
              <a:gsLst>
                <a:gs pos="0">
                  <a:srgbClr val="634812"/>
                </a:gs>
                <a:gs pos="100000">
                  <a:srgbClr val="d79d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11240" y="4662360"/>
              <a:ext cx="262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EL PIS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745080" y="4206960"/>
              <a:ext cx="5398920" cy="18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Recursos y ventaj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Informatiz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5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Organización moder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228600" y="307332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cb39"/>
                </a:solidFill>
                <a:latin typeface="Arial Narrow"/>
              </a:rPr>
              <a:t>La competitividad en el período de despliegue de este paradig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0" y="4876920"/>
            <a:ext cx="9144000" cy="1981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0" y="0"/>
            <a:ext cx="914400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b39"/>
                </a:solidFill>
                <a:latin typeface="Arial Narrow"/>
              </a:rPr>
              <a:t>Una red panamericana de alianzas</a:t>
            </a:r>
            <a:br>
              <a:rPr sz="2400"/>
            </a:br>
            <a:r>
              <a:rPr b="1" lang="es-ES_tradnl" sz="2400" spc="-1" strike="noStrike">
                <a:solidFill>
                  <a:srgbClr val="ffcb39"/>
                </a:solidFill>
                <a:latin typeface="Arial Narrow"/>
              </a:rPr>
              <a:t>para convertir al continente</a:t>
            </a:r>
            <a:br>
              <a:rPr sz="2400"/>
            </a:br>
            <a:r>
              <a:rPr b="1" lang="es-ES_tradnl" sz="2400" spc="-1" strike="noStrike">
                <a:solidFill>
                  <a:srgbClr val="ffcb39"/>
                </a:solidFill>
                <a:latin typeface="Arial Narrow"/>
              </a:rPr>
              <a:t>en el proveedor mundial de materiales especializados de todo tipo (incluyendo productos naturales y renovables)</a:t>
            </a:r>
            <a:br>
              <a:rPr sz="2400"/>
            </a:br>
            <a:r>
              <a:rPr b="1" lang="es-ES_tradnl" sz="2400" spc="-1" strike="noStrike">
                <a:solidFill>
                  <a:srgbClr val="ffcb39"/>
                </a:solidFill>
                <a:latin typeface="Arial Narrow"/>
              </a:rPr>
              <a:t>y los servicios conexos</a:t>
            </a:r>
            <a:r>
              <a:rPr b="1" lang="es-ES_tradnl" sz="1200" spc="-1" strike="noStrike">
                <a:solidFill>
                  <a:srgbClr val="ffcb39"/>
                </a:solidFill>
                <a:latin typeface="Arial Narro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476520" y="5867280"/>
            <a:ext cx="22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IMAG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1752480" y="2100240"/>
            <a:ext cx="6782040" cy="2319120"/>
            <a:chOff x="1752480" y="2100240"/>
            <a:chExt cx="6782040" cy="2319120"/>
          </a:xfrm>
        </p:grpSpPr>
        <p:sp>
          <p:nvSpPr>
            <p:cNvPr id="620" name=""/>
            <p:cNvSpPr/>
            <p:nvPr/>
          </p:nvSpPr>
          <p:spPr>
            <a:xfrm>
              <a:off x="1752480" y="2619360"/>
              <a:ext cx="6782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Los recursos naturales y la  experiencia asocia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El capital humano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Las ciencias químicas y de la vi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0" lang="es-ES_tradnl" sz="1800" spc="-1" strike="noStrike">
                  <a:solidFill>
                    <a:srgbClr val="ffffff"/>
                  </a:solidFill>
                  <a:latin typeface="Arial"/>
                </a:rPr>
                <a:t>La experiencia ingenieril, gerencial y empresaria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593440" y="2100240"/>
              <a:ext cx="3989160" cy="23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ffff"/>
                  </a:solidFill>
                  <a:latin typeface="Arial"/>
                </a:rPr>
                <a:t>REUNIR EN REDES Y POTENCIAR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Arial"/>
                </a:rPr>
                <a:t>DEL NORTE Y DEL SU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99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2" name=""/>
          <p:cNvGrpSpPr/>
          <p:nvPr/>
        </p:nvGrpSpPr>
        <p:grpSpPr>
          <a:xfrm>
            <a:off x="677880" y="1066680"/>
            <a:ext cx="8092800" cy="1479240"/>
            <a:chOff x="677880" y="1066680"/>
            <a:chExt cx="8092800" cy="1479240"/>
          </a:xfrm>
        </p:grpSpPr>
        <p:sp>
          <p:nvSpPr>
            <p:cNvPr id="623" name=""/>
            <p:cNvSpPr/>
            <p:nvPr/>
          </p:nvSpPr>
          <p:spPr>
            <a:xfrm>
              <a:off x="1786680" y="1066680"/>
              <a:ext cx="6555960" cy="1479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549880" y="1363680"/>
              <a:ext cx="6220800" cy="88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900" spc="-1" strike="noStrike">
                  <a:solidFill>
                    <a:srgbClr val="b2b2b2"/>
                  </a:solidFill>
                  <a:latin typeface="Arial Narrow"/>
                </a:rPr>
                <a:t>Las regularidades históricas </a:t>
              </a:r>
              <a:br>
                <a:rPr sz="2900"/>
              </a:br>
              <a:r>
                <a:rPr b="1" lang="es-ES_tradnl" sz="2900" spc="-1" strike="noStrike">
                  <a:solidFill>
                    <a:srgbClr val="b2b2b2"/>
                  </a:solidFill>
                  <a:latin typeface="Arial Narrow"/>
                </a:rPr>
                <a:t>en los cambios de contexto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77880" y="1066680"/>
              <a:ext cx="1110960" cy="1479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063440" y="1418760"/>
              <a:ext cx="39816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b2b2b2"/>
                  </a:solidFill>
                  <a:latin typeface="Arial Narrow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685800" y="4038480"/>
            <a:ext cx="8076960" cy="1533240"/>
            <a:chOff x="685800" y="4038480"/>
            <a:chExt cx="8076960" cy="1533240"/>
          </a:xfrm>
        </p:grpSpPr>
        <p:sp>
          <p:nvSpPr>
            <p:cNvPr id="628" name=""/>
            <p:cNvSpPr/>
            <p:nvPr/>
          </p:nvSpPr>
          <p:spPr>
            <a:xfrm>
              <a:off x="1790280" y="4038480"/>
              <a:ext cx="6544800" cy="153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554560" y="4321080"/>
              <a:ext cx="6208200" cy="97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Innovaciones institucionales</a:t>
              </a:r>
              <a:br>
                <a:rPr sz="2900"/>
              </a:b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adecuadas y oportunas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85800" y="4040640"/>
              <a:ext cx="1108800" cy="1531080"/>
            </a:xfrm>
            <a:prstGeom prst="rect">
              <a:avLst/>
            </a:prstGeom>
            <a:gradFill rotWithShape="0">
              <a:gsLst>
                <a:gs pos="0">
                  <a:srgbClr val="4c2e00"/>
                </a:gs>
                <a:gs pos="50000">
                  <a:srgbClr val="ff9900"/>
                </a:gs>
                <a:gs pos="100000">
                  <a:srgbClr val="4c2e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058400" y="4417920"/>
              <a:ext cx="397440" cy="69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673200" y="2590920"/>
            <a:ext cx="8098920" cy="1425240"/>
            <a:chOff x="673200" y="2590920"/>
            <a:chExt cx="8098920" cy="1425240"/>
          </a:xfrm>
        </p:grpSpPr>
        <p:sp>
          <p:nvSpPr>
            <p:cNvPr id="633" name=""/>
            <p:cNvSpPr/>
            <p:nvPr/>
          </p:nvSpPr>
          <p:spPr>
            <a:xfrm>
              <a:off x="1742400" y="2590920"/>
              <a:ext cx="6603480" cy="1425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73200" y="2590920"/>
              <a:ext cx="1111680" cy="1425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046160" y="2894400"/>
              <a:ext cx="398880" cy="6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b2b2b2"/>
                  </a:solidFill>
                  <a:latin typeface="Arial Narrow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48440" y="2784960"/>
              <a:ext cx="6223680" cy="97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900" spc="-1" strike="noStrike">
                  <a:solidFill>
                    <a:srgbClr val="b2b2b2"/>
                  </a:solidFill>
                  <a:latin typeface="Arial Narrow"/>
                </a:rPr>
                <a:t>Lo específico del paradigma</a:t>
              </a:r>
              <a:br>
                <a:rPr sz="2900"/>
              </a:br>
              <a:r>
                <a:rPr b="1" lang="es-ES_tradnl" sz="2900" spc="-1" strike="noStrike">
                  <a:solidFill>
                    <a:srgbClr val="b2b2b2"/>
                  </a:solidFill>
                  <a:latin typeface="Arial Narrow"/>
                </a:rPr>
                <a:t>de la Revolución  Informática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"/>
          <p:cNvGrpSpPr/>
          <p:nvPr/>
        </p:nvGrpSpPr>
        <p:grpSpPr>
          <a:xfrm>
            <a:off x="379440" y="219240"/>
            <a:ext cx="3490920" cy="5722920"/>
            <a:chOff x="379440" y="219240"/>
            <a:chExt cx="3490920" cy="5722920"/>
          </a:xfrm>
        </p:grpSpPr>
        <p:grpSp>
          <p:nvGrpSpPr>
            <p:cNvPr id="638" name=""/>
            <p:cNvGrpSpPr/>
            <p:nvPr/>
          </p:nvGrpSpPr>
          <p:grpSpPr>
            <a:xfrm>
              <a:off x="379440" y="219240"/>
              <a:ext cx="3490920" cy="5722920"/>
              <a:chOff x="379440" y="219240"/>
              <a:chExt cx="3490920" cy="5722920"/>
            </a:xfrm>
          </p:grpSpPr>
          <p:sp>
            <p:nvSpPr>
              <p:cNvPr id="639" name=""/>
              <p:cNvSpPr/>
              <p:nvPr/>
            </p:nvSpPr>
            <p:spPr>
              <a:xfrm>
                <a:off x="379440" y="219240"/>
                <a:ext cx="3201840" cy="5722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8100000" blurRad="0" rotWithShape="0">
                  <a:srgbClr val="3333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0" name=""/>
              <p:cNvGrpSpPr/>
              <p:nvPr/>
            </p:nvGrpSpPr>
            <p:grpSpPr>
              <a:xfrm>
                <a:off x="654120" y="1579680"/>
                <a:ext cx="3216240" cy="4209480"/>
                <a:chOff x="654120" y="1579680"/>
                <a:chExt cx="3216240" cy="4209480"/>
              </a:xfrm>
            </p:grpSpPr>
            <p:sp>
              <p:nvSpPr>
                <p:cNvPr id="641" name=""/>
                <p:cNvSpPr/>
                <p:nvPr/>
              </p:nvSpPr>
              <p:spPr>
                <a:xfrm>
                  <a:off x="655200" y="1579680"/>
                  <a:ext cx="2032920" cy="70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85000"/>
                    </a:lnSpc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Sector primario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Agricultura, pesca,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minería, etc.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655200" y="2360880"/>
                  <a:ext cx="2313360" cy="70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85000"/>
                    </a:lnSpc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Industri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Tradicional, moderna,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de punt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654120" y="3179880"/>
                  <a:ext cx="3025800" cy="112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85000"/>
                    </a:lnSpc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Sector terciario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Comercio, transporte,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comunicaciones,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energía, finanzas,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publicidad, turismo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654120" y="4456080"/>
                  <a:ext cx="3216240" cy="78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85000"/>
                    </a:lnSpc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Servicios público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Educación, salud, etc      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654120" y="5027760"/>
                  <a:ext cx="2968560" cy="76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85000"/>
                    </a:lnSpc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Gobierno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8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Ejecutivo, legislativo,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8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s-ES_tradnl" sz="1600" spc="-1" strike="noStrike">
                      <a:solidFill>
                        <a:srgbClr val="000000"/>
                      </a:solidFill>
                      <a:latin typeface="Arial"/>
                    </a:rPr>
                    <a:t>judicial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6" name=""/>
            <p:cNvSpPr/>
            <p:nvPr/>
          </p:nvSpPr>
          <p:spPr>
            <a:xfrm>
              <a:off x="766800" y="380880"/>
              <a:ext cx="250992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300" spc="-1" strike="noStrike">
                  <a:solidFill>
                    <a:srgbClr val="000000"/>
                  </a:solidFill>
                  <a:latin typeface="Arial Narrow"/>
                </a:rPr>
                <a:t>MODERNIZA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300" spc="-1" strike="noStrike">
                  <a:solidFill>
                    <a:srgbClr val="000000"/>
                  </a:solidFill>
                  <a:latin typeface="Arial Narrow"/>
                </a:rPr>
                <a:t>CUALQUIER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300" spc="-1" strike="noStrike">
                  <a:solidFill>
                    <a:srgbClr val="000000"/>
                  </a:solidFill>
                  <a:latin typeface="Arial Narrow"/>
                </a:rPr>
                <a:t>ACTIVIDAD: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5638680" y="219240"/>
            <a:ext cx="3165480" cy="5724360"/>
            <a:chOff x="5638680" y="219240"/>
            <a:chExt cx="3165480" cy="5724360"/>
          </a:xfrm>
        </p:grpSpPr>
        <p:sp>
          <p:nvSpPr>
            <p:cNvPr id="648" name=""/>
            <p:cNvSpPr/>
            <p:nvPr/>
          </p:nvSpPr>
          <p:spPr>
            <a:xfrm>
              <a:off x="5638680" y="219240"/>
              <a:ext cx="3165480" cy="5724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3333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404040" y="450720"/>
              <a:ext cx="2206440" cy="501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300" spc="-1" strike="noStrike">
                  <a:solidFill>
                    <a:srgbClr val="000000"/>
                  </a:solidFill>
                  <a:latin typeface="Arial Narrow"/>
                </a:rPr>
                <a:t>CAMBIA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300" spc="-1" strike="noStrike">
                  <a:solidFill>
                    <a:srgbClr val="000000"/>
                  </a:solidFill>
                  <a:latin typeface="Arial Narrow"/>
                </a:rPr>
                <a:t>TODOS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300" spc="-1" strike="noStrike">
                  <a:solidFill>
                    <a:srgbClr val="000000"/>
                  </a:solidFill>
                  <a:latin typeface="Arial Narrow"/>
                </a:rPr>
                <a:t>LOS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300" spc="-1" strike="noStrike">
                  <a:solidFill>
                    <a:srgbClr val="000000"/>
                  </a:solidFill>
                  <a:latin typeface="Arial Narrow"/>
                </a:rPr>
                <a:t>PATRONES 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300" spc="-1" strike="noStrike">
                  <a:solidFill>
                    <a:srgbClr val="000000"/>
                  </a:solidFill>
                  <a:latin typeface="Arial Narrow"/>
                </a:rPr>
                <a:t>DE EFICIENCIA: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De empresas y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organizaci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De cualquie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tamaño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Gigantes,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grandes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medianas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pequeñ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o micr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A todas la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escal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Global, nac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o local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604440" y="6095880"/>
            <a:ext cx="8316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l modelo institucional para promover la competitividad</a:t>
            </a: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también tiene que ser mod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3048120" y="1447920"/>
            <a:ext cx="3276360" cy="3047760"/>
            <a:chOff x="3048120" y="1447920"/>
            <a:chExt cx="3276360" cy="3047760"/>
          </a:xfrm>
        </p:grpSpPr>
        <p:sp>
          <p:nvSpPr>
            <p:cNvPr id="652" name=""/>
            <p:cNvSpPr/>
            <p:nvPr/>
          </p:nvSpPr>
          <p:spPr>
            <a:xfrm>
              <a:off x="3048120" y="1447920"/>
              <a:ext cx="3276360" cy="3047760"/>
            </a:xfrm>
            <a:prstGeom prst="ellipse">
              <a:avLst/>
            </a:prstGeom>
            <a:gradFill rotWithShape="0">
              <a:gsLst>
                <a:gs pos="0">
                  <a:srgbClr val="babaed"/>
                </a:gs>
                <a:gs pos="100000">
                  <a:srgbClr val="3333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502080" y="2287440"/>
              <a:ext cx="2368440" cy="13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ffcc00"/>
                  </a:solidFill>
                  <a:latin typeface="Arial"/>
                </a:rPr>
                <a:t>EL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ffcc00"/>
                  </a:solidFill>
                  <a:latin typeface="Arial"/>
                </a:rPr>
                <a:t>NUEV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ffcc00"/>
                  </a:solidFill>
                  <a:latin typeface="Arial"/>
                </a:rPr>
                <a:t>PARADIGM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5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2806"/>
            </a:gs>
            <a:gs pos="50000">
              <a:srgbClr val="f9a919"/>
            </a:gs>
            <a:gs pos="100000">
              <a:srgbClr val="3c28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1526400" y="254160"/>
            <a:ext cx="672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DESECHAR DOGMAS, SUPERAR DICOTOMÍ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1857960" y="1973160"/>
            <a:ext cx="5232960" cy="496080"/>
            <a:chOff x="1857960" y="1973160"/>
            <a:chExt cx="5232960" cy="496080"/>
          </a:xfrm>
        </p:grpSpPr>
        <p:sp>
          <p:nvSpPr>
            <p:cNvPr id="656" name=""/>
            <p:cNvSpPr/>
            <p:nvPr/>
          </p:nvSpPr>
          <p:spPr>
            <a:xfrm>
              <a:off x="3962520" y="2085840"/>
              <a:ext cx="1218960" cy="304560"/>
            </a:xfrm>
            <a:prstGeom prst="leftRightArrow">
              <a:avLst>
                <a:gd name="adj1" fmla="val 50000"/>
                <a:gd name="adj2" fmla="val 79677"/>
              </a:avLst>
            </a:prstGeom>
            <a:gradFill rotWithShape="0">
              <a:gsLst>
                <a:gs pos="0">
                  <a:srgbClr val="fef7e6"/>
                </a:gs>
                <a:gs pos="50000">
                  <a:srgbClr val="ffcb39"/>
                </a:gs>
                <a:gs pos="100000">
                  <a:srgbClr val="fef7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857960" y="1973160"/>
              <a:ext cx="168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tranjer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640840" y="2009520"/>
              <a:ext cx="145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acion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609480" y="6019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975320" y="5386320"/>
            <a:ext cx="58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i lo uno ni lo otro sino ambos a la v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2328840" y="1371600"/>
            <a:ext cx="4834080" cy="459720"/>
            <a:chOff x="2328840" y="1371600"/>
            <a:chExt cx="4834080" cy="459720"/>
          </a:xfrm>
        </p:grpSpPr>
        <p:sp>
          <p:nvSpPr>
            <p:cNvPr id="662" name=""/>
            <p:cNvSpPr/>
            <p:nvPr/>
          </p:nvSpPr>
          <p:spPr>
            <a:xfrm>
              <a:off x="5638680" y="137160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erca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328840" y="137160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sta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962520" y="1447920"/>
              <a:ext cx="1218960" cy="304920"/>
            </a:xfrm>
            <a:prstGeom prst="leftRightArrow">
              <a:avLst>
                <a:gd name="adj1" fmla="val 50000"/>
                <a:gd name="adj2" fmla="val 79582"/>
              </a:avLst>
            </a:prstGeom>
            <a:gradFill rotWithShape="0">
              <a:gsLst>
                <a:gs pos="0">
                  <a:srgbClr val="fef7e6"/>
                </a:gs>
                <a:gs pos="50000">
                  <a:srgbClr val="ffcb39"/>
                </a:gs>
                <a:gs pos="100000">
                  <a:srgbClr val="fef7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536760" y="2612880"/>
            <a:ext cx="7468560" cy="459720"/>
            <a:chOff x="536760" y="2612880"/>
            <a:chExt cx="7468560" cy="459720"/>
          </a:xfrm>
        </p:grpSpPr>
        <p:sp>
          <p:nvSpPr>
            <p:cNvPr id="666" name=""/>
            <p:cNvSpPr/>
            <p:nvPr/>
          </p:nvSpPr>
          <p:spPr>
            <a:xfrm>
              <a:off x="536760" y="2612880"/>
              <a:ext cx="300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cursos natura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639040" y="2612880"/>
              <a:ext cx="236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lta tecnologí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962520" y="2725560"/>
              <a:ext cx="1218960" cy="304920"/>
            </a:xfrm>
            <a:prstGeom prst="leftRightArrow">
              <a:avLst>
                <a:gd name="adj1" fmla="val 50000"/>
                <a:gd name="adj2" fmla="val 79582"/>
              </a:avLst>
            </a:prstGeom>
            <a:gradFill rotWithShape="0">
              <a:gsLst>
                <a:gs pos="0">
                  <a:srgbClr val="fef7e6"/>
                </a:gs>
                <a:gs pos="50000">
                  <a:srgbClr val="ffcb39"/>
                </a:gs>
                <a:gs pos="100000">
                  <a:srgbClr val="fef7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638640" y="3216240"/>
            <a:ext cx="8145720" cy="459720"/>
            <a:chOff x="638640" y="3216240"/>
            <a:chExt cx="8145720" cy="459720"/>
          </a:xfrm>
        </p:grpSpPr>
        <p:sp>
          <p:nvSpPr>
            <p:cNvPr id="670" name=""/>
            <p:cNvSpPr/>
            <p:nvPr/>
          </p:nvSpPr>
          <p:spPr>
            <a:xfrm>
              <a:off x="638640" y="3216240"/>
              <a:ext cx="290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Empresas grand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642640" y="3216240"/>
              <a:ext cx="314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Empresas pequeñ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962520" y="3328920"/>
              <a:ext cx="1218960" cy="304920"/>
            </a:xfrm>
            <a:prstGeom prst="leftRightArrow">
              <a:avLst>
                <a:gd name="adj1" fmla="val 50000"/>
                <a:gd name="adj2" fmla="val 79582"/>
              </a:avLst>
            </a:prstGeom>
            <a:gradFill rotWithShape="0">
              <a:gsLst>
                <a:gs pos="0">
                  <a:srgbClr val="fef7e6"/>
                </a:gs>
                <a:gs pos="50000">
                  <a:srgbClr val="ffcb39"/>
                </a:gs>
                <a:gs pos="100000">
                  <a:srgbClr val="fef7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1385280" y="3819600"/>
            <a:ext cx="6806520" cy="496080"/>
            <a:chOff x="1385280" y="3819600"/>
            <a:chExt cx="6806520" cy="496080"/>
          </a:xfrm>
        </p:grpSpPr>
        <p:sp>
          <p:nvSpPr>
            <p:cNvPr id="674" name=""/>
            <p:cNvSpPr/>
            <p:nvPr/>
          </p:nvSpPr>
          <p:spPr>
            <a:xfrm>
              <a:off x="1385280" y="3819600"/>
              <a:ext cx="21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Globaliz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39760" y="3855960"/>
              <a:ext cx="255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Mercado intern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62520" y="3931920"/>
              <a:ext cx="1218960" cy="304560"/>
            </a:xfrm>
            <a:prstGeom prst="leftRightArrow">
              <a:avLst>
                <a:gd name="adj1" fmla="val 50000"/>
                <a:gd name="adj2" fmla="val 79677"/>
              </a:avLst>
            </a:prstGeom>
            <a:gradFill rotWithShape="0">
              <a:gsLst>
                <a:gs pos="0">
                  <a:srgbClr val="fef7e6"/>
                </a:gs>
                <a:gs pos="50000">
                  <a:srgbClr val="ffcb39"/>
                </a:gs>
                <a:gs pos="100000">
                  <a:srgbClr val="fef7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7" name=""/>
          <p:cNvGrpSpPr/>
          <p:nvPr/>
        </p:nvGrpSpPr>
        <p:grpSpPr>
          <a:xfrm>
            <a:off x="1451880" y="4459320"/>
            <a:ext cx="6230520" cy="496080"/>
            <a:chOff x="1451880" y="4459320"/>
            <a:chExt cx="6230520" cy="496080"/>
          </a:xfrm>
        </p:grpSpPr>
        <p:sp>
          <p:nvSpPr>
            <p:cNvPr id="678" name=""/>
            <p:cNvSpPr/>
            <p:nvPr/>
          </p:nvSpPr>
          <p:spPr>
            <a:xfrm>
              <a:off x="1451880" y="4459320"/>
              <a:ext cx="209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Competen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640840" y="4495680"/>
              <a:ext cx="204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Cooper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962520" y="4572000"/>
              <a:ext cx="1218960" cy="304920"/>
            </a:xfrm>
            <a:prstGeom prst="leftRightArrow">
              <a:avLst>
                <a:gd name="adj1" fmla="val 50000"/>
                <a:gd name="adj2" fmla="val 79582"/>
              </a:avLst>
            </a:prstGeom>
            <a:gradFill rotWithShape="0">
              <a:gsLst>
                <a:gs pos="0">
                  <a:srgbClr val="fef7e6"/>
                </a:gs>
                <a:gs pos="50000">
                  <a:srgbClr val="ffcb39"/>
                </a:gs>
                <a:gs pos="100000">
                  <a:srgbClr val="fef7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1" name=""/>
          <p:cNvSpPr/>
          <p:nvPr/>
        </p:nvSpPr>
        <p:spPr>
          <a:xfrm>
            <a:off x="1151280" y="6095880"/>
            <a:ext cx="700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ESTE PARADIGMA COMBINA LOS CONTR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8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3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3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8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3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8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a919"/>
            </a:gs>
            <a:gs pos="100000">
              <a:srgbClr val="724d0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 flipV="1">
            <a:off x="0" y="0"/>
            <a:ext cx="9144000" cy="3657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9a919"/>
              </a:gs>
              <a:gs pos="100000">
                <a:srgbClr val="fce9c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80880" y="228600"/>
            <a:ext cx="83822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operación de todos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 la infraestructura física y técnica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que garantice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competencia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l conju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1494000" y="3962520"/>
            <a:ext cx="6203520" cy="2440440"/>
            <a:chOff x="1494000" y="3962520"/>
            <a:chExt cx="6203520" cy="2440440"/>
          </a:xfrm>
        </p:grpSpPr>
        <p:sp>
          <p:nvSpPr>
            <p:cNvPr id="685" name=""/>
            <p:cNvSpPr/>
            <p:nvPr/>
          </p:nvSpPr>
          <p:spPr>
            <a:xfrm>
              <a:off x="2312280" y="3962520"/>
              <a:ext cx="456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ORMACIÓN DE CAPITAL HUMAN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30160" y="4540320"/>
              <a:ext cx="392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ESARROLLO TECNOLÓG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494000" y="5119560"/>
              <a:ext cx="6203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IFUSION DE LA INFORMÁTICA 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 LAS TELECOMUNICACIONES DE BAJO COS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41440" y="6004080"/>
              <a:ext cx="450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NNOVACIÓN EN FINANCIAMIEN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"/>
          <p:cNvGrpSpPr/>
          <p:nvPr/>
        </p:nvGrpSpPr>
        <p:grpSpPr>
          <a:xfrm>
            <a:off x="0" y="0"/>
            <a:ext cx="9143640" cy="6858000"/>
            <a:chOff x="0" y="0"/>
            <a:chExt cx="9143640" cy="6858000"/>
          </a:xfrm>
        </p:grpSpPr>
        <p:grpSp>
          <p:nvGrpSpPr>
            <p:cNvPr id="690" name=""/>
            <p:cNvGrpSpPr/>
            <p:nvPr/>
          </p:nvGrpSpPr>
          <p:grpSpPr>
            <a:xfrm>
              <a:off x="2986200" y="0"/>
              <a:ext cx="6157440" cy="6858000"/>
              <a:chOff x="2986200" y="0"/>
              <a:chExt cx="6157440" cy="6858000"/>
            </a:xfrm>
          </p:grpSpPr>
          <p:grpSp>
            <p:nvGrpSpPr>
              <p:cNvPr id="691" name=""/>
              <p:cNvGrpSpPr/>
              <p:nvPr/>
            </p:nvGrpSpPr>
            <p:grpSpPr>
              <a:xfrm>
                <a:off x="2986200" y="0"/>
                <a:ext cx="6157440" cy="6858000"/>
                <a:chOff x="2986200" y="0"/>
                <a:chExt cx="6157440" cy="685800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5591160" y="0"/>
                  <a:ext cx="3552480" cy="6858000"/>
                </a:xfrm>
                <a:prstGeom prst="rect">
                  <a:avLst/>
                </a:prstGeom>
                <a:solidFill>
                  <a:srgbClr val="7979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 rot="16200000">
                  <a:off x="868320" y="2117880"/>
                  <a:ext cx="6858000" cy="262224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7979dd"/>
                    </a:gs>
                    <a:gs pos="100000">
                      <a:srgbClr val="fefefe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4" name=""/>
              <p:cNvSpPr/>
              <p:nvPr/>
            </p:nvSpPr>
            <p:spPr>
              <a:xfrm>
                <a:off x="5091840" y="1905120"/>
                <a:ext cx="3592800" cy="37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4000" spc="-1" strike="noStrike">
                    <a:solidFill>
                      <a:srgbClr val="000000"/>
                    </a:solidFill>
                    <a:latin typeface="Arial"/>
                  </a:rPr>
                  <a:t>A una </a:t>
                </a:r>
                <a:br>
                  <a:rPr sz="4000"/>
                </a:br>
                <a:r>
                  <a:rPr b="1" lang="es-ES_tradnl" sz="4000" spc="-1" strike="noStrike">
                    <a:solidFill>
                      <a:srgbClr val="000000"/>
                    </a:solidFill>
                    <a:latin typeface="Arial"/>
                  </a:rPr>
                  <a:t>comprensión</a:t>
                </a:r>
                <a:br>
                  <a:rPr sz="4000"/>
                </a:br>
                <a:r>
                  <a:rPr b="1" lang="es-ES_tradnl" sz="4000" spc="-1" strike="noStrike">
                    <a:solidFill>
                      <a:srgbClr val="000000"/>
                    </a:solidFill>
                    <a:latin typeface="Arial"/>
                  </a:rPr>
                  <a:t>colectiva</a:t>
                </a:r>
                <a:br>
                  <a:rPr sz="4000"/>
                </a:br>
                <a:r>
                  <a:rPr b="1" lang="es-ES_tradnl" sz="4000" spc="-1" strike="noStrike">
                    <a:solidFill>
                      <a:srgbClr val="000000"/>
                    </a:solidFill>
                    <a:latin typeface="Arial"/>
                  </a:rPr>
                  <a:t>de largo plazo</a:t>
                </a:r>
                <a:br>
                  <a:rPr sz="4000"/>
                </a:br>
                <a:r>
                  <a:rPr b="1" lang="es-ES_tradnl" sz="4000" spc="-1" strike="noStrike">
                    <a:solidFill>
                      <a:srgbClr val="000000"/>
                    </a:solidFill>
                    <a:latin typeface="Arial"/>
                  </a:rPr>
                  <a:t>y  de  amplio </a:t>
                </a:r>
                <a:br>
                  <a:rPr sz="4000"/>
                </a:br>
                <a:r>
                  <a:rPr b="1" lang="es-ES_tradnl" sz="4000" spc="-1" strike="noStrike">
                    <a:solidFill>
                      <a:srgbClr val="000000"/>
                    </a:solidFill>
                    <a:latin typeface="Arial"/>
                  </a:rPr>
                  <a:t>espectro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5" name=""/>
            <p:cNvSpPr/>
            <p:nvPr/>
          </p:nvSpPr>
          <p:spPr>
            <a:xfrm>
              <a:off x="0" y="2017800"/>
              <a:ext cx="4151160" cy="2846160"/>
            </a:xfrm>
            <a:prstGeom prst="rightArrow">
              <a:avLst>
                <a:gd name="adj1" fmla="val 50028"/>
                <a:gd name="adj2" fmla="val 34133"/>
              </a:avLst>
            </a:prstGeom>
            <a:gradFill rotWithShape="0">
              <a:gsLst>
                <a:gs pos="0">
                  <a:srgbClr val="000000"/>
                </a:gs>
                <a:gs pos="50000">
                  <a:srgbClr val="3333cc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6" name=""/>
          <p:cNvSpPr/>
          <p:nvPr/>
        </p:nvSpPr>
        <p:spPr>
          <a:xfrm>
            <a:off x="0" y="2940120"/>
            <a:ext cx="358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Pasar de la visión coyuntural e individ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a919"/>
            </a:gs>
            <a:gs pos="100000">
              <a:srgbClr val="724d0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286680" y="781200"/>
            <a:ext cx="2004840" cy="20048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2057400" y="3809880"/>
            <a:ext cx="1828800" cy="1828800"/>
          </a:xfrm>
          <a:prstGeom prst="rect">
            <a:avLst/>
          </a:prstGeom>
          <a:ln w="0">
            <a:noFill/>
          </a:ln>
        </p:spPr>
      </p:pic>
      <p:grpSp>
        <p:nvGrpSpPr>
          <p:cNvPr id="153" name=""/>
          <p:cNvGrpSpPr/>
          <p:nvPr/>
        </p:nvGrpSpPr>
        <p:grpSpPr>
          <a:xfrm>
            <a:off x="3827520" y="3065400"/>
            <a:ext cx="1527120" cy="1527120"/>
            <a:chOff x="3827520" y="3065400"/>
            <a:chExt cx="1527120" cy="1527120"/>
          </a:xfrm>
        </p:grpSpPr>
        <p:sp>
          <p:nvSpPr>
            <p:cNvPr id="154" name=""/>
            <p:cNvSpPr/>
            <p:nvPr/>
          </p:nvSpPr>
          <p:spPr>
            <a:xfrm>
              <a:off x="3827520" y="3065400"/>
              <a:ext cx="1527120" cy="1527120"/>
            </a:xfrm>
            <a:prstGeom prst="ellipse">
              <a:avLst/>
            </a:prstGeom>
            <a:solidFill>
              <a:srgbClr val="80808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999240" y="3237120"/>
              <a:ext cx="1181520" cy="1181520"/>
            </a:xfrm>
            <a:prstGeom prst="ellipse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233600" y="3471120"/>
              <a:ext cx="714960" cy="714960"/>
            </a:xfrm>
            <a:prstGeom prst="ellipse">
              <a:avLst/>
            </a:prstGeom>
            <a:solidFill>
              <a:srgbClr val="cccc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390920" y="3628800"/>
              <a:ext cx="399240" cy="3992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 flipV="1">
              <a:off x="4554720" y="3792600"/>
              <a:ext cx="7272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357120" y="4403880"/>
            <a:ext cx="8399520" cy="2455560"/>
            <a:chOff x="357120" y="4403880"/>
            <a:chExt cx="8399520" cy="2455560"/>
          </a:xfrm>
        </p:grpSpPr>
        <p:pic>
          <p:nvPicPr>
            <p:cNvPr id="160" name="" descr=""/>
            <p:cNvPicPr/>
            <p:nvPr/>
          </p:nvPicPr>
          <p:blipFill>
            <a:blip r:embed="rId4"/>
            <a:stretch/>
          </p:blipFill>
          <p:spPr>
            <a:xfrm>
              <a:off x="357120" y="4403880"/>
              <a:ext cx="1929600" cy="192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2547000" y="6156000"/>
              <a:ext cx="6209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ffff"/>
                  </a:solidFill>
                  <a:latin typeface="Arial"/>
                </a:rPr>
                <a:t>SON UN BLANCO M</a:t>
              </a:r>
              <a:r>
                <a:rPr b="1" i="1" lang="es-ES_tradnl" sz="4000" spc="-1" strike="noStrike">
                  <a:solidFill>
                    <a:srgbClr val="ffffff"/>
                  </a:solidFill>
                  <a:latin typeface="Arial"/>
                </a:rPr>
                <a:t>Ó</a:t>
              </a:r>
              <a:r>
                <a:rPr b="1" i="1" lang="en-US" sz="4000" spc="-1" strike="noStrike">
                  <a:solidFill>
                    <a:srgbClr val="ffffff"/>
                  </a:solidFill>
                  <a:latin typeface="Arial"/>
                </a:rPr>
                <a:t>VIL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Pero…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LAS OPORTUNIDADE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TECNOLÓGICA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57240" y="76320"/>
            <a:ext cx="401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Narrow"/>
              </a:rPr>
              <a:t>Pasar de las </a:t>
            </a:r>
            <a:br>
              <a:rPr sz="3200"/>
            </a:br>
            <a:r>
              <a:rPr b="1" lang="es-ES_tradnl" sz="3200" spc="-1" strike="noStrike">
                <a:solidFill>
                  <a:srgbClr val="ffffff"/>
                </a:solidFill>
                <a:latin typeface="Arial Narrow"/>
              </a:rPr>
              <a:t>decisiones dispersa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4818240" y="806400"/>
            <a:ext cx="3676320" cy="3676680"/>
            <a:chOff x="4818240" y="806400"/>
            <a:chExt cx="3676320" cy="3676680"/>
          </a:xfrm>
        </p:grpSpPr>
        <p:sp>
          <p:nvSpPr>
            <p:cNvPr id="699" name=""/>
            <p:cNvSpPr/>
            <p:nvPr/>
          </p:nvSpPr>
          <p:spPr>
            <a:xfrm>
              <a:off x="4818240" y="806400"/>
              <a:ext cx="3676320" cy="3676680"/>
            </a:xfrm>
            <a:prstGeom prst="ellipse">
              <a:avLst/>
            </a:prstGeom>
            <a:gradFill rotWithShape="0">
              <a:gsLst>
                <a:gs pos="0">
                  <a:srgbClr val="f6f6fa"/>
                </a:gs>
                <a:gs pos="100000">
                  <a:srgbClr val="00009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643360" y="2130480"/>
              <a:ext cx="2181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Narrow"/>
                </a:rPr>
                <a:t>CONSENSO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Narrow"/>
                </a:rPr>
                <a:t>DE FUTUR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1" name=""/>
          <p:cNvSpPr/>
          <p:nvPr/>
        </p:nvSpPr>
        <p:spPr>
          <a:xfrm>
            <a:off x="76320" y="124920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Narrow"/>
              </a:rPr>
              <a:t>AL RUMBO COMPART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888840" y="3797280"/>
            <a:ext cx="4767480" cy="1414800"/>
            <a:chOff x="888840" y="3797280"/>
            <a:chExt cx="4767480" cy="1414800"/>
          </a:xfrm>
        </p:grpSpPr>
        <p:sp>
          <p:nvSpPr>
            <p:cNvPr id="703" name=""/>
            <p:cNvSpPr/>
            <p:nvPr/>
          </p:nvSpPr>
          <p:spPr>
            <a:xfrm>
              <a:off x="888840" y="4205160"/>
              <a:ext cx="286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Arial Narrow"/>
                </a:rPr>
                <a:t>Sector privad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4" name=""/>
            <p:cNvGrpSpPr/>
            <p:nvPr/>
          </p:nvGrpSpPr>
          <p:grpSpPr>
            <a:xfrm>
              <a:off x="3306960" y="3797280"/>
              <a:ext cx="2349360" cy="1414800"/>
              <a:chOff x="3306960" y="3797280"/>
              <a:chExt cx="2349360" cy="1414800"/>
            </a:xfrm>
          </p:grpSpPr>
          <p:sp>
            <p:nvSpPr>
              <p:cNvPr id="705" name=""/>
              <p:cNvSpPr/>
              <p:nvPr/>
            </p:nvSpPr>
            <p:spPr>
              <a:xfrm flipV="1" rot="20950800">
                <a:off x="3367080" y="4332960"/>
                <a:ext cx="1501920" cy="292680"/>
              </a:xfrm>
              <a:custGeom>
                <a:avLst/>
                <a:gdLst/>
                <a:ahLst/>
                <a:rect l="l" t="t" r="r" b="b"/>
                <a:pathLst>
                  <a:path w="729" h="136">
                    <a:moveTo>
                      <a:pt x="0" y="107"/>
                    </a:moveTo>
                    <a:lnTo>
                      <a:pt x="16" y="130"/>
                    </a:lnTo>
                    <a:lnTo>
                      <a:pt x="59" y="112"/>
                    </a:lnTo>
                    <a:lnTo>
                      <a:pt x="98" y="99"/>
                    </a:lnTo>
                    <a:lnTo>
                      <a:pt x="135" y="89"/>
                    </a:lnTo>
                    <a:lnTo>
                      <a:pt x="173" y="77"/>
                    </a:lnTo>
                    <a:lnTo>
                      <a:pt x="207" y="70"/>
                    </a:lnTo>
                    <a:lnTo>
                      <a:pt x="237" y="65"/>
                    </a:lnTo>
                    <a:lnTo>
                      <a:pt x="264" y="60"/>
                    </a:lnTo>
                    <a:lnTo>
                      <a:pt x="295" y="55"/>
                    </a:lnTo>
                    <a:lnTo>
                      <a:pt x="324" y="54"/>
                    </a:lnTo>
                    <a:lnTo>
                      <a:pt x="360" y="56"/>
                    </a:lnTo>
                    <a:lnTo>
                      <a:pt x="388" y="57"/>
                    </a:lnTo>
                    <a:lnTo>
                      <a:pt x="418" y="59"/>
                    </a:lnTo>
                    <a:lnTo>
                      <a:pt x="447" y="64"/>
                    </a:lnTo>
                    <a:lnTo>
                      <a:pt x="483" y="67"/>
                    </a:lnTo>
                    <a:lnTo>
                      <a:pt x="522" y="75"/>
                    </a:lnTo>
                    <a:lnTo>
                      <a:pt x="546" y="82"/>
                    </a:lnTo>
                    <a:lnTo>
                      <a:pt x="572" y="90"/>
                    </a:lnTo>
                    <a:lnTo>
                      <a:pt x="598" y="96"/>
                    </a:lnTo>
                    <a:lnTo>
                      <a:pt x="623" y="105"/>
                    </a:lnTo>
                    <a:lnTo>
                      <a:pt x="656" y="121"/>
                    </a:lnTo>
                    <a:lnTo>
                      <a:pt x="679" y="135"/>
                    </a:lnTo>
                    <a:lnTo>
                      <a:pt x="728" y="93"/>
                    </a:lnTo>
                    <a:lnTo>
                      <a:pt x="688" y="68"/>
                    </a:lnTo>
                    <a:lnTo>
                      <a:pt x="637" y="48"/>
                    </a:lnTo>
                    <a:lnTo>
                      <a:pt x="589" y="35"/>
                    </a:lnTo>
                    <a:lnTo>
                      <a:pt x="529" y="23"/>
                    </a:lnTo>
                    <a:lnTo>
                      <a:pt x="449" y="5"/>
                    </a:lnTo>
                    <a:lnTo>
                      <a:pt x="369" y="0"/>
                    </a:lnTo>
                    <a:lnTo>
                      <a:pt x="289" y="2"/>
                    </a:lnTo>
                    <a:lnTo>
                      <a:pt x="225" y="14"/>
                    </a:lnTo>
                    <a:lnTo>
                      <a:pt x="148" y="34"/>
                    </a:lnTo>
                    <a:lnTo>
                      <a:pt x="91" y="59"/>
                    </a:lnTo>
                    <a:lnTo>
                      <a:pt x="0" y="107"/>
                    </a:lnTo>
                  </a:path>
                </a:pathLst>
              </a:custGeom>
              <a:gradFill rotWithShape="0">
                <a:gsLst>
                  <a:gs pos="0">
                    <a:srgbClr val="ffad35"/>
                  </a:gs>
                  <a:gs pos="100000">
                    <a:srgbClr val="7b531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V="1" rot="20950800">
                <a:off x="3382920" y="3994200"/>
                <a:ext cx="2196720" cy="1020960"/>
              </a:xfrm>
              <a:custGeom>
                <a:avLst/>
                <a:gdLst/>
                <a:ahLst/>
                <a:rect l="l" t="t" r="r" b="b"/>
                <a:pathLst>
                  <a:path w="1067" h="474">
                    <a:moveTo>
                      <a:pt x="0" y="321"/>
                    </a:moveTo>
                    <a:lnTo>
                      <a:pt x="45" y="285"/>
                    </a:lnTo>
                    <a:lnTo>
                      <a:pt x="71" y="270"/>
                    </a:lnTo>
                    <a:lnTo>
                      <a:pt x="100" y="251"/>
                    </a:lnTo>
                    <a:lnTo>
                      <a:pt x="128" y="235"/>
                    </a:lnTo>
                    <a:lnTo>
                      <a:pt x="158" y="219"/>
                    </a:lnTo>
                    <a:lnTo>
                      <a:pt x="186" y="205"/>
                    </a:lnTo>
                    <a:lnTo>
                      <a:pt x="215" y="193"/>
                    </a:lnTo>
                    <a:lnTo>
                      <a:pt x="244" y="180"/>
                    </a:lnTo>
                    <a:lnTo>
                      <a:pt x="283" y="166"/>
                    </a:lnTo>
                    <a:lnTo>
                      <a:pt x="319" y="157"/>
                    </a:lnTo>
                    <a:lnTo>
                      <a:pt x="351" y="147"/>
                    </a:lnTo>
                    <a:lnTo>
                      <a:pt x="390" y="140"/>
                    </a:lnTo>
                    <a:lnTo>
                      <a:pt x="429" y="132"/>
                    </a:lnTo>
                    <a:lnTo>
                      <a:pt x="466" y="126"/>
                    </a:lnTo>
                    <a:lnTo>
                      <a:pt x="498" y="123"/>
                    </a:lnTo>
                    <a:lnTo>
                      <a:pt x="535" y="117"/>
                    </a:lnTo>
                    <a:lnTo>
                      <a:pt x="567" y="115"/>
                    </a:lnTo>
                    <a:lnTo>
                      <a:pt x="603" y="113"/>
                    </a:lnTo>
                    <a:lnTo>
                      <a:pt x="638" y="110"/>
                    </a:lnTo>
                    <a:lnTo>
                      <a:pt x="675" y="112"/>
                    </a:lnTo>
                    <a:lnTo>
                      <a:pt x="709" y="111"/>
                    </a:lnTo>
                    <a:lnTo>
                      <a:pt x="745" y="114"/>
                    </a:lnTo>
                    <a:lnTo>
                      <a:pt x="780" y="118"/>
                    </a:lnTo>
                    <a:lnTo>
                      <a:pt x="813" y="122"/>
                    </a:lnTo>
                    <a:lnTo>
                      <a:pt x="842" y="130"/>
                    </a:lnTo>
                    <a:lnTo>
                      <a:pt x="869" y="138"/>
                    </a:lnTo>
                    <a:lnTo>
                      <a:pt x="892" y="148"/>
                    </a:lnTo>
                    <a:lnTo>
                      <a:pt x="1066" y="0"/>
                    </a:lnTo>
                    <a:lnTo>
                      <a:pt x="1047" y="30"/>
                    </a:lnTo>
                    <a:lnTo>
                      <a:pt x="1025" y="64"/>
                    </a:lnTo>
                    <a:lnTo>
                      <a:pt x="1008" y="92"/>
                    </a:lnTo>
                    <a:lnTo>
                      <a:pt x="995" y="112"/>
                    </a:lnTo>
                    <a:lnTo>
                      <a:pt x="981" y="136"/>
                    </a:lnTo>
                    <a:lnTo>
                      <a:pt x="972" y="157"/>
                    </a:lnTo>
                    <a:lnTo>
                      <a:pt x="963" y="178"/>
                    </a:lnTo>
                    <a:lnTo>
                      <a:pt x="957" y="199"/>
                    </a:lnTo>
                    <a:lnTo>
                      <a:pt x="947" y="223"/>
                    </a:lnTo>
                    <a:lnTo>
                      <a:pt x="939" y="250"/>
                    </a:lnTo>
                    <a:lnTo>
                      <a:pt x="932" y="279"/>
                    </a:lnTo>
                    <a:lnTo>
                      <a:pt x="926" y="303"/>
                    </a:lnTo>
                    <a:lnTo>
                      <a:pt x="917" y="333"/>
                    </a:lnTo>
                    <a:lnTo>
                      <a:pt x="915" y="358"/>
                    </a:lnTo>
                    <a:lnTo>
                      <a:pt x="895" y="360"/>
                    </a:lnTo>
                    <a:lnTo>
                      <a:pt x="875" y="362"/>
                    </a:lnTo>
                    <a:lnTo>
                      <a:pt x="856" y="365"/>
                    </a:lnTo>
                    <a:lnTo>
                      <a:pt x="832" y="369"/>
                    </a:lnTo>
                    <a:lnTo>
                      <a:pt x="808" y="374"/>
                    </a:lnTo>
                    <a:lnTo>
                      <a:pt x="787" y="381"/>
                    </a:lnTo>
                    <a:lnTo>
                      <a:pt x="766" y="386"/>
                    </a:lnTo>
                    <a:lnTo>
                      <a:pt x="744" y="392"/>
                    </a:lnTo>
                    <a:lnTo>
                      <a:pt x="720" y="400"/>
                    </a:lnTo>
                    <a:lnTo>
                      <a:pt x="697" y="408"/>
                    </a:lnTo>
                    <a:lnTo>
                      <a:pt x="673" y="416"/>
                    </a:lnTo>
                    <a:lnTo>
                      <a:pt x="652" y="423"/>
                    </a:lnTo>
                    <a:lnTo>
                      <a:pt x="630" y="433"/>
                    </a:lnTo>
                    <a:lnTo>
                      <a:pt x="607" y="441"/>
                    </a:lnTo>
                    <a:lnTo>
                      <a:pt x="588" y="448"/>
                    </a:lnTo>
                    <a:lnTo>
                      <a:pt x="563" y="458"/>
                    </a:lnTo>
                    <a:lnTo>
                      <a:pt x="532" y="473"/>
                    </a:lnTo>
                    <a:lnTo>
                      <a:pt x="707" y="312"/>
                    </a:lnTo>
                    <a:lnTo>
                      <a:pt x="677" y="295"/>
                    </a:lnTo>
                    <a:lnTo>
                      <a:pt x="649" y="285"/>
                    </a:lnTo>
                    <a:lnTo>
                      <a:pt x="596" y="267"/>
                    </a:lnTo>
                    <a:lnTo>
                      <a:pt x="570" y="262"/>
                    </a:lnTo>
                    <a:lnTo>
                      <a:pt x="544" y="255"/>
                    </a:lnTo>
                    <a:lnTo>
                      <a:pt x="496" y="247"/>
                    </a:lnTo>
                    <a:lnTo>
                      <a:pt x="466" y="243"/>
                    </a:lnTo>
                    <a:lnTo>
                      <a:pt x="432" y="236"/>
                    </a:lnTo>
                    <a:lnTo>
                      <a:pt x="404" y="234"/>
                    </a:lnTo>
                    <a:lnTo>
                      <a:pt x="379" y="232"/>
                    </a:lnTo>
                    <a:lnTo>
                      <a:pt x="355" y="230"/>
                    </a:lnTo>
                    <a:lnTo>
                      <a:pt x="327" y="230"/>
                    </a:lnTo>
                    <a:lnTo>
                      <a:pt x="298" y="231"/>
                    </a:lnTo>
                    <a:lnTo>
                      <a:pt x="268" y="235"/>
                    </a:lnTo>
                    <a:lnTo>
                      <a:pt x="241" y="237"/>
                    </a:lnTo>
                    <a:lnTo>
                      <a:pt x="210" y="244"/>
                    </a:lnTo>
                    <a:lnTo>
                      <a:pt x="180" y="252"/>
                    </a:lnTo>
                    <a:lnTo>
                      <a:pt x="147" y="263"/>
                    </a:lnTo>
                    <a:lnTo>
                      <a:pt x="118" y="273"/>
                    </a:lnTo>
                    <a:lnTo>
                      <a:pt x="86" y="285"/>
                    </a:lnTo>
                    <a:lnTo>
                      <a:pt x="53" y="299"/>
                    </a:lnTo>
                    <a:lnTo>
                      <a:pt x="0" y="321"/>
                    </a:lnTo>
                  </a:path>
                </a:pathLst>
              </a:custGeom>
              <a:gradFill rotWithShape="0">
                <a:gsLst>
                  <a:gs pos="0">
                    <a:srgbClr val="ffad35"/>
                  </a:gs>
                  <a:gs pos="100000">
                    <a:srgbClr val="7b531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7" name=""/>
          <p:cNvGrpSpPr/>
          <p:nvPr/>
        </p:nvGrpSpPr>
        <p:grpSpPr>
          <a:xfrm>
            <a:off x="2322000" y="4160880"/>
            <a:ext cx="4773240" cy="1900440"/>
            <a:chOff x="2322000" y="4160880"/>
            <a:chExt cx="4773240" cy="1900440"/>
          </a:xfrm>
        </p:grpSpPr>
        <p:grpSp>
          <p:nvGrpSpPr>
            <p:cNvPr id="708" name=""/>
            <p:cNvGrpSpPr/>
            <p:nvPr/>
          </p:nvGrpSpPr>
          <p:grpSpPr>
            <a:xfrm>
              <a:off x="4674600" y="4160880"/>
              <a:ext cx="2420640" cy="1900440"/>
              <a:chOff x="4674600" y="4160880"/>
              <a:chExt cx="2420640" cy="1900440"/>
            </a:xfrm>
          </p:grpSpPr>
          <p:sp>
            <p:nvSpPr>
              <p:cNvPr id="709" name=""/>
              <p:cNvSpPr/>
              <p:nvPr/>
            </p:nvSpPr>
            <p:spPr>
              <a:xfrm flipV="1" rot="19993200">
                <a:off x="4777200" y="5039640"/>
                <a:ext cx="1502280" cy="292320"/>
              </a:xfrm>
              <a:custGeom>
                <a:avLst/>
                <a:gdLst/>
                <a:ahLst/>
                <a:rect l="l" t="t" r="r" b="b"/>
                <a:pathLst>
                  <a:path w="729" h="136">
                    <a:moveTo>
                      <a:pt x="0" y="107"/>
                    </a:moveTo>
                    <a:lnTo>
                      <a:pt x="16" y="130"/>
                    </a:lnTo>
                    <a:lnTo>
                      <a:pt x="59" y="112"/>
                    </a:lnTo>
                    <a:lnTo>
                      <a:pt x="98" y="99"/>
                    </a:lnTo>
                    <a:lnTo>
                      <a:pt x="135" y="89"/>
                    </a:lnTo>
                    <a:lnTo>
                      <a:pt x="173" y="77"/>
                    </a:lnTo>
                    <a:lnTo>
                      <a:pt x="207" y="70"/>
                    </a:lnTo>
                    <a:lnTo>
                      <a:pt x="237" y="65"/>
                    </a:lnTo>
                    <a:lnTo>
                      <a:pt x="264" y="60"/>
                    </a:lnTo>
                    <a:lnTo>
                      <a:pt x="295" y="55"/>
                    </a:lnTo>
                    <a:lnTo>
                      <a:pt x="324" y="54"/>
                    </a:lnTo>
                    <a:lnTo>
                      <a:pt x="360" y="56"/>
                    </a:lnTo>
                    <a:lnTo>
                      <a:pt x="388" y="57"/>
                    </a:lnTo>
                    <a:lnTo>
                      <a:pt x="418" y="59"/>
                    </a:lnTo>
                    <a:lnTo>
                      <a:pt x="447" y="64"/>
                    </a:lnTo>
                    <a:lnTo>
                      <a:pt x="483" y="67"/>
                    </a:lnTo>
                    <a:lnTo>
                      <a:pt x="522" y="75"/>
                    </a:lnTo>
                    <a:lnTo>
                      <a:pt x="546" y="82"/>
                    </a:lnTo>
                    <a:lnTo>
                      <a:pt x="572" y="90"/>
                    </a:lnTo>
                    <a:lnTo>
                      <a:pt x="598" y="96"/>
                    </a:lnTo>
                    <a:lnTo>
                      <a:pt x="623" y="105"/>
                    </a:lnTo>
                    <a:lnTo>
                      <a:pt x="656" y="121"/>
                    </a:lnTo>
                    <a:lnTo>
                      <a:pt x="679" y="135"/>
                    </a:lnTo>
                    <a:lnTo>
                      <a:pt x="728" y="93"/>
                    </a:lnTo>
                    <a:lnTo>
                      <a:pt x="688" y="68"/>
                    </a:lnTo>
                    <a:lnTo>
                      <a:pt x="637" y="48"/>
                    </a:lnTo>
                    <a:lnTo>
                      <a:pt x="589" y="35"/>
                    </a:lnTo>
                    <a:lnTo>
                      <a:pt x="529" y="23"/>
                    </a:lnTo>
                    <a:lnTo>
                      <a:pt x="449" y="5"/>
                    </a:lnTo>
                    <a:lnTo>
                      <a:pt x="369" y="0"/>
                    </a:lnTo>
                    <a:lnTo>
                      <a:pt x="289" y="2"/>
                    </a:lnTo>
                    <a:lnTo>
                      <a:pt x="225" y="14"/>
                    </a:lnTo>
                    <a:lnTo>
                      <a:pt x="148" y="34"/>
                    </a:lnTo>
                    <a:lnTo>
                      <a:pt x="91" y="59"/>
                    </a:lnTo>
                    <a:lnTo>
                      <a:pt x="0" y="107"/>
                    </a:lnTo>
                  </a:path>
                </a:pathLst>
              </a:custGeom>
              <a:gradFill rotWithShape="0">
                <a:gsLst>
                  <a:gs pos="0">
                    <a:srgbClr val="ffad35"/>
                  </a:gs>
                  <a:gs pos="100000">
                    <a:srgbClr val="7b531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V="1" rot="19993200">
                <a:off x="4786200" y="4600440"/>
                <a:ext cx="2196720" cy="1020240"/>
              </a:xfrm>
              <a:custGeom>
                <a:avLst/>
                <a:gdLst/>
                <a:ahLst/>
                <a:rect l="l" t="t" r="r" b="b"/>
                <a:pathLst>
                  <a:path w="1067" h="474">
                    <a:moveTo>
                      <a:pt x="0" y="321"/>
                    </a:moveTo>
                    <a:lnTo>
                      <a:pt x="45" y="285"/>
                    </a:lnTo>
                    <a:lnTo>
                      <a:pt x="71" y="270"/>
                    </a:lnTo>
                    <a:lnTo>
                      <a:pt x="100" y="251"/>
                    </a:lnTo>
                    <a:lnTo>
                      <a:pt x="128" y="235"/>
                    </a:lnTo>
                    <a:lnTo>
                      <a:pt x="158" y="219"/>
                    </a:lnTo>
                    <a:lnTo>
                      <a:pt x="186" y="205"/>
                    </a:lnTo>
                    <a:lnTo>
                      <a:pt x="215" y="193"/>
                    </a:lnTo>
                    <a:lnTo>
                      <a:pt x="244" y="180"/>
                    </a:lnTo>
                    <a:lnTo>
                      <a:pt x="283" y="166"/>
                    </a:lnTo>
                    <a:lnTo>
                      <a:pt x="319" y="157"/>
                    </a:lnTo>
                    <a:lnTo>
                      <a:pt x="351" y="147"/>
                    </a:lnTo>
                    <a:lnTo>
                      <a:pt x="390" y="140"/>
                    </a:lnTo>
                    <a:lnTo>
                      <a:pt x="429" y="132"/>
                    </a:lnTo>
                    <a:lnTo>
                      <a:pt x="466" y="126"/>
                    </a:lnTo>
                    <a:lnTo>
                      <a:pt x="498" y="123"/>
                    </a:lnTo>
                    <a:lnTo>
                      <a:pt x="535" y="117"/>
                    </a:lnTo>
                    <a:lnTo>
                      <a:pt x="567" y="115"/>
                    </a:lnTo>
                    <a:lnTo>
                      <a:pt x="603" y="113"/>
                    </a:lnTo>
                    <a:lnTo>
                      <a:pt x="638" y="110"/>
                    </a:lnTo>
                    <a:lnTo>
                      <a:pt x="675" y="112"/>
                    </a:lnTo>
                    <a:lnTo>
                      <a:pt x="709" y="111"/>
                    </a:lnTo>
                    <a:lnTo>
                      <a:pt x="745" y="114"/>
                    </a:lnTo>
                    <a:lnTo>
                      <a:pt x="780" y="118"/>
                    </a:lnTo>
                    <a:lnTo>
                      <a:pt x="813" y="122"/>
                    </a:lnTo>
                    <a:lnTo>
                      <a:pt x="842" y="130"/>
                    </a:lnTo>
                    <a:lnTo>
                      <a:pt x="869" y="138"/>
                    </a:lnTo>
                    <a:lnTo>
                      <a:pt x="892" y="148"/>
                    </a:lnTo>
                    <a:lnTo>
                      <a:pt x="1066" y="0"/>
                    </a:lnTo>
                    <a:lnTo>
                      <a:pt x="1047" y="30"/>
                    </a:lnTo>
                    <a:lnTo>
                      <a:pt x="1025" y="64"/>
                    </a:lnTo>
                    <a:lnTo>
                      <a:pt x="1008" y="92"/>
                    </a:lnTo>
                    <a:lnTo>
                      <a:pt x="995" y="112"/>
                    </a:lnTo>
                    <a:lnTo>
                      <a:pt x="981" y="136"/>
                    </a:lnTo>
                    <a:lnTo>
                      <a:pt x="972" y="157"/>
                    </a:lnTo>
                    <a:lnTo>
                      <a:pt x="963" y="178"/>
                    </a:lnTo>
                    <a:lnTo>
                      <a:pt x="957" y="199"/>
                    </a:lnTo>
                    <a:lnTo>
                      <a:pt x="947" y="223"/>
                    </a:lnTo>
                    <a:lnTo>
                      <a:pt x="939" y="250"/>
                    </a:lnTo>
                    <a:lnTo>
                      <a:pt x="932" y="279"/>
                    </a:lnTo>
                    <a:lnTo>
                      <a:pt x="926" y="303"/>
                    </a:lnTo>
                    <a:lnTo>
                      <a:pt x="917" y="333"/>
                    </a:lnTo>
                    <a:lnTo>
                      <a:pt x="915" y="358"/>
                    </a:lnTo>
                    <a:lnTo>
                      <a:pt x="895" y="360"/>
                    </a:lnTo>
                    <a:lnTo>
                      <a:pt x="875" y="362"/>
                    </a:lnTo>
                    <a:lnTo>
                      <a:pt x="856" y="365"/>
                    </a:lnTo>
                    <a:lnTo>
                      <a:pt x="832" y="369"/>
                    </a:lnTo>
                    <a:lnTo>
                      <a:pt x="808" y="374"/>
                    </a:lnTo>
                    <a:lnTo>
                      <a:pt x="787" y="381"/>
                    </a:lnTo>
                    <a:lnTo>
                      <a:pt x="766" y="386"/>
                    </a:lnTo>
                    <a:lnTo>
                      <a:pt x="744" y="392"/>
                    </a:lnTo>
                    <a:lnTo>
                      <a:pt x="720" y="400"/>
                    </a:lnTo>
                    <a:lnTo>
                      <a:pt x="697" y="408"/>
                    </a:lnTo>
                    <a:lnTo>
                      <a:pt x="673" y="416"/>
                    </a:lnTo>
                    <a:lnTo>
                      <a:pt x="652" y="423"/>
                    </a:lnTo>
                    <a:lnTo>
                      <a:pt x="630" y="433"/>
                    </a:lnTo>
                    <a:lnTo>
                      <a:pt x="607" y="441"/>
                    </a:lnTo>
                    <a:lnTo>
                      <a:pt x="588" y="448"/>
                    </a:lnTo>
                    <a:lnTo>
                      <a:pt x="563" y="458"/>
                    </a:lnTo>
                    <a:lnTo>
                      <a:pt x="532" y="473"/>
                    </a:lnTo>
                    <a:lnTo>
                      <a:pt x="707" y="312"/>
                    </a:lnTo>
                    <a:lnTo>
                      <a:pt x="677" y="295"/>
                    </a:lnTo>
                    <a:lnTo>
                      <a:pt x="649" y="285"/>
                    </a:lnTo>
                    <a:lnTo>
                      <a:pt x="596" y="267"/>
                    </a:lnTo>
                    <a:lnTo>
                      <a:pt x="570" y="262"/>
                    </a:lnTo>
                    <a:lnTo>
                      <a:pt x="544" y="255"/>
                    </a:lnTo>
                    <a:lnTo>
                      <a:pt x="496" y="247"/>
                    </a:lnTo>
                    <a:lnTo>
                      <a:pt x="466" y="243"/>
                    </a:lnTo>
                    <a:lnTo>
                      <a:pt x="432" y="236"/>
                    </a:lnTo>
                    <a:lnTo>
                      <a:pt x="404" y="234"/>
                    </a:lnTo>
                    <a:lnTo>
                      <a:pt x="379" y="232"/>
                    </a:lnTo>
                    <a:lnTo>
                      <a:pt x="355" y="230"/>
                    </a:lnTo>
                    <a:lnTo>
                      <a:pt x="327" y="230"/>
                    </a:lnTo>
                    <a:lnTo>
                      <a:pt x="298" y="231"/>
                    </a:lnTo>
                    <a:lnTo>
                      <a:pt x="268" y="235"/>
                    </a:lnTo>
                    <a:lnTo>
                      <a:pt x="241" y="237"/>
                    </a:lnTo>
                    <a:lnTo>
                      <a:pt x="210" y="244"/>
                    </a:lnTo>
                    <a:lnTo>
                      <a:pt x="180" y="252"/>
                    </a:lnTo>
                    <a:lnTo>
                      <a:pt x="147" y="263"/>
                    </a:lnTo>
                    <a:lnTo>
                      <a:pt x="118" y="273"/>
                    </a:lnTo>
                    <a:lnTo>
                      <a:pt x="86" y="285"/>
                    </a:lnTo>
                    <a:lnTo>
                      <a:pt x="53" y="299"/>
                    </a:lnTo>
                    <a:lnTo>
                      <a:pt x="0" y="321"/>
                    </a:lnTo>
                  </a:path>
                </a:pathLst>
              </a:custGeom>
              <a:gradFill rotWithShape="0">
                <a:gsLst>
                  <a:gs pos="0">
                    <a:srgbClr val="ffad35"/>
                  </a:gs>
                  <a:gs pos="100000">
                    <a:srgbClr val="7b531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1" name=""/>
            <p:cNvSpPr/>
            <p:nvPr/>
          </p:nvSpPr>
          <p:spPr>
            <a:xfrm>
              <a:off x="2322000" y="5103720"/>
              <a:ext cx="250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Arial Narrow"/>
                </a:rPr>
                <a:t>Sector p</a:t>
              </a:r>
              <a:r>
                <a:rPr b="1" lang="es-ES_tradnl" sz="3200" spc="-1" strike="noStrike">
                  <a:solidFill>
                    <a:srgbClr val="ffcc00"/>
                  </a:solidFill>
                  <a:latin typeface="Arial Narrow"/>
                </a:rPr>
                <a:t>ú</a:t>
              </a:r>
              <a:r>
                <a:rPr b="1" lang="en-US" sz="3200" spc="-1" strike="noStrike">
                  <a:solidFill>
                    <a:srgbClr val="ffcc00"/>
                  </a:solidFill>
                  <a:latin typeface="Arial Narrow"/>
                </a:rPr>
                <a:t>blic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"/>
          <p:cNvGrpSpPr/>
          <p:nvPr/>
        </p:nvGrpSpPr>
        <p:grpSpPr>
          <a:xfrm>
            <a:off x="5124960" y="3931920"/>
            <a:ext cx="3524040" cy="2398680"/>
            <a:chOff x="5124960" y="3931920"/>
            <a:chExt cx="3524040" cy="2398680"/>
          </a:xfrm>
        </p:grpSpPr>
        <p:grpSp>
          <p:nvGrpSpPr>
            <p:cNvPr id="713" name=""/>
            <p:cNvGrpSpPr/>
            <p:nvPr/>
          </p:nvGrpSpPr>
          <p:grpSpPr>
            <a:xfrm>
              <a:off x="6600600" y="3931920"/>
              <a:ext cx="2048400" cy="2398680"/>
              <a:chOff x="6600600" y="3931920"/>
              <a:chExt cx="2048400" cy="2398680"/>
            </a:xfrm>
          </p:grpSpPr>
          <p:sp>
            <p:nvSpPr>
              <p:cNvPr id="714" name=""/>
              <p:cNvSpPr/>
              <p:nvPr/>
            </p:nvSpPr>
            <p:spPr>
              <a:xfrm flipV="1" rot="18169800">
                <a:off x="6604560" y="5229720"/>
                <a:ext cx="1501920" cy="292320"/>
              </a:xfrm>
              <a:custGeom>
                <a:avLst/>
                <a:gdLst/>
                <a:ahLst/>
                <a:rect l="l" t="t" r="r" b="b"/>
                <a:pathLst>
                  <a:path w="729" h="136">
                    <a:moveTo>
                      <a:pt x="0" y="107"/>
                    </a:moveTo>
                    <a:lnTo>
                      <a:pt x="16" y="130"/>
                    </a:lnTo>
                    <a:lnTo>
                      <a:pt x="59" y="112"/>
                    </a:lnTo>
                    <a:lnTo>
                      <a:pt x="98" y="99"/>
                    </a:lnTo>
                    <a:lnTo>
                      <a:pt x="135" y="89"/>
                    </a:lnTo>
                    <a:lnTo>
                      <a:pt x="173" y="77"/>
                    </a:lnTo>
                    <a:lnTo>
                      <a:pt x="207" y="70"/>
                    </a:lnTo>
                    <a:lnTo>
                      <a:pt x="237" y="65"/>
                    </a:lnTo>
                    <a:lnTo>
                      <a:pt x="264" y="60"/>
                    </a:lnTo>
                    <a:lnTo>
                      <a:pt x="295" y="55"/>
                    </a:lnTo>
                    <a:lnTo>
                      <a:pt x="324" y="54"/>
                    </a:lnTo>
                    <a:lnTo>
                      <a:pt x="360" y="56"/>
                    </a:lnTo>
                    <a:lnTo>
                      <a:pt x="388" y="57"/>
                    </a:lnTo>
                    <a:lnTo>
                      <a:pt x="418" y="59"/>
                    </a:lnTo>
                    <a:lnTo>
                      <a:pt x="447" y="64"/>
                    </a:lnTo>
                    <a:lnTo>
                      <a:pt x="483" y="67"/>
                    </a:lnTo>
                    <a:lnTo>
                      <a:pt x="522" y="75"/>
                    </a:lnTo>
                    <a:lnTo>
                      <a:pt x="546" y="82"/>
                    </a:lnTo>
                    <a:lnTo>
                      <a:pt x="572" y="90"/>
                    </a:lnTo>
                    <a:lnTo>
                      <a:pt x="598" y="96"/>
                    </a:lnTo>
                    <a:lnTo>
                      <a:pt x="623" y="105"/>
                    </a:lnTo>
                    <a:lnTo>
                      <a:pt x="656" y="121"/>
                    </a:lnTo>
                    <a:lnTo>
                      <a:pt x="679" y="135"/>
                    </a:lnTo>
                    <a:lnTo>
                      <a:pt x="728" y="93"/>
                    </a:lnTo>
                    <a:lnTo>
                      <a:pt x="688" y="68"/>
                    </a:lnTo>
                    <a:lnTo>
                      <a:pt x="637" y="48"/>
                    </a:lnTo>
                    <a:lnTo>
                      <a:pt x="589" y="35"/>
                    </a:lnTo>
                    <a:lnTo>
                      <a:pt x="529" y="23"/>
                    </a:lnTo>
                    <a:lnTo>
                      <a:pt x="449" y="5"/>
                    </a:lnTo>
                    <a:lnTo>
                      <a:pt x="369" y="0"/>
                    </a:lnTo>
                    <a:lnTo>
                      <a:pt x="289" y="2"/>
                    </a:lnTo>
                    <a:lnTo>
                      <a:pt x="225" y="14"/>
                    </a:lnTo>
                    <a:lnTo>
                      <a:pt x="148" y="34"/>
                    </a:lnTo>
                    <a:lnTo>
                      <a:pt x="91" y="59"/>
                    </a:lnTo>
                    <a:lnTo>
                      <a:pt x="0" y="107"/>
                    </a:lnTo>
                  </a:path>
                </a:pathLst>
              </a:custGeom>
              <a:gradFill rotWithShape="0">
                <a:gsLst>
                  <a:gs pos="0">
                    <a:srgbClr val="ffad35"/>
                  </a:gs>
                  <a:gs pos="100000">
                    <a:srgbClr val="7b531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V="1" rot="18169800">
                <a:off x="6526440" y="4620600"/>
                <a:ext cx="2196720" cy="1020240"/>
              </a:xfrm>
              <a:custGeom>
                <a:avLst/>
                <a:gdLst/>
                <a:ahLst/>
                <a:rect l="l" t="t" r="r" b="b"/>
                <a:pathLst>
                  <a:path w="1067" h="474">
                    <a:moveTo>
                      <a:pt x="0" y="321"/>
                    </a:moveTo>
                    <a:lnTo>
                      <a:pt x="45" y="285"/>
                    </a:lnTo>
                    <a:lnTo>
                      <a:pt x="71" y="270"/>
                    </a:lnTo>
                    <a:lnTo>
                      <a:pt x="100" y="251"/>
                    </a:lnTo>
                    <a:lnTo>
                      <a:pt x="128" y="235"/>
                    </a:lnTo>
                    <a:lnTo>
                      <a:pt x="158" y="219"/>
                    </a:lnTo>
                    <a:lnTo>
                      <a:pt x="186" y="205"/>
                    </a:lnTo>
                    <a:lnTo>
                      <a:pt x="215" y="193"/>
                    </a:lnTo>
                    <a:lnTo>
                      <a:pt x="244" y="180"/>
                    </a:lnTo>
                    <a:lnTo>
                      <a:pt x="283" y="166"/>
                    </a:lnTo>
                    <a:lnTo>
                      <a:pt x="319" y="157"/>
                    </a:lnTo>
                    <a:lnTo>
                      <a:pt x="351" y="147"/>
                    </a:lnTo>
                    <a:lnTo>
                      <a:pt x="390" y="140"/>
                    </a:lnTo>
                    <a:lnTo>
                      <a:pt x="429" y="132"/>
                    </a:lnTo>
                    <a:lnTo>
                      <a:pt x="466" y="126"/>
                    </a:lnTo>
                    <a:lnTo>
                      <a:pt x="498" y="123"/>
                    </a:lnTo>
                    <a:lnTo>
                      <a:pt x="535" y="117"/>
                    </a:lnTo>
                    <a:lnTo>
                      <a:pt x="567" y="115"/>
                    </a:lnTo>
                    <a:lnTo>
                      <a:pt x="603" y="113"/>
                    </a:lnTo>
                    <a:lnTo>
                      <a:pt x="638" y="110"/>
                    </a:lnTo>
                    <a:lnTo>
                      <a:pt x="675" y="112"/>
                    </a:lnTo>
                    <a:lnTo>
                      <a:pt x="709" y="111"/>
                    </a:lnTo>
                    <a:lnTo>
                      <a:pt x="745" y="114"/>
                    </a:lnTo>
                    <a:lnTo>
                      <a:pt x="780" y="118"/>
                    </a:lnTo>
                    <a:lnTo>
                      <a:pt x="813" y="122"/>
                    </a:lnTo>
                    <a:lnTo>
                      <a:pt x="842" y="130"/>
                    </a:lnTo>
                    <a:lnTo>
                      <a:pt x="869" y="138"/>
                    </a:lnTo>
                    <a:lnTo>
                      <a:pt x="892" y="148"/>
                    </a:lnTo>
                    <a:lnTo>
                      <a:pt x="1066" y="0"/>
                    </a:lnTo>
                    <a:lnTo>
                      <a:pt x="1047" y="30"/>
                    </a:lnTo>
                    <a:lnTo>
                      <a:pt x="1025" y="64"/>
                    </a:lnTo>
                    <a:lnTo>
                      <a:pt x="1008" y="92"/>
                    </a:lnTo>
                    <a:lnTo>
                      <a:pt x="995" y="112"/>
                    </a:lnTo>
                    <a:lnTo>
                      <a:pt x="981" y="136"/>
                    </a:lnTo>
                    <a:lnTo>
                      <a:pt x="972" y="157"/>
                    </a:lnTo>
                    <a:lnTo>
                      <a:pt x="963" y="178"/>
                    </a:lnTo>
                    <a:lnTo>
                      <a:pt x="957" y="199"/>
                    </a:lnTo>
                    <a:lnTo>
                      <a:pt x="947" y="223"/>
                    </a:lnTo>
                    <a:lnTo>
                      <a:pt x="939" y="250"/>
                    </a:lnTo>
                    <a:lnTo>
                      <a:pt x="932" y="279"/>
                    </a:lnTo>
                    <a:lnTo>
                      <a:pt x="926" y="303"/>
                    </a:lnTo>
                    <a:lnTo>
                      <a:pt x="917" y="333"/>
                    </a:lnTo>
                    <a:lnTo>
                      <a:pt x="915" y="358"/>
                    </a:lnTo>
                    <a:lnTo>
                      <a:pt x="895" y="360"/>
                    </a:lnTo>
                    <a:lnTo>
                      <a:pt x="875" y="362"/>
                    </a:lnTo>
                    <a:lnTo>
                      <a:pt x="856" y="365"/>
                    </a:lnTo>
                    <a:lnTo>
                      <a:pt x="832" y="369"/>
                    </a:lnTo>
                    <a:lnTo>
                      <a:pt x="808" y="374"/>
                    </a:lnTo>
                    <a:lnTo>
                      <a:pt x="787" y="381"/>
                    </a:lnTo>
                    <a:lnTo>
                      <a:pt x="766" y="386"/>
                    </a:lnTo>
                    <a:lnTo>
                      <a:pt x="744" y="392"/>
                    </a:lnTo>
                    <a:lnTo>
                      <a:pt x="720" y="400"/>
                    </a:lnTo>
                    <a:lnTo>
                      <a:pt x="697" y="408"/>
                    </a:lnTo>
                    <a:lnTo>
                      <a:pt x="673" y="416"/>
                    </a:lnTo>
                    <a:lnTo>
                      <a:pt x="652" y="423"/>
                    </a:lnTo>
                    <a:lnTo>
                      <a:pt x="630" y="433"/>
                    </a:lnTo>
                    <a:lnTo>
                      <a:pt x="607" y="441"/>
                    </a:lnTo>
                    <a:lnTo>
                      <a:pt x="588" y="448"/>
                    </a:lnTo>
                    <a:lnTo>
                      <a:pt x="563" y="458"/>
                    </a:lnTo>
                    <a:lnTo>
                      <a:pt x="532" y="473"/>
                    </a:lnTo>
                    <a:lnTo>
                      <a:pt x="707" y="312"/>
                    </a:lnTo>
                    <a:lnTo>
                      <a:pt x="677" y="295"/>
                    </a:lnTo>
                    <a:lnTo>
                      <a:pt x="649" y="285"/>
                    </a:lnTo>
                    <a:lnTo>
                      <a:pt x="596" y="267"/>
                    </a:lnTo>
                    <a:lnTo>
                      <a:pt x="570" y="262"/>
                    </a:lnTo>
                    <a:lnTo>
                      <a:pt x="544" y="255"/>
                    </a:lnTo>
                    <a:lnTo>
                      <a:pt x="496" y="247"/>
                    </a:lnTo>
                    <a:lnTo>
                      <a:pt x="466" y="243"/>
                    </a:lnTo>
                    <a:lnTo>
                      <a:pt x="432" y="236"/>
                    </a:lnTo>
                    <a:lnTo>
                      <a:pt x="404" y="234"/>
                    </a:lnTo>
                    <a:lnTo>
                      <a:pt x="379" y="232"/>
                    </a:lnTo>
                    <a:lnTo>
                      <a:pt x="355" y="230"/>
                    </a:lnTo>
                    <a:lnTo>
                      <a:pt x="327" y="230"/>
                    </a:lnTo>
                    <a:lnTo>
                      <a:pt x="298" y="231"/>
                    </a:lnTo>
                    <a:lnTo>
                      <a:pt x="268" y="235"/>
                    </a:lnTo>
                    <a:lnTo>
                      <a:pt x="241" y="237"/>
                    </a:lnTo>
                    <a:lnTo>
                      <a:pt x="210" y="244"/>
                    </a:lnTo>
                    <a:lnTo>
                      <a:pt x="180" y="252"/>
                    </a:lnTo>
                    <a:lnTo>
                      <a:pt x="147" y="263"/>
                    </a:lnTo>
                    <a:lnTo>
                      <a:pt x="118" y="273"/>
                    </a:lnTo>
                    <a:lnTo>
                      <a:pt x="86" y="285"/>
                    </a:lnTo>
                    <a:lnTo>
                      <a:pt x="53" y="299"/>
                    </a:lnTo>
                    <a:lnTo>
                      <a:pt x="0" y="321"/>
                    </a:lnTo>
                  </a:path>
                </a:pathLst>
              </a:custGeom>
              <a:gradFill rotWithShape="0">
                <a:gsLst>
                  <a:gs pos="0">
                    <a:srgbClr val="ffad35"/>
                  </a:gs>
                  <a:gs pos="100000">
                    <a:srgbClr val="7b531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" name=""/>
            <p:cNvSpPr/>
            <p:nvPr/>
          </p:nvSpPr>
          <p:spPr>
            <a:xfrm>
              <a:off x="5124960" y="5653080"/>
              <a:ext cx="1759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c00"/>
                  </a:solidFill>
                  <a:latin typeface="Arial Narrow"/>
                </a:rPr>
                <a:t> </a:t>
              </a:r>
              <a:r>
                <a:rPr b="1" lang="en-US" sz="3200" spc="-1" strike="noStrike">
                  <a:solidFill>
                    <a:srgbClr val="ffcc00"/>
                  </a:solidFill>
                  <a:latin typeface="Arial Narrow"/>
                </a:rPr>
                <a:t>Socieda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000"/>
                            </p:stCondLst>
                            <p:childTnLst>
                              <p:par>
                                <p:cTn id="5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500"/>
                            </p:stCondLst>
                            <p:childTnLst>
                              <p:par>
                                <p:cTn id="5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101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-22860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Por eso, también importan el DÓNDE y el CUÁ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09680" y="973440"/>
            <a:ext cx="8047080" cy="4393800"/>
            <a:chOff x="409680" y="973440"/>
            <a:chExt cx="8047080" cy="4393800"/>
          </a:xfrm>
        </p:grpSpPr>
        <p:sp>
          <p:nvSpPr>
            <p:cNvPr id="165" name=""/>
            <p:cNvSpPr/>
            <p:nvPr/>
          </p:nvSpPr>
          <p:spPr>
            <a:xfrm>
              <a:off x="738360" y="1582560"/>
              <a:ext cx="3247920" cy="3070440"/>
            </a:xfrm>
            <a:prstGeom prst="ellipse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1a1a6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09680" y="2083320"/>
              <a:ext cx="3905280" cy="20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Una estrategia </a:t>
              </a:r>
              <a:br>
                <a:rPr sz="2600"/>
              </a:b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ADECUADA </a:t>
              </a:r>
              <a:br>
                <a:rPr sz="2600"/>
              </a:b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a la situación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del país, empresa </a:t>
              </a:r>
              <a:br>
                <a:rPr sz="2600"/>
              </a:b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o industria…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208480" y="1644480"/>
              <a:ext cx="3248280" cy="3070440"/>
            </a:xfrm>
            <a:prstGeom prst="ellipse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1a1a6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443560" y="2052720"/>
              <a:ext cx="2776680" cy="22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…</a:t>
              </a: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en un MOMENTO </a:t>
              </a:r>
              <a:br>
                <a:rPr sz="2600"/>
              </a:b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específico </a:t>
              </a:r>
              <a:br>
                <a:rPr sz="2600"/>
              </a:b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del cambiante </a:t>
              </a:r>
              <a:br>
                <a:rPr sz="2600"/>
              </a:br>
              <a:r>
                <a:rPr b="1" lang="es-ES_tradnl" sz="2600" spc="-1" strike="noStrike">
                  <a:solidFill>
                    <a:srgbClr val="ffcb39"/>
                  </a:solidFill>
                  <a:latin typeface="Arial Narrow"/>
                </a:rPr>
                <a:t>contexto mund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3190680" y="973440"/>
              <a:ext cx="2856600" cy="1567440"/>
              <a:chOff x="3190680" y="973440"/>
              <a:chExt cx="2856600" cy="1567440"/>
            </a:xfrm>
          </p:grpSpPr>
          <p:sp>
            <p:nvSpPr>
              <p:cNvPr id="170" name=""/>
              <p:cNvSpPr/>
              <p:nvPr/>
            </p:nvSpPr>
            <p:spPr>
              <a:xfrm flipH="1" flipV="1" rot="10968600">
                <a:off x="3210840" y="1599480"/>
                <a:ext cx="1864440" cy="377640"/>
              </a:xfrm>
              <a:custGeom>
                <a:avLst/>
                <a:gdLst/>
                <a:ahLst/>
                <a:rect l="l" t="t" r="r" b="b"/>
                <a:pathLst>
                  <a:path w="729" h="136">
                    <a:moveTo>
                      <a:pt x="0" y="107"/>
                    </a:moveTo>
                    <a:lnTo>
                      <a:pt x="16" y="130"/>
                    </a:lnTo>
                    <a:lnTo>
                      <a:pt x="59" y="112"/>
                    </a:lnTo>
                    <a:lnTo>
                      <a:pt x="98" y="99"/>
                    </a:lnTo>
                    <a:lnTo>
                      <a:pt x="135" y="89"/>
                    </a:lnTo>
                    <a:lnTo>
                      <a:pt x="173" y="77"/>
                    </a:lnTo>
                    <a:lnTo>
                      <a:pt x="207" y="70"/>
                    </a:lnTo>
                    <a:lnTo>
                      <a:pt x="237" y="65"/>
                    </a:lnTo>
                    <a:lnTo>
                      <a:pt x="264" y="60"/>
                    </a:lnTo>
                    <a:lnTo>
                      <a:pt x="295" y="55"/>
                    </a:lnTo>
                    <a:lnTo>
                      <a:pt x="324" y="54"/>
                    </a:lnTo>
                    <a:lnTo>
                      <a:pt x="360" y="56"/>
                    </a:lnTo>
                    <a:lnTo>
                      <a:pt x="388" y="57"/>
                    </a:lnTo>
                    <a:lnTo>
                      <a:pt x="418" y="59"/>
                    </a:lnTo>
                    <a:lnTo>
                      <a:pt x="447" y="64"/>
                    </a:lnTo>
                    <a:lnTo>
                      <a:pt x="483" y="67"/>
                    </a:lnTo>
                    <a:lnTo>
                      <a:pt x="522" y="75"/>
                    </a:lnTo>
                    <a:lnTo>
                      <a:pt x="546" y="82"/>
                    </a:lnTo>
                    <a:lnTo>
                      <a:pt x="572" y="90"/>
                    </a:lnTo>
                    <a:lnTo>
                      <a:pt x="598" y="96"/>
                    </a:lnTo>
                    <a:lnTo>
                      <a:pt x="623" y="105"/>
                    </a:lnTo>
                    <a:lnTo>
                      <a:pt x="656" y="121"/>
                    </a:lnTo>
                    <a:lnTo>
                      <a:pt x="679" y="135"/>
                    </a:lnTo>
                    <a:lnTo>
                      <a:pt x="728" y="93"/>
                    </a:lnTo>
                    <a:lnTo>
                      <a:pt x="688" y="68"/>
                    </a:lnTo>
                    <a:lnTo>
                      <a:pt x="637" y="48"/>
                    </a:lnTo>
                    <a:lnTo>
                      <a:pt x="589" y="35"/>
                    </a:lnTo>
                    <a:lnTo>
                      <a:pt x="529" y="23"/>
                    </a:lnTo>
                    <a:lnTo>
                      <a:pt x="449" y="5"/>
                    </a:lnTo>
                    <a:lnTo>
                      <a:pt x="369" y="0"/>
                    </a:lnTo>
                    <a:lnTo>
                      <a:pt x="289" y="2"/>
                    </a:lnTo>
                    <a:lnTo>
                      <a:pt x="225" y="14"/>
                    </a:lnTo>
                    <a:lnTo>
                      <a:pt x="148" y="34"/>
                    </a:lnTo>
                    <a:lnTo>
                      <a:pt x="91" y="59"/>
                    </a:lnTo>
                    <a:lnTo>
                      <a:pt x="0" y="107"/>
                    </a:lnTo>
                  </a:path>
                </a:pathLst>
              </a:custGeom>
              <a:gradFill rotWithShape="0">
                <a:gsLst>
                  <a:gs pos="0">
                    <a:srgbClr val="ebebf9"/>
                  </a:gs>
                  <a:gs pos="100000">
                    <a:srgbClr val="3333cc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 flipV="1" rot="10968600">
                <a:off x="5541120" y="1113840"/>
                <a:ext cx="478080" cy="1148040"/>
              </a:xfrm>
              <a:custGeom>
                <a:avLst/>
                <a:gdLst/>
                <a:ahLst/>
                <a:rect l="l" t="t" r="r" b="b"/>
                <a:pathLst>
                  <a:path w="187" h="414">
                    <a:moveTo>
                      <a:pt x="8" y="359"/>
                    </a:moveTo>
                    <a:lnTo>
                      <a:pt x="44" y="413"/>
                    </a:lnTo>
                    <a:lnTo>
                      <a:pt x="45" y="391"/>
                    </a:lnTo>
                    <a:lnTo>
                      <a:pt x="50" y="371"/>
                    </a:lnTo>
                    <a:lnTo>
                      <a:pt x="56" y="344"/>
                    </a:lnTo>
                    <a:lnTo>
                      <a:pt x="64" y="315"/>
                    </a:lnTo>
                    <a:lnTo>
                      <a:pt x="71" y="284"/>
                    </a:lnTo>
                    <a:lnTo>
                      <a:pt x="79" y="254"/>
                    </a:lnTo>
                    <a:lnTo>
                      <a:pt x="88" y="228"/>
                    </a:lnTo>
                    <a:lnTo>
                      <a:pt x="96" y="204"/>
                    </a:lnTo>
                    <a:lnTo>
                      <a:pt x="106" y="181"/>
                    </a:lnTo>
                    <a:lnTo>
                      <a:pt x="117" y="156"/>
                    </a:lnTo>
                    <a:lnTo>
                      <a:pt x="130" y="130"/>
                    </a:lnTo>
                    <a:lnTo>
                      <a:pt x="144" y="106"/>
                    </a:lnTo>
                    <a:lnTo>
                      <a:pt x="159" y="85"/>
                    </a:lnTo>
                    <a:lnTo>
                      <a:pt x="174" y="61"/>
                    </a:lnTo>
                    <a:lnTo>
                      <a:pt x="186" y="42"/>
                    </a:lnTo>
                    <a:lnTo>
                      <a:pt x="159" y="0"/>
                    </a:lnTo>
                    <a:lnTo>
                      <a:pt x="136" y="29"/>
                    </a:lnTo>
                    <a:lnTo>
                      <a:pt x="103" y="75"/>
                    </a:lnTo>
                    <a:lnTo>
                      <a:pt x="64" y="134"/>
                    </a:lnTo>
                    <a:lnTo>
                      <a:pt x="40" y="186"/>
                    </a:lnTo>
                    <a:lnTo>
                      <a:pt x="25" y="246"/>
                    </a:lnTo>
                    <a:lnTo>
                      <a:pt x="10" y="299"/>
                    </a:lnTo>
                    <a:lnTo>
                      <a:pt x="0" y="345"/>
                    </a:lnTo>
                    <a:lnTo>
                      <a:pt x="43" y="412"/>
                    </a:lnTo>
                    <a:lnTo>
                      <a:pt x="43" y="411"/>
                    </a:lnTo>
                    <a:lnTo>
                      <a:pt x="8" y="359"/>
                    </a:lnTo>
                  </a:path>
                </a:pathLst>
              </a:custGeom>
              <a:gradFill rotWithShape="0">
                <a:gsLst>
                  <a:gs pos="0">
                    <a:srgbClr val="ebebf9"/>
                  </a:gs>
                  <a:gs pos="100000">
                    <a:srgbClr val="3333cc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 flipV="1" rot="10968600">
                <a:off x="4563360" y="2057760"/>
                <a:ext cx="1069200" cy="457200"/>
              </a:xfrm>
              <a:custGeom>
                <a:avLst/>
                <a:gdLst/>
                <a:ahLst/>
                <a:rect l="l" t="t" r="r" b="b"/>
                <a:pathLst>
                  <a:path w="418" h="165">
                    <a:moveTo>
                      <a:pt x="0" y="119"/>
                    </a:moveTo>
                    <a:lnTo>
                      <a:pt x="30" y="164"/>
                    </a:lnTo>
                    <a:lnTo>
                      <a:pt x="53" y="154"/>
                    </a:lnTo>
                    <a:lnTo>
                      <a:pt x="75" y="145"/>
                    </a:lnTo>
                    <a:lnTo>
                      <a:pt x="100" y="137"/>
                    </a:lnTo>
                    <a:lnTo>
                      <a:pt x="123" y="127"/>
                    </a:lnTo>
                    <a:lnTo>
                      <a:pt x="151" y="118"/>
                    </a:lnTo>
                    <a:lnTo>
                      <a:pt x="182" y="107"/>
                    </a:lnTo>
                    <a:lnTo>
                      <a:pt x="221" y="96"/>
                    </a:lnTo>
                    <a:lnTo>
                      <a:pt x="259" y="85"/>
                    </a:lnTo>
                    <a:lnTo>
                      <a:pt x="284" y="78"/>
                    </a:lnTo>
                    <a:lnTo>
                      <a:pt x="315" y="71"/>
                    </a:lnTo>
                    <a:lnTo>
                      <a:pt x="347" y="65"/>
                    </a:lnTo>
                    <a:lnTo>
                      <a:pt x="378" y="60"/>
                    </a:lnTo>
                    <a:lnTo>
                      <a:pt x="403" y="58"/>
                    </a:lnTo>
                    <a:lnTo>
                      <a:pt x="417" y="57"/>
                    </a:lnTo>
                    <a:lnTo>
                      <a:pt x="380" y="1"/>
                    </a:lnTo>
                    <a:lnTo>
                      <a:pt x="351" y="0"/>
                    </a:lnTo>
                    <a:lnTo>
                      <a:pt x="297" y="7"/>
                    </a:lnTo>
                    <a:lnTo>
                      <a:pt x="238" y="18"/>
                    </a:lnTo>
                    <a:lnTo>
                      <a:pt x="188" y="34"/>
                    </a:lnTo>
                    <a:lnTo>
                      <a:pt x="132" y="52"/>
                    </a:lnTo>
                    <a:lnTo>
                      <a:pt x="77" y="74"/>
                    </a:lnTo>
                    <a:lnTo>
                      <a:pt x="41" y="92"/>
                    </a:lnTo>
                    <a:lnTo>
                      <a:pt x="0" y="119"/>
                    </a:lnTo>
                  </a:path>
                </a:pathLst>
              </a:custGeom>
              <a:gradFill rotWithShape="0">
                <a:gsLst>
                  <a:gs pos="0">
                    <a:srgbClr val="ebebf9"/>
                  </a:gs>
                  <a:gs pos="100000">
                    <a:srgbClr val="3333cc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 flipV="1" rot="10968600">
                <a:off x="3221280" y="1038960"/>
                <a:ext cx="2728080" cy="1314000"/>
              </a:xfrm>
              <a:custGeom>
                <a:avLst/>
                <a:gdLst/>
                <a:ahLst/>
                <a:rect l="l" t="t" r="r" b="b"/>
                <a:pathLst>
                  <a:path w="1067" h="474">
                    <a:moveTo>
                      <a:pt x="0" y="321"/>
                    </a:moveTo>
                    <a:lnTo>
                      <a:pt x="45" y="285"/>
                    </a:lnTo>
                    <a:lnTo>
                      <a:pt x="71" y="270"/>
                    </a:lnTo>
                    <a:lnTo>
                      <a:pt x="100" y="251"/>
                    </a:lnTo>
                    <a:lnTo>
                      <a:pt x="128" y="235"/>
                    </a:lnTo>
                    <a:lnTo>
                      <a:pt x="158" y="219"/>
                    </a:lnTo>
                    <a:lnTo>
                      <a:pt x="186" y="205"/>
                    </a:lnTo>
                    <a:lnTo>
                      <a:pt x="215" y="193"/>
                    </a:lnTo>
                    <a:lnTo>
                      <a:pt x="244" y="180"/>
                    </a:lnTo>
                    <a:lnTo>
                      <a:pt x="283" y="166"/>
                    </a:lnTo>
                    <a:lnTo>
                      <a:pt x="319" y="157"/>
                    </a:lnTo>
                    <a:lnTo>
                      <a:pt x="351" y="147"/>
                    </a:lnTo>
                    <a:lnTo>
                      <a:pt x="390" y="140"/>
                    </a:lnTo>
                    <a:lnTo>
                      <a:pt x="429" y="132"/>
                    </a:lnTo>
                    <a:lnTo>
                      <a:pt x="466" y="126"/>
                    </a:lnTo>
                    <a:lnTo>
                      <a:pt x="498" y="123"/>
                    </a:lnTo>
                    <a:lnTo>
                      <a:pt x="535" y="117"/>
                    </a:lnTo>
                    <a:lnTo>
                      <a:pt x="567" y="115"/>
                    </a:lnTo>
                    <a:lnTo>
                      <a:pt x="603" y="113"/>
                    </a:lnTo>
                    <a:lnTo>
                      <a:pt x="638" y="110"/>
                    </a:lnTo>
                    <a:lnTo>
                      <a:pt x="675" y="112"/>
                    </a:lnTo>
                    <a:lnTo>
                      <a:pt x="709" y="111"/>
                    </a:lnTo>
                    <a:lnTo>
                      <a:pt x="745" y="114"/>
                    </a:lnTo>
                    <a:lnTo>
                      <a:pt x="780" y="118"/>
                    </a:lnTo>
                    <a:lnTo>
                      <a:pt x="813" y="122"/>
                    </a:lnTo>
                    <a:lnTo>
                      <a:pt x="842" y="130"/>
                    </a:lnTo>
                    <a:lnTo>
                      <a:pt x="869" y="138"/>
                    </a:lnTo>
                    <a:lnTo>
                      <a:pt x="892" y="148"/>
                    </a:lnTo>
                    <a:lnTo>
                      <a:pt x="1066" y="0"/>
                    </a:lnTo>
                    <a:lnTo>
                      <a:pt x="1047" y="30"/>
                    </a:lnTo>
                    <a:lnTo>
                      <a:pt x="1025" y="64"/>
                    </a:lnTo>
                    <a:lnTo>
                      <a:pt x="1008" y="92"/>
                    </a:lnTo>
                    <a:lnTo>
                      <a:pt x="995" y="112"/>
                    </a:lnTo>
                    <a:lnTo>
                      <a:pt x="981" y="136"/>
                    </a:lnTo>
                    <a:lnTo>
                      <a:pt x="972" y="157"/>
                    </a:lnTo>
                    <a:lnTo>
                      <a:pt x="963" y="178"/>
                    </a:lnTo>
                    <a:lnTo>
                      <a:pt x="957" y="199"/>
                    </a:lnTo>
                    <a:lnTo>
                      <a:pt x="947" y="223"/>
                    </a:lnTo>
                    <a:lnTo>
                      <a:pt x="939" y="250"/>
                    </a:lnTo>
                    <a:lnTo>
                      <a:pt x="932" y="279"/>
                    </a:lnTo>
                    <a:lnTo>
                      <a:pt x="926" y="303"/>
                    </a:lnTo>
                    <a:lnTo>
                      <a:pt x="917" y="333"/>
                    </a:lnTo>
                    <a:lnTo>
                      <a:pt x="915" y="358"/>
                    </a:lnTo>
                    <a:lnTo>
                      <a:pt x="895" y="360"/>
                    </a:lnTo>
                    <a:lnTo>
                      <a:pt x="875" y="362"/>
                    </a:lnTo>
                    <a:lnTo>
                      <a:pt x="856" y="365"/>
                    </a:lnTo>
                    <a:lnTo>
                      <a:pt x="832" y="369"/>
                    </a:lnTo>
                    <a:lnTo>
                      <a:pt x="808" y="374"/>
                    </a:lnTo>
                    <a:lnTo>
                      <a:pt x="787" y="381"/>
                    </a:lnTo>
                    <a:lnTo>
                      <a:pt x="766" y="386"/>
                    </a:lnTo>
                    <a:lnTo>
                      <a:pt x="744" y="392"/>
                    </a:lnTo>
                    <a:lnTo>
                      <a:pt x="720" y="400"/>
                    </a:lnTo>
                    <a:lnTo>
                      <a:pt x="697" y="408"/>
                    </a:lnTo>
                    <a:lnTo>
                      <a:pt x="673" y="416"/>
                    </a:lnTo>
                    <a:lnTo>
                      <a:pt x="652" y="423"/>
                    </a:lnTo>
                    <a:lnTo>
                      <a:pt x="630" y="433"/>
                    </a:lnTo>
                    <a:lnTo>
                      <a:pt x="607" y="441"/>
                    </a:lnTo>
                    <a:lnTo>
                      <a:pt x="588" y="448"/>
                    </a:lnTo>
                    <a:lnTo>
                      <a:pt x="563" y="458"/>
                    </a:lnTo>
                    <a:lnTo>
                      <a:pt x="532" y="473"/>
                    </a:lnTo>
                    <a:lnTo>
                      <a:pt x="707" y="312"/>
                    </a:lnTo>
                    <a:lnTo>
                      <a:pt x="677" y="295"/>
                    </a:lnTo>
                    <a:lnTo>
                      <a:pt x="649" y="285"/>
                    </a:lnTo>
                    <a:lnTo>
                      <a:pt x="596" y="267"/>
                    </a:lnTo>
                    <a:lnTo>
                      <a:pt x="570" y="262"/>
                    </a:lnTo>
                    <a:lnTo>
                      <a:pt x="544" y="255"/>
                    </a:lnTo>
                    <a:lnTo>
                      <a:pt x="496" y="247"/>
                    </a:lnTo>
                    <a:lnTo>
                      <a:pt x="466" y="243"/>
                    </a:lnTo>
                    <a:lnTo>
                      <a:pt x="432" y="236"/>
                    </a:lnTo>
                    <a:lnTo>
                      <a:pt x="404" y="234"/>
                    </a:lnTo>
                    <a:lnTo>
                      <a:pt x="379" y="232"/>
                    </a:lnTo>
                    <a:lnTo>
                      <a:pt x="355" y="230"/>
                    </a:lnTo>
                    <a:lnTo>
                      <a:pt x="327" y="230"/>
                    </a:lnTo>
                    <a:lnTo>
                      <a:pt x="298" y="231"/>
                    </a:lnTo>
                    <a:lnTo>
                      <a:pt x="268" y="235"/>
                    </a:lnTo>
                    <a:lnTo>
                      <a:pt x="241" y="237"/>
                    </a:lnTo>
                    <a:lnTo>
                      <a:pt x="210" y="244"/>
                    </a:lnTo>
                    <a:lnTo>
                      <a:pt x="180" y="252"/>
                    </a:lnTo>
                    <a:lnTo>
                      <a:pt x="147" y="263"/>
                    </a:lnTo>
                    <a:lnTo>
                      <a:pt x="118" y="273"/>
                    </a:lnTo>
                    <a:lnTo>
                      <a:pt x="86" y="285"/>
                    </a:lnTo>
                    <a:lnTo>
                      <a:pt x="53" y="299"/>
                    </a:lnTo>
                    <a:lnTo>
                      <a:pt x="0" y="321"/>
                    </a:lnTo>
                  </a:path>
                </a:pathLst>
              </a:custGeom>
              <a:gradFill rotWithShape="0">
                <a:gsLst>
                  <a:gs pos="0">
                    <a:srgbClr val="ebebf9"/>
                  </a:gs>
                  <a:gs pos="100000">
                    <a:srgbClr val="3333cc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3135600" y="3987360"/>
              <a:ext cx="2587320" cy="1379880"/>
              <a:chOff x="3135600" y="3987360"/>
              <a:chExt cx="2587320" cy="1379880"/>
            </a:xfrm>
          </p:grpSpPr>
          <p:sp>
            <p:nvSpPr>
              <p:cNvPr id="175" name=""/>
              <p:cNvSpPr/>
              <p:nvPr/>
            </p:nvSpPr>
            <p:spPr>
              <a:xfrm rot="10892400">
                <a:off x="4009320" y="4465080"/>
                <a:ext cx="1704960" cy="343800"/>
              </a:xfrm>
              <a:custGeom>
                <a:avLst/>
                <a:gdLst/>
                <a:ahLst/>
                <a:rect l="l" t="t" r="r" b="b"/>
                <a:pathLst>
                  <a:path w="729" h="136">
                    <a:moveTo>
                      <a:pt x="0" y="107"/>
                    </a:moveTo>
                    <a:lnTo>
                      <a:pt x="16" y="130"/>
                    </a:lnTo>
                    <a:lnTo>
                      <a:pt x="59" y="112"/>
                    </a:lnTo>
                    <a:lnTo>
                      <a:pt x="98" y="99"/>
                    </a:lnTo>
                    <a:lnTo>
                      <a:pt x="135" y="89"/>
                    </a:lnTo>
                    <a:lnTo>
                      <a:pt x="173" y="77"/>
                    </a:lnTo>
                    <a:lnTo>
                      <a:pt x="207" y="70"/>
                    </a:lnTo>
                    <a:lnTo>
                      <a:pt x="237" y="65"/>
                    </a:lnTo>
                    <a:lnTo>
                      <a:pt x="264" y="60"/>
                    </a:lnTo>
                    <a:lnTo>
                      <a:pt x="295" y="55"/>
                    </a:lnTo>
                    <a:lnTo>
                      <a:pt x="324" y="54"/>
                    </a:lnTo>
                    <a:lnTo>
                      <a:pt x="360" y="56"/>
                    </a:lnTo>
                    <a:lnTo>
                      <a:pt x="388" y="57"/>
                    </a:lnTo>
                    <a:lnTo>
                      <a:pt x="418" y="59"/>
                    </a:lnTo>
                    <a:lnTo>
                      <a:pt x="447" y="64"/>
                    </a:lnTo>
                    <a:lnTo>
                      <a:pt x="483" y="67"/>
                    </a:lnTo>
                    <a:lnTo>
                      <a:pt x="522" y="75"/>
                    </a:lnTo>
                    <a:lnTo>
                      <a:pt x="546" y="82"/>
                    </a:lnTo>
                    <a:lnTo>
                      <a:pt x="572" y="90"/>
                    </a:lnTo>
                    <a:lnTo>
                      <a:pt x="598" y="96"/>
                    </a:lnTo>
                    <a:lnTo>
                      <a:pt x="623" y="105"/>
                    </a:lnTo>
                    <a:lnTo>
                      <a:pt x="656" y="121"/>
                    </a:lnTo>
                    <a:lnTo>
                      <a:pt x="679" y="135"/>
                    </a:lnTo>
                    <a:lnTo>
                      <a:pt x="728" y="93"/>
                    </a:lnTo>
                    <a:lnTo>
                      <a:pt x="688" y="68"/>
                    </a:lnTo>
                    <a:lnTo>
                      <a:pt x="637" y="48"/>
                    </a:lnTo>
                    <a:lnTo>
                      <a:pt x="589" y="35"/>
                    </a:lnTo>
                    <a:lnTo>
                      <a:pt x="529" y="23"/>
                    </a:lnTo>
                    <a:lnTo>
                      <a:pt x="449" y="5"/>
                    </a:lnTo>
                    <a:lnTo>
                      <a:pt x="369" y="0"/>
                    </a:lnTo>
                    <a:lnTo>
                      <a:pt x="289" y="2"/>
                    </a:lnTo>
                    <a:lnTo>
                      <a:pt x="225" y="14"/>
                    </a:lnTo>
                    <a:lnTo>
                      <a:pt x="148" y="34"/>
                    </a:lnTo>
                    <a:lnTo>
                      <a:pt x="91" y="59"/>
                    </a:lnTo>
                    <a:lnTo>
                      <a:pt x="0" y="107"/>
                    </a:lnTo>
                  </a:path>
                </a:pathLst>
              </a:custGeom>
              <a:gradFill rotWithShape="0">
                <a:gsLst>
                  <a:gs pos="0">
                    <a:srgbClr val="ebebf9"/>
                  </a:gs>
                  <a:gs pos="100000">
                    <a:srgbClr val="3333cc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10892400">
                <a:off x="3149640" y="4246560"/>
                <a:ext cx="437040" cy="1050480"/>
              </a:xfrm>
              <a:custGeom>
                <a:avLst/>
                <a:gdLst/>
                <a:ahLst/>
                <a:rect l="l" t="t" r="r" b="b"/>
                <a:pathLst>
                  <a:path w="187" h="414">
                    <a:moveTo>
                      <a:pt x="8" y="359"/>
                    </a:moveTo>
                    <a:lnTo>
                      <a:pt x="44" y="413"/>
                    </a:lnTo>
                    <a:lnTo>
                      <a:pt x="45" y="391"/>
                    </a:lnTo>
                    <a:lnTo>
                      <a:pt x="50" y="371"/>
                    </a:lnTo>
                    <a:lnTo>
                      <a:pt x="56" y="344"/>
                    </a:lnTo>
                    <a:lnTo>
                      <a:pt x="64" y="315"/>
                    </a:lnTo>
                    <a:lnTo>
                      <a:pt x="71" y="284"/>
                    </a:lnTo>
                    <a:lnTo>
                      <a:pt x="79" y="254"/>
                    </a:lnTo>
                    <a:lnTo>
                      <a:pt x="88" y="228"/>
                    </a:lnTo>
                    <a:lnTo>
                      <a:pt x="96" y="204"/>
                    </a:lnTo>
                    <a:lnTo>
                      <a:pt x="106" y="181"/>
                    </a:lnTo>
                    <a:lnTo>
                      <a:pt x="117" y="156"/>
                    </a:lnTo>
                    <a:lnTo>
                      <a:pt x="130" y="130"/>
                    </a:lnTo>
                    <a:lnTo>
                      <a:pt x="144" y="106"/>
                    </a:lnTo>
                    <a:lnTo>
                      <a:pt x="159" y="85"/>
                    </a:lnTo>
                    <a:lnTo>
                      <a:pt x="174" y="61"/>
                    </a:lnTo>
                    <a:lnTo>
                      <a:pt x="186" y="42"/>
                    </a:lnTo>
                    <a:lnTo>
                      <a:pt x="159" y="0"/>
                    </a:lnTo>
                    <a:lnTo>
                      <a:pt x="136" y="29"/>
                    </a:lnTo>
                    <a:lnTo>
                      <a:pt x="103" y="75"/>
                    </a:lnTo>
                    <a:lnTo>
                      <a:pt x="64" y="134"/>
                    </a:lnTo>
                    <a:lnTo>
                      <a:pt x="40" y="186"/>
                    </a:lnTo>
                    <a:lnTo>
                      <a:pt x="25" y="246"/>
                    </a:lnTo>
                    <a:lnTo>
                      <a:pt x="10" y="299"/>
                    </a:lnTo>
                    <a:lnTo>
                      <a:pt x="0" y="345"/>
                    </a:lnTo>
                    <a:lnTo>
                      <a:pt x="43" y="412"/>
                    </a:lnTo>
                    <a:lnTo>
                      <a:pt x="43" y="411"/>
                    </a:lnTo>
                    <a:lnTo>
                      <a:pt x="8" y="359"/>
                    </a:lnTo>
                  </a:path>
                </a:pathLst>
              </a:custGeom>
              <a:gradFill rotWithShape="0">
                <a:gsLst>
                  <a:gs pos="0">
                    <a:srgbClr val="ebebf9"/>
                  </a:gs>
                  <a:gs pos="100000">
                    <a:srgbClr val="3333cc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10892400">
                <a:off x="3494520" y="4000320"/>
                <a:ext cx="978120" cy="419040"/>
              </a:xfrm>
              <a:custGeom>
                <a:avLst/>
                <a:gdLst/>
                <a:ahLst/>
                <a:rect l="l" t="t" r="r" b="b"/>
                <a:pathLst>
                  <a:path w="418" h="165">
                    <a:moveTo>
                      <a:pt x="0" y="119"/>
                    </a:moveTo>
                    <a:lnTo>
                      <a:pt x="30" y="164"/>
                    </a:lnTo>
                    <a:lnTo>
                      <a:pt x="53" y="154"/>
                    </a:lnTo>
                    <a:lnTo>
                      <a:pt x="75" y="145"/>
                    </a:lnTo>
                    <a:lnTo>
                      <a:pt x="100" y="137"/>
                    </a:lnTo>
                    <a:lnTo>
                      <a:pt x="123" y="127"/>
                    </a:lnTo>
                    <a:lnTo>
                      <a:pt x="151" y="118"/>
                    </a:lnTo>
                    <a:lnTo>
                      <a:pt x="182" y="107"/>
                    </a:lnTo>
                    <a:lnTo>
                      <a:pt x="221" y="96"/>
                    </a:lnTo>
                    <a:lnTo>
                      <a:pt x="259" y="85"/>
                    </a:lnTo>
                    <a:lnTo>
                      <a:pt x="284" y="78"/>
                    </a:lnTo>
                    <a:lnTo>
                      <a:pt x="315" y="71"/>
                    </a:lnTo>
                    <a:lnTo>
                      <a:pt x="347" y="65"/>
                    </a:lnTo>
                    <a:lnTo>
                      <a:pt x="378" y="60"/>
                    </a:lnTo>
                    <a:lnTo>
                      <a:pt x="403" y="58"/>
                    </a:lnTo>
                    <a:lnTo>
                      <a:pt x="417" y="57"/>
                    </a:lnTo>
                    <a:lnTo>
                      <a:pt x="380" y="1"/>
                    </a:lnTo>
                    <a:lnTo>
                      <a:pt x="351" y="0"/>
                    </a:lnTo>
                    <a:lnTo>
                      <a:pt x="297" y="7"/>
                    </a:lnTo>
                    <a:lnTo>
                      <a:pt x="238" y="18"/>
                    </a:lnTo>
                    <a:lnTo>
                      <a:pt x="188" y="34"/>
                    </a:lnTo>
                    <a:lnTo>
                      <a:pt x="132" y="52"/>
                    </a:lnTo>
                    <a:lnTo>
                      <a:pt x="77" y="74"/>
                    </a:lnTo>
                    <a:lnTo>
                      <a:pt x="41" y="92"/>
                    </a:lnTo>
                    <a:lnTo>
                      <a:pt x="0" y="119"/>
                    </a:lnTo>
                  </a:path>
                </a:pathLst>
              </a:custGeom>
              <a:gradFill rotWithShape="0">
                <a:gsLst>
                  <a:gs pos="0">
                    <a:srgbClr val="ebebf9"/>
                  </a:gs>
                  <a:gs pos="100000">
                    <a:srgbClr val="3333cc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10892400">
                <a:off x="3210840" y="4132080"/>
                <a:ext cx="2496240" cy="1201680"/>
              </a:xfrm>
              <a:custGeom>
                <a:avLst/>
                <a:gdLst/>
                <a:ahLst/>
                <a:rect l="l" t="t" r="r" b="b"/>
                <a:pathLst>
                  <a:path w="1067" h="474">
                    <a:moveTo>
                      <a:pt x="0" y="321"/>
                    </a:moveTo>
                    <a:lnTo>
                      <a:pt x="45" y="285"/>
                    </a:lnTo>
                    <a:lnTo>
                      <a:pt x="71" y="270"/>
                    </a:lnTo>
                    <a:lnTo>
                      <a:pt x="100" y="251"/>
                    </a:lnTo>
                    <a:lnTo>
                      <a:pt x="128" y="235"/>
                    </a:lnTo>
                    <a:lnTo>
                      <a:pt x="158" y="219"/>
                    </a:lnTo>
                    <a:lnTo>
                      <a:pt x="186" y="205"/>
                    </a:lnTo>
                    <a:lnTo>
                      <a:pt x="215" y="193"/>
                    </a:lnTo>
                    <a:lnTo>
                      <a:pt x="244" y="180"/>
                    </a:lnTo>
                    <a:lnTo>
                      <a:pt x="283" y="166"/>
                    </a:lnTo>
                    <a:lnTo>
                      <a:pt x="319" y="157"/>
                    </a:lnTo>
                    <a:lnTo>
                      <a:pt x="351" y="147"/>
                    </a:lnTo>
                    <a:lnTo>
                      <a:pt x="390" y="140"/>
                    </a:lnTo>
                    <a:lnTo>
                      <a:pt x="429" y="132"/>
                    </a:lnTo>
                    <a:lnTo>
                      <a:pt x="466" y="126"/>
                    </a:lnTo>
                    <a:lnTo>
                      <a:pt x="498" y="123"/>
                    </a:lnTo>
                    <a:lnTo>
                      <a:pt x="535" y="117"/>
                    </a:lnTo>
                    <a:lnTo>
                      <a:pt x="567" y="115"/>
                    </a:lnTo>
                    <a:lnTo>
                      <a:pt x="603" y="113"/>
                    </a:lnTo>
                    <a:lnTo>
                      <a:pt x="638" y="110"/>
                    </a:lnTo>
                    <a:lnTo>
                      <a:pt x="675" y="112"/>
                    </a:lnTo>
                    <a:lnTo>
                      <a:pt x="709" y="111"/>
                    </a:lnTo>
                    <a:lnTo>
                      <a:pt x="745" y="114"/>
                    </a:lnTo>
                    <a:lnTo>
                      <a:pt x="780" y="118"/>
                    </a:lnTo>
                    <a:lnTo>
                      <a:pt x="813" y="122"/>
                    </a:lnTo>
                    <a:lnTo>
                      <a:pt x="842" y="130"/>
                    </a:lnTo>
                    <a:lnTo>
                      <a:pt x="869" y="138"/>
                    </a:lnTo>
                    <a:lnTo>
                      <a:pt x="892" y="148"/>
                    </a:lnTo>
                    <a:lnTo>
                      <a:pt x="1066" y="0"/>
                    </a:lnTo>
                    <a:lnTo>
                      <a:pt x="1047" y="30"/>
                    </a:lnTo>
                    <a:lnTo>
                      <a:pt x="1025" y="64"/>
                    </a:lnTo>
                    <a:lnTo>
                      <a:pt x="1008" y="92"/>
                    </a:lnTo>
                    <a:lnTo>
                      <a:pt x="995" y="112"/>
                    </a:lnTo>
                    <a:lnTo>
                      <a:pt x="981" y="136"/>
                    </a:lnTo>
                    <a:lnTo>
                      <a:pt x="972" y="157"/>
                    </a:lnTo>
                    <a:lnTo>
                      <a:pt x="963" y="178"/>
                    </a:lnTo>
                    <a:lnTo>
                      <a:pt x="957" y="199"/>
                    </a:lnTo>
                    <a:lnTo>
                      <a:pt x="947" y="223"/>
                    </a:lnTo>
                    <a:lnTo>
                      <a:pt x="939" y="250"/>
                    </a:lnTo>
                    <a:lnTo>
                      <a:pt x="932" y="279"/>
                    </a:lnTo>
                    <a:lnTo>
                      <a:pt x="926" y="303"/>
                    </a:lnTo>
                    <a:lnTo>
                      <a:pt x="917" y="333"/>
                    </a:lnTo>
                    <a:lnTo>
                      <a:pt x="915" y="358"/>
                    </a:lnTo>
                    <a:lnTo>
                      <a:pt x="895" y="360"/>
                    </a:lnTo>
                    <a:lnTo>
                      <a:pt x="875" y="362"/>
                    </a:lnTo>
                    <a:lnTo>
                      <a:pt x="856" y="365"/>
                    </a:lnTo>
                    <a:lnTo>
                      <a:pt x="832" y="369"/>
                    </a:lnTo>
                    <a:lnTo>
                      <a:pt x="808" y="374"/>
                    </a:lnTo>
                    <a:lnTo>
                      <a:pt x="787" y="381"/>
                    </a:lnTo>
                    <a:lnTo>
                      <a:pt x="766" y="386"/>
                    </a:lnTo>
                    <a:lnTo>
                      <a:pt x="744" y="392"/>
                    </a:lnTo>
                    <a:lnTo>
                      <a:pt x="720" y="400"/>
                    </a:lnTo>
                    <a:lnTo>
                      <a:pt x="697" y="408"/>
                    </a:lnTo>
                    <a:lnTo>
                      <a:pt x="673" y="416"/>
                    </a:lnTo>
                    <a:lnTo>
                      <a:pt x="652" y="423"/>
                    </a:lnTo>
                    <a:lnTo>
                      <a:pt x="630" y="433"/>
                    </a:lnTo>
                    <a:lnTo>
                      <a:pt x="607" y="441"/>
                    </a:lnTo>
                    <a:lnTo>
                      <a:pt x="588" y="448"/>
                    </a:lnTo>
                    <a:lnTo>
                      <a:pt x="563" y="458"/>
                    </a:lnTo>
                    <a:lnTo>
                      <a:pt x="532" y="473"/>
                    </a:lnTo>
                    <a:lnTo>
                      <a:pt x="707" y="312"/>
                    </a:lnTo>
                    <a:lnTo>
                      <a:pt x="677" y="295"/>
                    </a:lnTo>
                    <a:lnTo>
                      <a:pt x="649" y="285"/>
                    </a:lnTo>
                    <a:lnTo>
                      <a:pt x="596" y="267"/>
                    </a:lnTo>
                    <a:lnTo>
                      <a:pt x="570" y="262"/>
                    </a:lnTo>
                    <a:lnTo>
                      <a:pt x="544" y="255"/>
                    </a:lnTo>
                    <a:lnTo>
                      <a:pt x="496" y="247"/>
                    </a:lnTo>
                    <a:lnTo>
                      <a:pt x="466" y="243"/>
                    </a:lnTo>
                    <a:lnTo>
                      <a:pt x="432" y="236"/>
                    </a:lnTo>
                    <a:lnTo>
                      <a:pt x="404" y="234"/>
                    </a:lnTo>
                    <a:lnTo>
                      <a:pt x="379" y="232"/>
                    </a:lnTo>
                    <a:lnTo>
                      <a:pt x="355" y="230"/>
                    </a:lnTo>
                    <a:lnTo>
                      <a:pt x="327" y="230"/>
                    </a:lnTo>
                    <a:lnTo>
                      <a:pt x="298" y="231"/>
                    </a:lnTo>
                    <a:lnTo>
                      <a:pt x="268" y="235"/>
                    </a:lnTo>
                    <a:lnTo>
                      <a:pt x="241" y="237"/>
                    </a:lnTo>
                    <a:lnTo>
                      <a:pt x="210" y="244"/>
                    </a:lnTo>
                    <a:lnTo>
                      <a:pt x="180" y="252"/>
                    </a:lnTo>
                    <a:lnTo>
                      <a:pt x="147" y="263"/>
                    </a:lnTo>
                    <a:lnTo>
                      <a:pt x="118" y="273"/>
                    </a:lnTo>
                    <a:lnTo>
                      <a:pt x="86" y="285"/>
                    </a:lnTo>
                    <a:lnTo>
                      <a:pt x="53" y="299"/>
                    </a:lnTo>
                    <a:lnTo>
                      <a:pt x="0" y="321"/>
                    </a:lnTo>
                  </a:path>
                </a:pathLst>
              </a:custGeom>
              <a:gradFill rotWithShape="0">
                <a:gsLst>
                  <a:gs pos="0">
                    <a:srgbClr val="ebebf9"/>
                  </a:gs>
                  <a:gs pos="100000">
                    <a:srgbClr val="3333cc"/>
                  </a:gs>
                </a:gsLst>
                <a:lin ang="10800000"/>
              </a:gra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9" name=""/>
          <p:cNvSpPr/>
          <p:nvPr/>
        </p:nvSpPr>
        <p:spPr>
          <a:xfrm>
            <a:off x="76320" y="5673600"/>
            <a:ext cx="91440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EL CRECIMIENTO SOSTENIDO EXIGE</a:t>
            </a:r>
            <a:br>
              <a:rPr sz="2800"/>
            </a:b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estrategias dinámicas anticipando el fut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0f0f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2063880" y="457200"/>
            <a:ext cx="5016240" cy="4697280"/>
            <a:chOff x="2063880" y="457200"/>
            <a:chExt cx="5016240" cy="4697280"/>
          </a:xfrm>
        </p:grpSpPr>
        <p:sp>
          <p:nvSpPr>
            <p:cNvPr id="181" name=""/>
            <p:cNvSpPr/>
            <p:nvPr/>
          </p:nvSpPr>
          <p:spPr>
            <a:xfrm>
              <a:off x="2063880" y="457200"/>
              <a:ext cx="5016240" cy="4697280"/>
            </a:xfrm>
            <a:prstGeom prst="ellipse">
              <a:avLst/>
            </a:prstGeom>
            <a:gradFill rotWithShape="0">
              <a:gsLst>
                <a:gs pos="0">
                  <a:srgbClr val="294ea9"/>
                </a:gs>
                <a:gs pos="100000">
                  <a:srgbClr val="a3b3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64560" y="982800"/>
              <a:ext cx="2421000" cy="268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400" spc="-1" strike="noStrike">
                  <a:solidFill>
                    <a:srgbClr val="ffffff"/>
                  </a:solidFill>
                  <a:latin typeface="Arial Narrow"/>
                </a:rPr>
                <a:t>¿EN QUÉ</a:t>
              </a:r>
              <a:br>
                <a:rPr sz="3400"/>
              </a:br>
              <a:r>
                <a:rPr b="1" lang="es-ES_tradnl" sz="3400" spc="-1" strike="noStrike">
                  <a:solidFill>
                    <a:srgbClr val="ffffff"/>
                  </a:solidFill>
                  <a:latin typeface="Arial Narrow"/>
                </a:rPr>
                <a:t>BASARNOS</a:t>
              </a:r>
              <a:br>
                <a:rPr sz="3400"/>
              </a:br>
              <a:r>
                <a:rPr b="1" lang="es-ES_tradnl" sz="3400" spc="-1" strike="noStrike">
                  <a:solidFill>
                    <a:srgbClr val="ffffff"/>
                  </a:solidFill>
                  <a:latin typeface="Arial Narrow"/>
                </a:rPr>
                <a:t>PARA</a:t>
              </a:r>
              <a:br>
                <a:rPr sz="3400"/>
              </a:br>
              <a:r>
                <a:rPr b="1" lang="es-ES_tradnl" sz="3400" spc="-1" strike="noStrike">
                  <a:solidFill>
                    <a:srgbClr val="ffffff"/>
                  </a:solidFill>
                  <a:latin typeface="Arial Narrow"/>
                </a:rPr>
                <a:t>ATISBAR</a:t>
              </a:r>
              <a:br>
                <a:rPr sz="3400"/>
              </a:br>
              <a:r>
                <a:rPr b="1" lang="es-ES_tradnl" sz="3400" spc="-1" strike="noStrike">
                  <a:solidFill>
                    <a:srgbClr val="ffffff"/>
                  </a:solidFill>
                  <a:latin typeface="Arial Narrow"/>
                </a:rPr>
                <a:t>EL FUTURO?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4150800" y="3733920"/>
            <a:ext cx="842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0" spc="-1" strike="noStrike">
                <a:solidFill>
                  <a:srgbClr val="ffad35"/>
                </a:solidFill>
                <a:latin typeface="Arial Black"/>
              </a:rPr>
              <a:t>?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80880" y="7632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EL ESTUDIO DE LAS REVOLUCIONES TECNOLÓGICAS </a:t>
            </a:r>
            <a:br>
              <a:rPr sz="2800"/>
            </a:br>
            <a:r>
              <a:rPr b="1" lang="es-ES_tradnl" sz="2800" spc="-1" strike="noStrike">
                <a:solidFill>
                  <a:srgbClr val="ffffff"/>
                </a:solidFill>
                <a:latin typeface="Arial Narrow"/>
              </a:rPr>
              <a:t>Y SU PROCESO DE ASIMI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4952880" y="2438280"/>
            <a:ext cx="3810240" cy="3637080"/>
            <a:chOff x="4952880" y="2438280"/>
            <a:chExt cx="3810240" cy="3637080"/>
          </a:xfrm>
        </p:grpSpPr>
        <p:sp>
          <p:nvSpPr>
            <p:cNvPr id="186" name=""/>
            <p:cNvSpPr/>
            <p:nvPr/>
          </p:nvSpPr>
          <p:spPr>
            <a:xfrm>
              <a:off x="4952880" y="2438280"/>
              <a:ext cx="3810240" cy="3637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ad3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109840" y="2879640"/>
              <a:ext cx="3172680" cy="24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65120" indent="-295200">
                <a:lnSpc>
                  <a:spcPct val="80000"/>
                </a:lnSpc>
                <a:spcAft>
                  <a:spcPts val="901"/>
                </a:spcAft>
                <a:buClr>
                  <a:srgbClr val="ffffff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Con cada revolución </a:t>
              </a:r>
              <a:br>
                <a:rPr sz="2400"/>
              </a:b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cambia la lógica </a:t>
              </a:r>
              <a:br>
                <a:rPr sz="2400"/>
              </a:b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de la innovación y</a:t>
              </a:r>
              <a:br>
                <a:rPr sz="2400"/>
              </a:b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de la competenc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65120" indent="-295200">
                <a:lnSpc>
                  <a:spcPct val="80000"/>
                </a:lnSpc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465120" indent="-295200">
                <a:lnSpc>
                  <a:spcPct val="80000"/>
                </a:lnSpc>
                <a:spcAft>
                  <a:spcPts val="901"/>
                </a:spcAft>
                <a:buClr>
                  <a:srgbClr val="ffffff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Y cada paradigma</a:t>
              </a:r>
              <a:br>
                <a:rPr sz="2400"/>
              </a:b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se mantiene por</a:t>
              </a:r>
              <a:br>
                <a:rPr sz="2400"/>
              </a:b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más de medio sigl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1255320" y="1371600"/>
            <a:ext cx="6601320" cy="825480"/>
            <a:chOff x="1255320" y="1371600"/>
            <a:chExt cx="6601320" cy="825480"/>
          </a:xfrm>
        </p:grpSpPr>
        <p:sp>
          <p:nvSpPr>
            <p:cNvPr id="189" name=""/>
            <p:cNvSpPr/>
            <p:nvPr/>
          </p:nvSpPr>
          <p:spPr>
            <a:xfrm>
              <a:off x="5833440" y="1371600"/>
              <a:ext cx="2023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REGULARIDAD</a:t>
              </a:r>
              <a:br>
                <a:rPr sz="2400"/>
              </a:b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TEMPOR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55320" y="1371600"/>
              <a:ext cx="2023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REGULARIDAD</a:t>
              </a:r>
              <a:br>
                <a:rPr sz="2400"/>
              </a:br>
              <a:r>
                <a:rPr b="1" lang="es-ES_tradnl" sz="2400" spc="-1" strike="noStrike">
                  <a:solidFill>
                    <a:srgbClr val="ffffff"/>
                  </a:solidFill>
                  <a:latin typeface="Arial Narrow"/>
                </a:rPr>
                <a:t>HISTÓRI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457200" y="2438280"/>
            <a:ext cx="3809880" cy="3657600"/>
            <a:chOff x="457200" y="2438280"/>
            <a:chExt cx="3809880" cy="3657600"/>
          </a:xfrm>
        </p:grpSpPr>
        <p:sp>
          <p:nvSpPr>
            <p:cNvPr id="192" name=""/>
            <p:cNvSpPr/>
            <p:nvPr/>
          </p:nvSpPr>
          <p:spPr>
            <a:xfrm>
              <a:off x="457200" y="2438280"/>
              <a:ext cx="3809880" cy="3657600"/>
            </a:xfrm>
            <a:prstGeom prst="rect">
              <a:avLst/>
            </a:prstGeom>
            <a:gradFill rotWithShape="0">
              <a:gsLst>
                <a:gs pos="0">
                  <a:srgbClr val="ffad35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8480" y="2716200"/>
              <a:ext cx="3240000" cy="268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65120" indent="-357120"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465120" indent="-357120">
                <a:lnSpc>
                  <a:spcPct val="80000"/>
                </a:lnSpc>
                <a:spcAft>
                  <a:spcPts val="901"/>
                </a:spcAft>
                <a:buClr>
                  <a:srgbClr val="ffffff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Arial Narrow"/>
                </a:rPr>
                <a:t>Una revolución </a:t>
              </a:r>
              <a:br>
                <a:rPr sz="2400"/>
              </a:br>
              <a:r>
                <a:rPr b="1" lang="es-ES" sz="2400" spc="-1" strike="noStrike">
                  <a:solidFill>
                    <a:srgbClr val="ffffff"/>
                  </a:solidFill>
                  <a:latin typeface="Arial Narrow"/>
                </a:rPr>
                <a:t>cada 40-60 añ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65120" indent="-357120">
                <a:lnSpc>
                  <a:spcPct val="8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465120" indent="-357120">
                <a:lnSpc>
                  <a:spcPct val="8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465120" indent="-357120">
                <a:lnSpc>
                  <a:spcPct val="80000"/>
                </a:lnSpc>
                <a:spcAft>
                  <a:spcPts val="901"/>
                </a:spcAft>
                <a:buClr>
                  <a:srgbClr val="ffffff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Arial Narrow"/>
                </a:rPr>
                <a:t>Una secuencia </a:t>
              </a:r>
              <a:br>
                <a:rPr sz="2400"/>
              </a:br>
              <a:r>
                <a:rPr b="1" lang="es-ES" sz="2400" spc="-1" strike="noStrike">
                  <a:solidFill>
                    <a:srgbClr val="ffffff"/>
                  </a:solidFill>
                  <a:latin typeface="Arial Narrow"/>
                </a:rPr>
                <a:t>evolutiva </a:t>
              </a:r>
              <a:br>
                <a:rPr sz="2400"/>
              </a:br>
              <a:r>
                <a:rPr b="1" lang="es-ES" sz="2400" spc="-1" strike="noStrike">
                  <a:solidFill>
                    <a:srgbClr val="ffffff"/>
                  </a:solidFill>
                  <a:latin typeface="Arial Narrow"/>
                </a:rPr>
                <a:t>en fases de 8-12 años</a:t>
              </a:r>
              <a:br>
                <a:rPr sz="2400"/>
              </a:br>
              <a:r>
                <a:rPr b="1" lang="es-ES" sz="2400" spc="-1" strike="noStrike">
                  <a:solidFill>
                    <a:srgbClr val="ffffff"/>
                  </a:solidFill>
                  <a:latin typeface="Arial Narrow"/>
                </a:rPr>
                <a:t>(climas de negocios</a:t>
              </a:r>
              <a:br>
                <a:rPr sz="2400"/>
              </a:br>
              <a:r>
                <a:rPr b="1" lang="es-ES" sz="2400" spc="-1" strike="noStrike">
                  <a:solidFill>
                    <a:srgbClr val="ffffff"/>
                  </a:solidFill>
                  <a:latin typeface="Arial Narrow"/>
                </a:rPr>
                <a:t>distintos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99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677880" y="1066680"/>
            <a:ext cx="8092800" cy="1479240"/>
            <a:chOff x="677880" y="1066680"/>
            <a:chExt cx="8092800" cy="1479240"/>
          </a:xfrm>
        </p:grpSpPr>
        <p:sp>
          <p:nvSpPr>
            <p:cNvPr id="195" name=""/>
            <p:cNvSpPr/>
            <p:nvPr/>
          </p:nvSpPr>
          <p:spPr>
            <a:xfrm>
              <a:off x="1786680" y="1066680"/>
              <a:ext cx="6555960" cy="1479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549880" y="1363680"/>
              <a:ext cx="6220800" cy="88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Las regularidades históricas </a:t>
              </a:r>
              <a:br>
                <a:rPr sz="2900"/>
              </a:b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en los cambios de contexto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77880" y="1066680"/>
              <a:ext cx="1110960" cy="1479240"/>
            </a:xfrm>
            <a:prstGeom prst="rect">
              <a:avLst/>
            </a:prstGeom>
            <a:gradFill rotWithShape="0">
              <a:gsLst>
                <a:gs pos="0">
                  <a:srgbClr val="4c2e00"/>
                </a:gs>
                <a:gs pos="50000">
                  <a:srgbClr val="ff9900"/>
                </a:gs>
                <a:gs pos="100000">
                  <a:srgbClr val="4c2e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063440" y="1418760"/>
              <a:ext cx="39816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685800" y="4038480"/>
            <a:ext cx="8076960" cy="1533240"/>
            <a:chOff x="685800" y="4038480"/>
            <a:chExt cx="8076960" cy="1533240"/>
          </a:xfrm>
        </p:grpSpPr>
        <p:sp>
          <p:nvSpPr>
            <p:cNvPr id="200" name=""/>
            <p:cNvSpPr/>
            <p:nvPr/>
          </p:nvSpPr>
          <p:spPr>
            <a:xfrm>
              <a:off x="1790280" y="4038480"/>
              <a:ext cx="6544800" cy="153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554560" y="4321080"/>
              <a:ext cx="6208200" cy="97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Innovaciones institucionales</a:t>
              </a:r>
              <a:br>
                <a:rPr sz="2900"/>
              </a:b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adecuadas y oportunas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5800" y="4040640"/>
              <a:ext cx="1108800" cy="1531080"/>
            </a:xfrm>
            <a:prstGeom prst="rect">
              <a:avLst/>
            </a:prstGeom>
            <a:gradFill rotWithShape="0">
              <a:gsLst>
                <a:gs pos="0">
                  <a:srgbClr val="4c2e00"/>
                </a:gs>
                <a:gs pos="50000">
                  <a:srgbClr val="ff9900"/>
                </a:gs>
                <a:gs pos="100000">
                  <a:srgbClr val="4c2e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58400" y="4417920"/>
              <a:ext cx="39744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673200" y="2590920"/>
            <a:ext cx="8098920" cy="1425240"/>
            <a:chOff x="673200" y="2590920"/>
            <a:chExt cx="8098920" cy="1425240"/>
          </a:xfrm>
        </p:grpSpPr>
        <p:sp>
          <p:nvSpPr>
            <p:cNvPr id="205" name=""/>
            <p:cNvSpPr/>
            <p:nvPr/>
          </p:nvSpPr>
          <p:spPr>
            <a:xfrm>
              <a:off x="1742400" y="2590920"/>
              <a:ext cx="6603480" cy="1425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3200" y="2590920"/>
              <a:ext cx="1111680" cy="1425240"/>
            </a:xfrm>
            <a:prstGeom prst="rect">
              <a:avLst/>
            </a:prstGeom>
            <a:gradFill rotWithShape="0">
              <a:gsLst>
                <a:gs pos="0">
                  <a:srgbClr val="4c2e00"/>
                </a:gs>
                <a:gs pos="50000">
                  <a:srgbClr val="ff9900"/>
                </a:gs>
                <a:gs pos="100000">
                  <a:srgbClr val="4c2e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046160" y="2894400"/>
              <a:ext cx="398880" cy="6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44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548440" y="2784960"/>
              <a:ext cx="6223680" cy="97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Lo específico del paradigma</a:t>
              </a:r>
              <a:br>
                <a:rPr sz="2900"/>
              </a:br>
              <a:r>
                <a:rPr b="1" lang="es-ES_tradnl" sz="2900" spc="-1" strike="noStrike">
                  <a:solidFill>
                    <a:srgbClr val="000000"/>
                  </a:solidFill>
                  <a:latin typeface="Arial Narrow"/>
                </a:rPr>
                <a:t>de la Revolución Informática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9595e3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"/>
          <p:cNvGrpSpPr/>
          <p:nvPr/>
        </p:nvGrpSpPr>
        <p:grpSpPr>
          <a:xfrm>
            <a:off x="2416320" y="457200"/>
            <a:ext cx="4212720" cy="1023840"/>
            <a:chOff x="2416320" y="457200"/>
            <a:chExt cx="4212720" cy="1023840"/>
          </a:xfrm>
        </p:grpSpPr>
        <p:grpSp>
          <p:nvGrpSpPr>
            <p:cNvPr id="210" name=""/>
            <p:cNvGrpSpPr/>
            <p:nvPr/>
          </p:nvGrpSpPr>
          <p:grpSpPr>
            <a:xfrm>
              <a:off x="2695680" y="457200"/>
              <a:ext cx="3933360" cy="1023840"/>
              <a:chOff x="2695680" y="457200"/>
              <a:chExt cx="3933360" cy="1023840"/>
            </a:xfrm>
          </p:grpSpPr>
          <p:sp>
            <p:nvSpPr>
              <p:cNvPr id="211" name=""/>
              <p:cNvSpPr/>
              <p:nvPr/>
            </p:nvSpPr>
            <p:spPr>
              <a:xfrm>
                <a:off x="3137400" y="550800"/>
                <a:ext cx="3491640" cy="838080"/>
              </a:xfrm>
              <a:prstGeom prst="rightArrow">
                <a:avLst>
                  <a:gd name="adj1" fmla="val 63778"/>
                  <a:gd name="adj2" fmla="val 29299"/>
                </a:avLst>
              </a:prstGeom>
              <a:gradFill rotWithShape="0">
                <a:gsLst>
                  <a:gs pos="0">
                    <a:srgbClr val="a86400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695680" y="457200"/>
                <a:ext cx="934560" cy="10238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a864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1440" bIns="91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eaeaea"/>
                    </a:solidFill>
                    <a:latin typeface="Arial"/>
                  </a:rPr>
                  <a:t>177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406680" y="793800"/>
                <a:ext cx="292392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eaeaea"/>
                    </a:solidFill>
                    <a:latin typeface="Arial Narrow"/>
                  </a:rPr>
                  <a:t>     ‘</a:t>
                </a:r>
                <a:r>
                  <a:rPr b="1" lang="es-ES_tradnl" sz="1700" spc="-1" strike="noStrike">
                    <a:solidFill>
                      <a:srgbClr val="eaeaea"/>
                    </a:solidFill>
                    <a:latin typeface="Arial Narrow"/>
                  </a:rPr>
                  <a:t>La ‘Revolución Industrial’</a:t>
                </a:r>
                <a:r>
                  <a:rPr b="1" lang="es-ES" sz="1700" spc="-1" strike="noStrike">
                    <a:solidFill>
                      <a:srgbClr val="eaeaea"/>
                    </a:solidFill>
                    <a:latin typeface="Arial Narrow"/>
                  </a:rPr>
                  <a:t>	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" name=""/>
            <p:cNvSpPr txBox="1"/>
            <p:nvPr/>
          </p:nvSpPr>
          <p:spPr>
            <a:xfrm>
              <a:off x="2416320" y="665280"/>
              <a:ext cx="131760" cy="342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1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215" name=""/>
            <p:cNvSpPr txBox="1"/>
            <p:nvPr/>
          </p:nvSpPr>
          <p:spPr>
            <a:xfrm>
              <a:off x="2575080" y="679320"/>
              <a:ext cx="98280" cy="169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a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531720" y="1125360"/>
            <a:ext cx="8163720" cy="1707840"/>
            <a:chOff x="531720" y="1125360"/>
            <a:chExt cx="8163720" cy="1707840"/>
          </a:xfrm>
        </p:grpSpPr>
        <p:grpSp>
          <p:nvGrpSpPr>
            <p:cNvPr id="217" name=""/>
            <p:cNvGrpSpPr/>
            <p:nvPr/>
          </p:nvGrpSpPr>
          <p:grpSpPr>
            <a:xfrm>
              <a:off x="531720" y="1125360"/>
              <a:ext cx="8163720" cy="1707840"/>
              <a:chOff x="531720" y="1125360"/>
              <a:chExt cx="8163720" cy="1707840"/>
            </a:xfrm>
          </p:grpSpPr>
          <p:grpSp>
            <p:nvGrpSpPr>
              <p:cNvPr id="218" name=""/>
              <p:cNvGrpSpPr/>
              <p:nvPr/>
            </p:nvGrpSpPr>
            <p:grpSpPr>
              <a:xfrm>
                <a:off x="2283480" y="1128600"/>
                <a:ext cx="4777560" cy="1133280"/>
                <a:chOff x="2283480" y="1128600"/>
                <a:chExt cx="4777560" cy="113328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2768400" y="1199880"/>
                  <a:ext cx="4292640" cy="990720"/>
                </a:xfrm>
                <a:prstGeom prst="rightArrow">
                  <a:avLst>
                    <a:gd name="adj1" fmla="val 63778"/>
                    <a:gd name="adj2" fmla="val 30470"/>
                  </a:avLst>
                </a:prstGeom>
                <a:gradFill rotWithShape="0">
                  <a:gsLst>
                    <a:gs pos="0">
                      <a:srgbClr val="d27d00"/>
                    </a:gs>
                    <a:gs pos="100000">
                      <a:srgbClr val="2918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2283480" y="1128600"/>
                  <a:ext cx="1027440" cy="1133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91800"/>
                    </a:gs>
                    <a:gs pos="100000">
                      <a:srgbClr val="d27d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1440" bIns="91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dddddd"/>
                      </a:solidFill>
                      <a:latin typeface="Arial"/>
                    </a:rPr>
                    <a:t>1829</a:t>
                  </a: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2694600" y="1412640"/>
                  <a:ext cx="41767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dddddd"/>
                      </a:solidFill>
                      <a:latin typeface="Arial Narrow"/>
                    </a:rPr>
                    <a:t>           </a:t>
                  </a:r>
                  <a:r>
                    <a:rPr b="1" lang="es-ES_tradnl" sz="1800" spc="-1" strike="noStrike">
                      <a:solidFill>
                        <a:srgbClr val="dddddd"/>
                      </a:solidFill>
                      <a:latin typeface="Arial Narrow"/>
                    </a:rPr>
                    <a:t>Época del hierro, la máquina de vapor </a:t>
                  </a:r>
                  <a:br>
                    <a:rPr sz="1800"/>
                  </a:br>
                  <a:r>
                    <a:rPr b="1" lang="es-ES_tradnl" sz="1800" spc="-1" strike="noStrike">
                      <a:solidFill>
                        <a:srgbClr val="dddddd"/>
                      </a:solidFill>
                      <a:latin typeface="Arial Narrow"/>
                    </a:rPr>
                    <a:t>y el ferrocarril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" name=""/>
              <p:cNvSpPr/>
              <p:nvPr/>
            </p:nvSpPr>
            <p:spPr>
              <a:xfrm rot="16200000">
                <a:off x="116280" y="1541520"/>
                <a:ext cx="129024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ffff"/>
                    </a:solidFill>
                    <a:latin typeface="Arial Narrow"/>
                  </a:rPr>
                  <a:t>Big-Ba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16200000">
                <a:off x="7611480" y="1749240"/>
                <a:ext cx="170784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9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ffff"/>
                    </a:solidFill>
                    <a:latin typeface="Arial Narrow"/>
                  </a:rPr>
                  <a:t>Agotamient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"/>
            <p:cNvSpPr txBox="1"/>
            <p:nvPr/>
          </p:nvSpPr>
          <p:spPr>
            <a:xfrm>
              <a:off x="1949400" y="1373040"/>
              <a:ext cx="162000" cy="41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2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225" name=""/>
            <p:cNvSpPr txBox="1"/>
            <p:nvPr/>
          </p:nvSpPr>
          <p:spPr>
            <a:xfrm>
              <a:off x="2143080" y="1390680"/>
              <a:ext cx="120600" cy="206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a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1473120" y="1900080"/>
            <a:ext cx="5994000" cy="1262160"/>
            <a:chOff x="1473120" y="1900080"/>
            <a:chExt cx="5994000" cy="1262160"/>
          </a:xfrm>
        </p:grpSpPr>
        <p:grpSp>
          <p:nvGrpSpPr>
            <p:cNvPr id="227" name=""/>
            <p:cNvGrpSpPr/>
            <p:nvPr/>
          </p:nvGrpSpPr>
          <p:grpSpPr>
            <a:xfrm>
              <a:off x="1828800" y="1900080"/>
              <a:ext cx="5638320" cy="1262160"/>
              <a:chOff x="1828800" y="1900080"/>
              <a:chExt cx="5638320" cy="1262160"/>
            </a:xfrm>
          </p:grpSpPr>
          <p:sp>
            <p:nvSpPr>
              <p:cNvPr id="228" name=""/>
              <p:cNvSpPr/>
              <p:nvPr/>
            </p:nvSpPr>
            <p:spPr>
              <a:xfrm>
                <a:off x="2370600" y="1987560"/>
                <a:ext cx="5096520" cy="1089000"/>
              </a:xfrm>
              <a:prstGeom prst="rightArrow">
                <a:avLst>
                  <a:gd name="adj1" fmla="val 63778"/>
                  <a:gd name="adj2" fmla="val 32912"/>
                </a:avLst>
              </a:prstGeom>
              <a:gradFill rotWithShape="0">
                <a:gsLst>
                  <a:gs pos="0">
                    <a:srgbClr val="ff9900"/>
                  </a:gs>
                  <a:gs pos="100000">
                    <a:srgbClr val="653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828800" y="1900080"/>
                <a:ext cx="1118880" cy="1262160"/>
              </a:xfrm>
              <a:prstGeom prst="ellipse">
                <a:avLst/>
              </a:prstGeom>
              <a:gradFill rotWithShape="0">
                <a:gsLst>
                  <a:gs pos="0">
                    <a:srgbClr val="653c00"/>
                  </a:gs>
                  <a:gs pos="100000">
                    <a:srgbClr val="ff9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1440" bIns="91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5f5f5f"/>
                    </a:solidFill>
                    <a:latin typeface="Arial"/>
                  </a:rPr>
                  <a:t>187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763360" y="2340000"/>
                <a:ext cx="4126320" cy="38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900" spc="-1" strike="noStrike">
                    <a:solidFill>
                      <a:srgbClr val="5f5f5f"/>
                    </a:solidFill>
                    <a:latin typeface="Arial Narrow"/>
                  </a:rPr>
                  <a:t>      </a:t>
                </a:r>
                <a:r>
                  <a:rPr b="1" lang="es-ES_tradnl" sz="1900" spc="-1" strike="noStrike">
                    <a:solidFill>
                      <a:srgbClr val="5f5f5f"/>
                    </a:solidFill>
                    <a:latin typeface="Arial Narrow"/>
                  </a:rPr>
                  <a:t>Época del acero y la ingeniería pesada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" name=""/>
            <p:cNvSpPr txBox="1"/>
            <p:nvPr/>
          </p:nvSpPr>
          <p:spPr>
            <a:xfrm>
              <a:off x="1473120" y="2211480"/>
              <a:ext cx="162000" cy="419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3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232" name=""/>
            <p:cNvSpPr txBox="1"/>
            <p:nvPr/>
          </p:nvSpPr>
          <p:spPr>
            <a:xfrm>
              <a:off x="1666800" y="2228760"/>
              <a:ext cx="120600" cy="206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a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0" y="-3808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 Narrow"/>
              </a:rPr>
              <a:t>CINCO REVOLUCIONES TECNOLÓGICAS EN 230 AÑ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930240" y="2751120"/>
            <a:ext cx="6994080" cy="1398600"/>
            <a:chOff x="930240" y="2751120"/>
            <a:chExt cx="6994080" cy="1398600"/>
          </a:xfrm>
        </p:grpSpPr>
        <p:sp>
          <p:nvSpPr>
            <p:cNvPr id="235" name=""/>
            <p:cNvSpPr txBox="1"/>
            <p:nvPr/>
          </p:nvSpPr>
          <p:spPr>
            <a:xfrm>
              <a:off x="1158840" y="3165480"/>
              <a:ext cx="142920" cy="24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a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1371600" y="2751120"/>
              <a:ext cx="6552720" cy="1398600"/>
              <a:chOff x="1371600" y="2751120"/>
              <a:chExt cx="6552720" cy="1398600"/>
            </a:xfrm>
          </p:grpSpPr>
          <p:sp>
            <p:nvSpPr>
              <p:cNvPr id="237" name=""/>
              <p:cNvSpPr/>
              <p:nvPr/>
            </p:nvSpPr>
            <p:spPr>
              <a:xfrm>
                <a:off x="1952640" y="2852640"/>
                <a:ext cx="5971680" cy="1197000"/>
              </a:xfrm>
              <a:prstGeom prst="rightArrow">
                <a:avLst>
                  <a:gd name="adj1" fmla="val 63778"/>
                  <a:gd name="adj2" fmla="val 35084"/>
                </a:avLst>
              </a:prstGeom>
              <a:gradFill rotWithShape="0">
                <a:gsLst>
                  <a:gs pos="0">
                    <a:srgbClr val="feb64b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371600" y="2751120"/>
                <a:ext cx="1213200" cy="139860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feb64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1440" bIns="91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900" spc="-1" strike="noStrike">
                    <a:solidFill>
                      <a:srgbClr val="4d4d4d"/>
                    </a:solidFill>
                    <a:latin typeface="Arial"/>
                  </a:rPr>
                  <a:t>1908 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441520" y="3130560"/>
                <a:ext cx="5289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4d4d4d"/>
                    </a:solidFill>
                    <a:latin typeface="Arial Narrow"/>
                  </a:rPr>
                  <a:t>Época del petróleo</a:t>
                </a:r>
                <a:r>
                  <a:rPr b="1" lang="es-ES" sz="2000" spc="-1" strike="noStrike">
                    <a:solidFill>
                      <a:srgbClr val="4d4d4d"/>
                    </a:solidFill>
                    <a:latin typeface="Arial Narrow"/>
                  </a:rPr>
                  <a:t>, </a:t>
                </a:r>
                <a:r>
                  <a:rPr b="1" lang="es-ES_tradnl" sz="2000" spc="-1" strike="noStrike">
                    <a:solidFill>
                      <a:srgbClr val="4d4d4d"/>
                    </a:solidFill>
                    <a:latin typeface="Arial Narrow"/>
                  </a:rPr>
                  <a:t>el automóvil </a:t>
                </a:r>
                <a:br>
                  <a:rPr sz="2000"/>
                </a:br>
                <a:r>
                  <a:rPr b="1" lang="es-ES_tradnl" sz="2000" spc="-1" strike="noStrike">
                    <a:solidFill>
                      <a:srgbClr val="4d4d4d"/>
                    </a:solidFill>
                    <a:latin typeface="Arial Narrow"/>
                  </a:rPr>
                  <a:t>y la producción en mas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"/>
            <p:cNvSpPr txBox="1"/>
            <p:nvPr/>
          </p:nvSpPr>
          <p:spPr>
            <a:xfrm>
              <a:off x="930240" y="3144960"/>
              <a:ext cx="190440" cy="49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4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420840" y="3695760"/>
            <a:ext cx="8113680" cy="1552320"/>
            <a:chOff x="420840" y="3695760"/>
            <a:chExt cx="8113680" cy="1552320"/>
          </a:xfrm>
        </p:grpSpPr>
        <p:grpSp>
          <p:nvGrpSpPr>
            <p:cNvPr id="242" name=""/>
            <p:cNvGrpSpPr/>
            <p:nvPr/>
          </p:nvGrpSpPr>
          <p:grpSpPr>
            <a:xfrm>
              <a:off x="838080" y="3695760"/>
              <a:ext cx="7696440" cy="1552320"/>
              <a:chOff x="838080" y="3695760"/>
              <a:chExt cx="7696440" cy="1552320"/>
            </a:xfrm>
          </p:grpSpPr>
          <p:sp>
            <p:nvSpPr>
              <p:cNvPr id="243" name=""/>
              <p:cNvSpPr/>
              <p:nvPr/>
            </p:nvSpPr>
            <p:spPr>
              <a:xfrm>
                <a:off x="1546200" y="3824280"/>
                <a:ext cx="6988320" cy="1295280"/>
              </a:xfrm>
              <a:prstGeom prst="rightArrow">
                <a:avLst>
                  <a:gd name="adj1" fmla="val 63778"/>
                  <a:gd name="adj2" fmla="val 37941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679400" y="3824280"/>
                <a:ext cx="3594240" cy="1295280"/>
              </a:xfrm>
              <a:prstGeom prst="rightArrow">
                <a:avLst>
                  <a:gd name="adj1" fmla="val 63778"/>
                  <a:gd name="adj2" fmla="val 19514"/>
                </a:avLst>
              </a:prstGeom>
              <a:gradFill rotWithShape="0">
                <a:gsLst>
                  <a:gs pos="0">
                    <a:srgbClr val="fecb7e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382120" y="4270320"/>
                <a:ext cx="5472000" cy="41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000000"/>
                    </a:solidFill>
                    <a:latin typeface="Arial Narrow"/>
                  </a:rPr>
                  <a:t>Época de la informática y las  </a:t>
                </a:r>
                <a:r>
                  <a:rPr b="1" lang="en-US" sz="2100" spc="-1" strike="noStrike">
                    <a:solidFill>
                      <a:srgbClr val="ffffff"/>
                    </a:solidFill>
                    <a:latin typeface="Arial Narrow"/>
                  </a:rPr>
                  <a:t>Telecomunicaciones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38080" y="3695760"/>
                <a:ext cx="1355760" cy="155232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fecb7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2880" bIns="182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97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" name=""/>
            <p:cNvSpPr txBox="1"/>
            <p:nvPr/>
          </p:nvSpPr>
          <p:spPr>
            <a:xfrm>
              <a:off x="420840" y="4173480"/>
              <a:ext cx="20448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5</a:t>
              </a:r>
              <a:endPara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248" name=""/>
            <p:cNvSpPr txBox="1"/>
            <p:nvPr/>
          </p:nvSpPr>
          <p:spPr>
            <a:xfrm>
              <a:off x="666720" y="4195800"/>
              <a:ext cx="154080" cy="26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Arial Black"/>
                </a:rPr>
                <a:t>a</a:t>
              </a:r>
              <a:endParaRPr b="0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276120" y="4829040"/>
            <a:ext cx="8867880" cy="1552680"/>
            <a:chOff x="276120" y="4829040"/>
            <a:chExt cx="8867880" cy="1552680"/>
          </a:xfrm>
        </p:grpSpPr>
        <p:sp>
          <p:nvSpPr>
            <p:cNvPr id="250" name=""/>
            <p:cNvSpPr/>
            <p:nvPr/>
          </p:nvSpPr>
          <p:spPr>
            <a:xfrm>
              <a:off x="1950480" y="5315040"/>
              <a:ext cx="68407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 Narrow"/>
                </a:rPr>
                <a:t>¿Época de biotecnología, nanotecnología, bioelectrónica?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76120" y="4829040"/>
              <a:ext cx="1552680" cy="1552680"/>
            </a:xfrm>
            <a:prstGeom prst="ellipse">
              <a:avLst/>
            </a:prstGeom>
            <a:gradFill rotWithShape="0">
              <a:gsLst>
                <a:gs pos="0">
                  <a:srgbClr val="feedd4"/>
                </a:gs>
                <a:gs pos="100000">
                  <a:srgbClr val="ffb241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2880" bIns="18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?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676520" y="4919760"/>
              <a:ext cx="7467480" cy="1371600"/>
            </a:xfrm>
            <a:custGeom>
              <a:avLst/>
              <a:gdLst/>
              <a:ahLst/>
              <a:rect l="l" t="t" r="r" b="b"/>
              <a:pathLst>
                <a:path w="5097" h="864">
                  <a:moveTo>
                    <a:pt x="48" y="672"/>
                  </a:moveTo>
                  <a:lnTo>
                    <a:pt x="4848" y="672"/>
                  </a:lnTo>
                  <a:lnTo>
                    <a:pt x="4848" y="864"/>
                  </a:lnTo>
                  <a:lnTo>
                    <a:pt x="5097" y="432"/>
                  </a:lnTo>
                  <a:lnTo>
                    <a:pt x="4847" y="0"/>
                  </a:lnTo>
                  <a:lnTo>
                    <a:pt x="4847" y="144"/>
                  </a:lnTo>
                  <a:lnTo>
                    <a:pt x="0" y="144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725760" y="6381720"/>
            <a:ext cx="84513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00"/>
                </a:solidFill>
                <a:latin typeface="Arial Narrow"/>
              </a:rPr>
              <a:t>UN CONJUNTO DISTINTO DE OPORTUNIDADES CADA MEDIO SIG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175e"/>
            </a:gs>
            <a:gs pos="50000">
              <a:srgbClr val="3333cc"/>
            </a:gs>
            <a:gs pos="100000">
              <a:srgbClr val="17175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5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5b3600"/>
                </a:gs>
                <a:gs pos="50000">
                  <a:srgbClr val="ff9900"/>
                </a:gs>
                <a:gs pos="100000">
                  <a:srgbClr val="5b36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33520" y="6296760"/>
              <a:ext cx="8001000" cy="484920"/>
            </a:xfrm>
            <a:prstGeom prst="rect">
              <a:avLst/>
            </a:prstGeom>
            <a:noFill/>
            <a:ln w="0">
              <a:noFill/>
            </a:ln>
            <a:effectLst>
              <a:outerShdw dist="40186" dir="1096358" blurRad="0" rotWithShape="0">
                <a:srgbClr val="7c7cd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b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600" spc="-1" strike="noStrike">
                  <a:solidFill>
                    <a:srgbClr val="ffffff"/>
                  </a:solidFill>
                  <a:latin typeface="Arial Narrow"/>
                </a:rPr>
                <a:t>CAMBIO ESTRUCTURAL Y NUEVO TEJIDO PRODUCTIVO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390600" y="3956040"/>
            <a:ext cx="8429400" cy="2216160"/>
            <a:chOff x="390600" y="3956040"/>
            <a:chExt cx="8429400" cy="2216160"/>
          </a:xfrm>
        </p:grpSpPr>
        <p:sp>
          <p:nvSpPr>
            <p:cNvPr id="258" name=""/>
            <p:cNvSpPr/>
            <p:nvPr/>
          </p:nvSpPr>
          <p:spPr>
            <a:xfrm>
              <a:off x="419040" y="3956040"/>
              <a:ext cx="8400960" cy="2216160"/>
            </a:xfrm>
            <a:prstGeom prst="rect">
              <a:avLst/>
            </a:prstGeom>
            <a:gradFill rotWithShape="0">
              <a:gsLst>
                <a:gs pos="0">
                  <a:srgbClr val="17175e"/>
                </a:gs>
                <a:gs pos="50000">
                  <a:srgbClr val="3333cc"/>
                </a:gs>
                <a:gs pos="100000">
                  <a:srgbClr val="1717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0600" y="5467320"/>
              <a:ext cx="84168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600" spc="-1" strike="noStrike">
                  <a:solidFill>
                    <a:srgbClr val="ffffff"/>
                  </a:solidFill>
                  <a:latin typeface="Arial Narrow"/>
                </a:rPr>
                <a:t>Salto cuántico en productividad potencial en toda la economí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957240" y="5937120"/>
            <a:ext cx="1836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308400" y="5937120"/>
            <a:ext cx="27925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6320" y="47520"/>
            <a:ext cx="9144000" cy="4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 Narrow"/>
              </a:rPr>
              <a:t>DOBLE CARÁCTER DE CADA REVOLUCIÓN TECNOLÓG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768240" y="1190520"/>
            <a:ext cx="3311640" cy="4051440"/>
            <a:chOff x="768240" y="1190520"/>
            <a:chExt cx="3311640" cy="4051440"/>
          </a:xfrm>
        </p:grpSpPr>
        <p:sp>
          <p:nvSpPr>
            <p:cNvPr id="264" name=""/>
            <p:cNvSpPr/>
            <p:nvPr/>
          </p:nvSpPr>
          <p:spPr>
            <a:xfrm>
              <a:off x="768240" y="1190520"/>
              <a:ext cx="3311640" cy="138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89604" dir="2700000" blurRad="0" rotWithShape="0">
                <a:srgbClr val="ccccf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04960" y="1382760"/>
              <a:ext cx="323676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 Narrow"/>
                </a:rPr>
                <a:t>PRODUCTOS, INDUSTRIAS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000000"/>
                  </a:solidFill>
                  <a:latin typeface="Arial Narrow"/>
                </a:rPr>
                <a:t>E INFRAESTRUCTURA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000000"/>
                  </a:solidFill>
                  <a:latin typeface="Arial Narrow"/>
                </a:rPr>
                <a:t> NUEVO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 rot="16200000">
              <a:off x="2182320" y="2351880"/>
              <a:ext cx="479520" cy="1090440"/>
            </a:xfrm>
            <a:prstGeom prst="rightArrow">
              <a:avLst>
                <a:gd name="adj1" fmla="val 50000"/>
                <a:gd name="adj2" fmla="val 50005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dedef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281240" y="3184560"/>
              <a:ext cx="2286000" cy="2057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274760" y="3730680"/>
              <a:ext cx="2297160" cy="14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 Narrow"/>
                </a:rPr>
                <a:t>CRECIMIEN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 Narrow"/>
                </a:rPr>
                <a:t>ESPECTACUL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 Narrow"/>
                </a:rPr>
                <a:t>DE INDUSTR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 Narrow"/>
                </a:rPr>
                <a:t>Y EMPRESAS</a:t>
              </a:r>
              <a:br>
                <a:rPr sz="1800"/>
              </a:br>
              <a:r>
                <a:rPr b="1" lang="es-ES_tradnl" sz="1800" spc="-1" strike="noStrike">
                  <a:solidFill>
                    <a:srgbClr val="000000"/>
                  </a:solidFill>
                  <a:latin typeface="Arial Narrow"/>
                </a:rPr>
                <a:t>NUEV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4191120" y="1208160"/>
            <a:ext cx="4448160" cy="1350720"/>
            <a:chOff x="4191120" y="1208160"/>
            <a:chExt cx="4448160" cy="1350720"/>
          </a:xfrm>
        </p:grpSpPr>
        <p:sp>
          <p:nvSpPr>
            <p:cNvPr id="270" name=""/>
            <p:cNvSpPr/>
            <p:nvPr/>
          </p:nvSpPr>
          <p:spPr>
            <a:xfrm>
              <a:off x="5165640" y="1208160"/>
              <a:ext cx="3367080" cy="135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89604" dir="2700000" blurRad="0" rotWithShape="0">
                <a:srgbClr val="ccccf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248440" y="1377720"/>
              <a:ext cx="339084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 Narrow"/>
                </a:rPr>
                <a:t>TECNOLOGÍAS GENÉRICAS</a:t>
              </a:r>
              <a:br>
                <a:rPr sz="2000"/>
              </a:br>
              <a:r>
                <a:rPr b="1" lang="es-ES_tradnl" sz="2000" spc="-1" strike="noStrike">
                  <a:solidFill>
                    <a:srgbClr val="000000"/>
                  </a:solidFill>
                  <a:latin typeface="Arial Narrow"/>
                </a:rPr>
                <a:t>Y NUEVOS MODELOS ORGANIZATIV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191120" y="1768320"/>
              <a:ext cx="914400" cy="228240"/>
            </a:xfrm>
            <a:prstGeom prst="leftRightArrow">
              <a:avLst>
                <a:gd name="adj1" fmla="val 50000"/>
                <a:gd name="adj2" fmla="val 104553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ee8c8"/>
                </a:gs>
                <a:gs pos="100000">
                  <a:srgbClr val="ff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3962520" y="2619360"/>
            <a:ext cx="4029120" cy="2622600"/>
            <a:chOff x="3962520" y="2619360"/>
            <a:chExt cx="4029120" cy="2622600"/>
          </a:xfrm>
        </p:grpSpPr>
        <p:sp>
          <p:nvSpPr>
            <p:cNvPr id="274" name=""/>
            <p:cNvSpPr/>
            <p:nvPr/>
          </p:nvSpPr>
          <p:spPr>
            <a:xfrm>
              <a:off x="3962520" y="4194000"/>
              <a:ext cx="1447560" cy="380880"/>
            </a:xfrm>
            <a:prstGeom prst="leftRightArrow">
              <a:avLst>
                <a:gd name="adj1" fmla="val 50000"/>
                <a:gd name="adj2" fmla="val 99184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fee8c8"/>
                </a:gs>
                <a:gs pos="100000">
                  <a:srgbClr val="ff9900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705640" y="3184560"/>
              <a:ext cx="2286000" cy="2057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96080" y="3740040"/>
              <a:ext cx="190476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 Narrow"/>
                </a:rPr>
                <a:t>MODERNIZ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 Narrow"/>
                </a:rPr>
                <a:t>DEl APARATO PRODUCTIVO EXIST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rot="16200000">
              <a:off x="6608520" y="2313720"/>
              <a:ext cx="479160" cy="1090440"/>
            </a:xfrm>
            <a:prstGeom prst="rightArrow">
              <a:avLst>
                <a:gd name="adj1" fmla="val 50000"/>
                <a:gd name="adj2" fmla="val 50005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dedef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534960" y="776160"/>
            <a:ext cx="37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b953"/>
                </a:solidFill>
                <a:latin typeface="Arial Narrow"/>
              </a:rPr>
              <a:t>NUEVOS MOTORES DEL CREC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51800" y="776160"/>
            <a:ext cx="400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b953"/>
                </a:solidFill>
                <a:latin typeface="Arial Narrow"/>
              </a:rPr>
              <a:t>NUEVO PARADIGMA TECNO-ECONÓ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7T15:24:16Z</dcterms:created>
  <dc:creator>carlota</dc:creator>
  <dc:description/>
  <dc:language>en-US</dc:language>
  <cp:lastModifiedBy> </cp:lastModifiedBy>
  <dcterms:modified xsi:type="dcterms:W3CDTF">2005-05-13T17:23:48Z</dcterms:modified>
  <cp:revision>18</cp:revision>
  <dc:subject/>
  <dc:title>Slide 1</dc:title>
</cp:coreProperties>
</file>