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534A-11F2-4B4E-AD25-192AEC5F2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BDC-C93F-476A-A61B-B44E13B6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3EB-850F-4784-8238-9F12FBA8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B6C-E680-43B2-87E0-7EE601FF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D03-FFB2-445D-A19E-E9A9957A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88FE-64F8-4B1D-8878-88FB4522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7080-5842-41B4-93DA-EB046FB0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DFA5-9717-401D-A41F-CBBA9991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BB54-9FDA-43F9-A033-A2CDA2A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0AA4-D113-4EFA-A77F-853833B6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05B9-6E5A-4773-ACB8-C2A044E2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3FF2-50D9-4D9B-807F-3FD95F55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7BA-C0E0-41A0-9F36-970A4F00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6538-69A1-4177-A4A7-5F725FB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AABC-B3CD-4183-9D8E-7A01CCAE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F021-06E1-4556-BED4-D4A78514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F11D-42D0-45F1-B676-6766E7E6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0323-E0FA-498A-A391-2AC614E0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350-0569-4BF9-89AB-F606BD32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800-A74E-4D13-B575-97D04344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C6E-0BC4-43FF-A4F3-0F2EEB33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9F4-4A26-4DBB-90C3-75954C5D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82E-1956-4356-96BA-E5C4D287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408-4A44-446C-B5B0-0B80A8CC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5A9-17C2-4134-98FE-93847AB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96ED-5651-4C30-8C52-F5431D18BA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4E9C-EA3B-48D9-9E2F-AA9AEEC331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1430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Administración Estratégica: </a:t>
            </a: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onceptos y Casos</a:t>
            </a:r>
            <a:br>
              <a:rPr sz="4800"/>
            </a:b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8858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I:  Acciones Estratégicas:  Formula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5:  Rivalidad Competitiva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ámica Compet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71E9-6058-43E9-8E39-856CBA9347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e Rivalidad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n sobretiempo toman acciones y/o reaccione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atrón demuestra que las empresas son mutuamente inter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validad del nivel de empresas es usualmente dinámica y comple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undación para exitosamente construir y usar las capacidades y competencias centrales (core) para ganar una posición de ventaja en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 de eventos (Figura 5.2) son los componentes de este capít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3B7-03EC-4088-850B-C9C4B74EDA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8076960" cy="27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690-4BE2-4B91-9D3D-726E6426BA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de la Competenc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mponentes a tomar en cuenta: Mercados en Común  y Similitud de l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gunta: ‘Hasta que extensión son las empresas competidoras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mercados en que las empresas compiten contra 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dor: Alto numero de mercados en común y similitud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, Dell y HP son competidore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ia directa no siempre implica rivalidad int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3BD-C05B-4B37-A936-15504AAD5C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dos en Comú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industria compuesta de varios mercados que pueden ser subdivididas 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, Industria Financi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itud de los Recurs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ón en la cual los recursos tangibles/intangibles de la empresa son comparables con los de la competencia en tipo y m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jemplo, FedEx y UPS – ambas tienen operaciones eficientes y se enfocan en reducción de costo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binación del mercado en común y la similitud de los recursos indican los competidores de la empr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2FE-034B-44DD-A277-16D11E3FCB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s del texto (pagina 1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362320"/>
          <a:ext cx="8077320" cy="3886200"/>
        </p:xfrm>
        <a:graphic>
          <a:graphicData uri="http://schemas.openxmlformats.org/drawingml/2006/table">
            <a:tbl>
              <a:tblPr/>
              <a:tblGrid>
                <a:gridCol w="1143000"/>
                <a:gridCol w="1760760"/>
                <a:gridCol w="1850760"/>
                <a:gridCol w="1722600"/>
                <a:gridCol w="1600200"/>
              </a:tblGrid>
              <a:tr h="91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Produ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 Geográf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, 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ud,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e, 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de intermed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es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815-6919-4594-9A9C-9655842977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Un Marco del Análisis Competitiv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1641600"/>
            <a:ext cx="71629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5D5-83A9-457B-B8D8-D9A75A165E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BAC-A0E8-4CE1-8CA4-080A65FA0D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Mercado en Común y la Similitud de los Recursos influyen tres impuls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erta, motivación y abilidad) del comportamiento competi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o a cualquier acción competi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con la cual los competidores reconocen el grado de mutua interdependencia que resulta del mercado en común y la similitud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ncentivo de una empresa a tomar acción o de responder al ataque de la competencia y como trata con las ganancias y pérdidas percib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recursos de la empresa que permiten las acciones competitivas y una respuesta flexibl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449-339E-4B67-9B0C-86C3A9327A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influencias incluy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imilitud de recur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yor desbalance de recursos entre las empresas actuantes y su competencia o potenciales respondientes, mayor sera la tardanza de la respue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,  Wal-Mart usó inicialmente la estrategia de lider en costos para competir solo en pequenas comunidad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ron un sistema de logística y prácticas de compra extremadamente eficientes como ventajas competi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7D2-28DE-4F31-9C84-F91A323AF8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661-1ABA-49DB-9EBC-F445F9B817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l Proceso de Administración Estratégic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562720" cy="51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28D-AA48-47F6-AFEA-C7E9C53DC0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importante entender la alerta, motivación y habilidad del competidor para poder predecir la probabilidad de un ataque – estudiar los factores ‘probabilidad de ataqu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es son las acciones estratégicas y tác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estratégicas: movidas basadas en el mercado que significan un compromiso de importantes recursos organizacionales para perseguir una estrategia específi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í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tácticas: movidas basadas en el mercado que involucran menos recursos para afinar una estrategia que ya está funcionan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C38-30F6-4F3F-A989-90B7D40EE7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es son las accion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tratégicas y táctic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Competi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la empresa para construir o defender sus ventajas competitivas o mejorar su posición de mercad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puestas Competitiv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una empresa para contrarestar los efectos de una acción de la compet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Táctica (o Respuest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da basada en el mercado que toma la empresa de manera de afinar una estrate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C25-B7B3-4E7C-B3EC-B0DDFFB2A7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Incentivos de la primera mo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u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580-24AB-41C9-8BF9-48905D197B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 que toma una acción competitiva inicial para construir o defender sus ventajas competitivas o para mejorar su posición de merc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tener recursos dispon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g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buffer o colchon provisto por los recursos actuales o recursos obtenibles actualmente no usados por la organización, recursos en exceso del mínimo necesarios para producir un nivel de output (entrega) da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78D-6650-4857-8DFC-84391A0917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se construye en base a una fundación estratégica de investigación superior y el desarrollo de habi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ser agresivo y dispuesto a experimentar con la innov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tomar riesgos mayores, sin embargo razonab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ita tener recursos líquidos (con holgura) que pueden ser rapidamente puestos para apoyar las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beneficios pueden ser susbtanciales, pero acuérdese de la curva de aprendizaj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50D-3FCE-411B-A84A-3E2F315326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os de la primera mov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spuest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unda Movi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 primera movida, tipicamente por imi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as cauteloso que los de primera mov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las reacciones de los clientes a las innovaciones de los produc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de los errores de los que hacen la primera movida, reduciendo así sus riesg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 ventaja del tiempo para desarrollar procesos y tecnologías que sean mas eficientes que el de la primera movida, reduciendo sus co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 beneficiará de las ventajas de la primera movida, disminuyendo sus potenciale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ida Tardí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s oportunidades del mercado solo después de un tiempo considerable ha pasado desde las acciónes de la primera y la segunda mov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reducido sustancialmente los riesgos y lo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D74-9CE9-477E-B766-48A619C92C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Pequen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r como competidores nimble y flex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r con la velocidad y la sorpresa para defender su posición de vent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er disponible una mayor variedad de opciones de comportamientos competi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Gr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nudo tienen una mayor holg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en una mayor probabilidad de iniciar acciones competitivas y estratégicas en el transcurso del tiem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basarse en una limitada variedad de acciones competitivas, que puede en final de cuentas reducir su éxito com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CAD-88B5-4219-8E1A-93F7C090B9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ción del cliente que los bienes o servicios funcionan en formas que son importante para los clientes, equiparando o superando sus expectativ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5B7-EE25-4531-AB78-B644810562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Respuest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adicionales afectan la probabilidad que una empresa responderá competitivamente a las acciones de la compet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ipos y efectividad de la acción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putación del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:  Empresa ejecutando una acción o respuesta (en el contexto de rivalidad competitiv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tación:atributo positivo o negativo adjudicado de un rival al otro basado en un pasado comportamiento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pendencia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por la cual las ventas o las utilidades de una empresa se derivan de un mercado en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mente, si la acción fortalece o debilita significativamente la posición competitiva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A74-3F73-4AC6-B9E7-EF8433195E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1EF-24D6-40CA-A4E9-2E8504CCEC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BB1-A5E4-48E6-8E70-ECF0D2C4B8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Mercados de Ciclo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en que las ventajas competitivas de una empresa están protegidas de la imitación por un período largo de tiempo, y en que la imitación es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r una ventaja competitiva única en su clase que crea sustentabilidad (Ejemplo, de un propetiario y dificil de entender para los competid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vez que se desarrolla una ventaja de propiedad, se debería orientar el comportamiento competitivo a proteger, mantener y extender dicha vent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bería usar la estructura organizacional para apoyar efectivamente los esfuerzos estratég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27E-4471-48B1-ADFA-CCF5EBD89A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rosión Gradual de una Ventaja Competitiva Sostenida</a:t>
            </a:r>
            <a:br>
              <a:rPr sz="3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248520" cy="35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5BF-F412-4BE8-ACF5-E12C87D6BA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rcados de Ciclos Ráp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en que las capacidades de la empresa que contribuyen a las ventajas competitivas no están protegidas de la imitación y donde la imitación es a menudo y donde la imitación es normalemente rápida y ba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que: aprendiendo como rapida y continuamente desarrollar nuevas ventajas competitivas que son superiores a aquellas que reemplazan (creando innov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tar la lealtad a cualquier producto en particular, posiblemente canabilizando sus propios productos en curso para lanzar nuevos antes que la competencia aprenda a hacerllo a través de una imitación exi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mente tratar de avanzar hacia otra ventaja competitiva temporal antes que la competencia pueda responder a la pri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A05-D695-43E5-8128-C18133BBE0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Desarrollando Ventajas Temporales para Crear una Ventaja Sostenida</a:t>
            </a:r>
            <a:br>
              <a:rPr sz="4200"/>
            </a:b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2185920"/>
            <a:ext cx="6172200" cy="32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799-1735-44C4-808F-B50645A62D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Mercados de Cicl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donde las ventajas competitivas de la empresa están moderadamente protegidas de la imitación y donde la imitación es moderadamente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competitivas parcialmente sostenidas a medida que la calidad es continuamente ele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 servir muchos clientes y obtener una gran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ar fidelidad de marca a través de mar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peracional cuidadoso, administrar una experiencia consistente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862-81AB-4FCE-AAEA-EDF8EB511D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ompetencia entre HP y Dell:  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La Batalla Continu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perdió su posición como vendedor global top de PC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s de 2006:  HP 18.1% vs. Dell 14.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y 2006:  32% de baja en el valor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a Dell: bypasear al hombre medio y vender computadores fabricados a lo sastre directamente al cl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 singular modelo de negocios redujo los costos y por ende precios de los productos, creando valor a un grado distinto al histórico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qué?  Acciones y reacciones competitiv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P: encontró formas de innovar y reinventarse – dado que no podían competir con Dell en el campo de batalla de ventas directas usaron sus fortalezas y desarrollaron relaciones personales con los minorista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decide aventurarse en las ventas a minoristas – una reacción a H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7AC-AD90-4187-8C58-055C9A2B70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1DA-C518-47F0-9CC8-91B2961DD4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operando en el mismo mercado, ofreciendo productos similares y atendiendo clientes simi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validad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ocurriendo entre competidores a medida que compiten entre si por una posición de ventaja en el merca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rtamiento Competitiv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que toma la empresa para construir o defender sus ventajas competitivas y para mejorar su posi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84B-CB9E-4CA0-90B9-13B96BA11E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ción Multi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mpitiendo contra sí en varios mercados de productos o geográf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námica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total de acciones y respuestas de todas las empresas compitiendo dentro de un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5F3-9CB7-484D-BE96-0F0A93A7D0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Desde los Competidores a la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26D-DF24-41D1-B0AF-9C3EDA034C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BD1-D517-48EF-B9D4-C739677FEB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0:08:55Z</dcterms:created>
  <dc:creator>Kristi L. Marshall</dc:creator>
  <dc:description/>
  <dc:language>en-US</dc:language>
  <cp:lastModifiedBy>Usuario</cp:lastModifiedBy>
  <dcterms:modified xsi:type="dcterms:W3CDTF">2008-09-30T03:38:26Z</dcterms:modified>
  <cp:revision>389</cp:revision>
  <dc:subject/>
  <dc:title>Slide 1</dc:title>
</cp:coreProperties>
</file>