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A98B-C293-4999-AD6B-1BD4BF564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216-18F4-4AC7-A8F0-193C9530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5F5-3B57-45D7-A76B-F401AB0E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E5B-273A-4D4D-ACFB-2562660D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319-0E4E-4AD3-A556-9870AD49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69BF-312D-42D1-AE10-F96E6E69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1E45-4408-4EA9-AA7D-A2616DAC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4CE3-D8F0-432D-B24A-77DA54B6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2110-A96F-4E6A-A101-5B62CDC7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C19E-D6F4-4DAA-B20A-B159BF21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81C3-6A39-4714-BC9A-6D988D66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C31B-7ED4-4CDE-A9FF-C988D121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475-F474-4330-B65C-D6700950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746F-4C37-420C-9FB7-B99BFF7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23CF-0A95-4732-B604-B3F23E19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A03D-BFFF-4365-B3A7-EA979B1A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7AA6-3356-4F61-896A-2E66EECE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2CF9-CE4F-4175-B611-D298A247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C10-0500-40C2-B707-A8233650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3C8-F740-487A-BBD9-34444F36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1E1-0240-49F8-9ECB-9D39237D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D77-BA81-4972-BF80-C9CA2EAA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1F7-75C0-4F05-A426-273B19E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C05-E40B-47F3-A7F9-A0A95159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906-0484-4F33-9917-5E805958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77D8-55E3-48A5-8E7E-1903C8EEFC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70D4-1F0A-4C9D-A38E-432800F9F4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1430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Administración Estratégica: </a:t>
            </a: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onceptos y Casos</a:t>
            </a:r>
            <a:br>
              <a:rPr sz="4800"/>
            </a:b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8858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I:  Acciones Estratégicas:  Formula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5:  Rivalidad Competitiva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ámica Compet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7B32-BB1F-4476-A6FE-6411802192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e Rivalidad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n sobretiempo toman acciones y/o reaccione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atrón demuestra que las empresas son mutuamente inter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validad del nivel de empresas es usualmente dinámica y comple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undación para exitosamente construir y usar las capacidades y competencias centrales (core) para ganar una posición de ventaja en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 de eventos (Figura 5.2) son los componentes de este capít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64D-0AE1-4152-B5ED-81CC773C89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8076960" cy="27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54D-E27E-4B26-B929-DF4EC405FA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de la Competenc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mponentes a tomar en cuenta: Mercados en Común  y Similitud de l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gunta: ‘Hasta que extensión son las empresas competidoras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mercados en que las empresas compiten contra 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dor: Alto numero de mercados en común y similitud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, Dell y HP son competidore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ia directa no siempre implica rivalidad int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443-C7D5-4E9D-A8DA-3CB0130685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dos en Comú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industria compuesta de varios mercados que pueden ser subdivididas 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, Industria Financi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itud de los Recurs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ón en la cual los recursos tangibles/intangibles de la empresa son comparables con los de la competencia en tipo y m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jemplo, FedEx y UPS – ambas tienen operaciones eficientes y se enfocan en reducción de costo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binación del mercado en común y la similitud de los recursos indican los competidores de la empr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984-29AA-447C-BC76-BB8FB4A55F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s del texto (pagina 1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362320"/>
          <a:ext cx="8077320" cy="3886200"/>
        </p:xfrm>
        <a:graphic>
          <a:graphicData uri="http://schemas.openxmlformats.org/drawingml/2006/table">
            <a:tbl>
              <a:tblPr/>
              <a:tblGrid>
                <a:gridCol w="1143000"/>
                <a:gridCol w="1760760"/>
                <a:gridCol w="1850760"/>
                <a:gridCol w="1722600"/>
                <a:gridCol w="1600200"/>
              </a:tblGrid>
              <a:tr h="91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Produ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 Geográf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, 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ud,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e, 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de intermed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es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84B-AE0A-498E-BE52-C12913471E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Un Marco del Análisis Competitiv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1641600"/>
            <a:ext cx="71629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482-ADC0-4BCC-9BC4-BFEA2D3A16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8C1-818E-45FC-BF9C-BEBAC9A5A8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Mercado en Común y la Similitud de los Recursos influyen tres impuls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erta, motivación y abilidad) del comportamiento competi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o a cualquier acción competi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con la cual los competidores reconocen el grado de mutua interdependencia que resulta del mercado en común y la similitud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ncentivo de una empresa a tomar acción o de responder al ataque de la competencia y como trata con las ganancias y pérdidas percib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recursos de la empresa que permiten las acciones competitivas y una respuesta flexibl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1EE-E046-43D4-A516-D0BE979F8F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influencias incluy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imilitud de recur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yor desbalance de recursos entre las empresas actuantes y su competencia o potenciales respondientes, mayor sera la tardanza de la respue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,  Wal-Mart usó inicialmente la estrategia de lider en costos para competir solo en pequenas comunidad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ron un sistema de logística y prácticas de compra extremadamente eficientes como ventajas competi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DC7-5BF4-473F-973A-CA05A0EFDA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887-C09E-4F31-B6D3-D54DA4E46D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l Proceso de Administración Estratégic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562720" cy="51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886-BDF3-4F61-9ED8-9BD8DD7039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importante entender la alerta, motivación y habilidad del competidor para poder predecir la probabilidad de un ataque – estudiar los factores ‘probabilidad de ataqu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es son las acciones estratégicas y tác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estratégicas: movidas basadas en el mercado que significan un compromiso de importantes recursos organizacionales para perseguir una estrategia específi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í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tácticas: movidas basadas en el mercado que involucran menos recursos para afinar una estrategia que ya está funcionan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290-F08E-4AA6-894A-C21800A6B5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es son las accion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tratégicas y táctic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Competi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la empresa para construir o defender sus ventajas competitivas o mejorar su posición de mercad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puestas Competitiv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una empresa para contrarestar los efectos de una acción de la compet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Táctica (o Respuest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da basada en el mercado que toma la empresa de manera de afinar una estrate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7AA-B55C-466C-930E-115214A63A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Incentivos de la primera mo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u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DD1-B398-402B-9D71-88DE93965B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 que toma una acción competitiva inicial para construir o defender sus ventajas competitivas o para mejorar su posición de merc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tener recursos dispon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g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buffer o colchon provisto por los recursos actuales o recursos obtenibles actualmente no usados por la organización, recursos en exceso del mínimo necesarios para producir un nivel de output (entrega) da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5EF-2003-4548-8E27-24E64FA790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se construye en base a una fundación estratégica de investigación superior y el desarrollo de habi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ser agresivo y dispuesto a experimentar con la innov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tomar riesgos mayores, sin embargo razonab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ita tener recursos líquidos (con holgura) que pueden ser rapidamente puestos para apoyar las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beneficios pueden ser susbtanciales, pero acuérdese de la curva de aprendizaj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2E3-1485-454E-8DA6-8CD9A72B13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os de la primera mov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spuest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unda Movi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 primera movida, tipicamente por imi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as cauteloso que los de primera mov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las reacciones de los clientes a las innovaciones de los produc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de los errores de los que hacen la primera movida, reduciendo así sus riesg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 ventaja del tiempo para desarrollar procesos y tecnologías que sean mas eficientes que el de la primera movida, reduciendo sus co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 beneficiará de las ventajas de la primera movida, disminuyendo sus potenciale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ida Tardí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s oportunidades del mercado solo después de un tiempo considerable ha pasado desde las acciónes de la primera y la segunda mov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reducido sustancialmente los riesgos y lo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464-28F4-42CE-A7B0-117AF2C6D2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Pequen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r como competidores nimble y flex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r con la velocidad y la sorpresa para defender su posición de vent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er disponible una mayor variedad de opciones de comportamientos competi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Gr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nudo tienen una mayor holg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en una mayor probabilidad de iniciar acciones competitivas y estratégicas en el transcurso del tiem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basarse en una limitada variedad de acciones competitivas, que puede en final de cuentas reducir su éxito com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3DE-37E6-4F7D-A78F-13CB5A4108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ción del cliente que los bienes o servicios funcionan en formas que son importante para los clientes, equiparando o superando sus expectativ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EF0-D936-4DCD-80F2-13C996395F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Respuest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adicionales afectan la probabilidad que una empresa responderá competitivamente a las acciones de la compet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ipos y efectividad de la acción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putación del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:  Empresa ejecutando una acción o respuesta (en el contexto de rivalidad competitiv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tación:atributo positivo o negativo adjudicado de un rival al otro basado en un pasado comportamiento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pendencia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por la cual las ventas o las utilidades de una empresa se derivan de un mercado en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mente, si la acción fortalece o debilita significativamente la posición competitiva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178-10AC-4103-BCF2-D9E2A3C362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B8F-A1FA-4392-8839-EE558D3153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925-19FF-44E0-8474-94F6464CB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Mercados de Ciclo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en que las ventajas competitivas de una empresa están protegidas de la imitación por un período largo de tiempo, y en que la imitación es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r una ventaja competitiva única en su clase que crea sustentabilidad (Ejemplo, de un propetiario y dificil de entender para los competid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vez que se desarrolla una ventaja de propiedad, se debería orientar el comportamiento competitivo a proteger, mantener y extender dicha vent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bería usar la estructura organizacional para apoyar efectivamente los esfuerzos estratég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8EA-5DAB-4EE7-8BCE-865E439B27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rosión Gradual de una Ventaja Competitiva Sostenida</a:t>
            </a:r>
            <a:br>
              <a:rPr sz="3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248520" cy="35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5C7-E8AB-41AA-A9BE-BBCDE0EE40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rcados de Ciclos Ráp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en que las capacidades de la empresa que contribuyen a las ventajas competitivas no están protegidas de la imitación y donde la imitación es a menudo y donde la imitación es normalemente rápida y ba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que: aprendiendo como rapida y continuamente desarrollar nuevas ventajas competitivas que son superiores a aquellas que reemplazan (creando innov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tar la lealtad a cualquier producto en particular, posiblemente canabilizando sus propios productos en curso para lanzar nuevos antes que la competencia aprenda a hacerllo a través de una imitación exi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mente tratar de avanzar hacia otra ventaja competitiva temporal antes que la competencia pueda responder a la pri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763-3767-4DAF-9C09-8DB24E28EC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Desarrollando Ventajas Temporales para Crear una Ventaja Sostenida</a:t>
            </a:r>
            <a:br>
              <a:rPr sz="4200"/>
            </a:b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2185920"/>
            <a:ext cx="6172200" cy="32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4A5-270F-4D84-982E-5874DAEEFB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Mercados de Cicl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donde las ventajas competitivas de la empresa están moderadamente protegidas de la imitación y donde la imitación es moderadamente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competitivas parcialmente sostenidas a medida que la calidad es continuamente ele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 servir muchos clientes y obtener una gran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ar fidelidad de marca a través de mar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peracional cuidadoso, administrar una experiencia consistente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475-5E05-4D1F-AAB7-EF44E5E33D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ompetencia entre HP y Dell:  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La Batalla Continu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perdió su posición como vendedor global top de PC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s de 2006:  HP 18.1% vs. Dell 14.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y 2006:  32% de baja en el valor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a Dell: bypasear al hombre medio y vender computadores fabricados a lo sastre directamente al cl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 singular modelo de negocios redujo los costos y por ende precios de los productos, creando valor a un grado distinto al histórico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qué?  Acciones y reacciones competitiv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P: encontró formas de innovar y reinventarse – dado que no podían competir con Dell en el campo de batalla de ventas directas usaron sus fortalezas y desarrollaron relaciones personales con los minorista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decide aventurarse en las ventas a minoristas – una reacción a H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BBD-2E5E-404F-9FB4-84D6261F99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387-DF15-4949-AF34-C63A8611C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operando en el mismo mercado, ofreciendo productos similares y atendiendo clientes simi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validad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ocurriendo entre competidores a medida que compiten entre si por una posición de ventaja en el merca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rtamiento Competitiv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que toma la empresa para construir o defender sus ventajas competitivas y para mejorar su posi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961-A2F1-4B71-AA34-493604103C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ción Multi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mpitiendo contra sí en varios mercados de productos o geográf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námica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total de acciones y respuestas de todas las empresas compitiendo dentro de un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15C-1D41-4BF1-A46B-34A5003437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Desde los Competidores a la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AD0-EA9F-4538-AF5C-A348FD49B8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6A6-45B5-4C2A-8F79-EDC596CEA5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0:08:55Z</dcterms:created>
  <dc:creator>Kristi L. Marshall</dc:creator>
  <dc:description/>
  <dc:language>en-US</dc:language>
  <cp:lastModifiedBy>Usuario</cp:lastModifiedBy>
  <dcterms:modified xsi:type="dcterms:W3CDTF">2008-09-30T03:38:26Z</dcterms:modified>
  <cp:revision>389</cp:revision>
  <dc:subject/>
  <dc:title>Slide 1</dc:title>
</cp:coreProperties>
</file>