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5B3D-FD60-4DEE-A763-C5286150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457-0CB6-4680-9E8E-0873827C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453-D2EF-45DE-A79A-AEA27C01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A7A-55E6-4ECC-A57F-CC53862C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EE2-2845-4A98-BA95-6C23E354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44C6-92E8-477E-ABCF-6F647747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A0F8-EF37-423C-8A86-CD9F42FB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05BD-C072-43F3-872D-624EDA64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CD37-D172-430F-965D-EE83DF95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29C6-A28F-46E6-9E53-3A2976B3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0C35-74C6-48A6-8948-9CBED4A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1882-AEFB-4A70-8D72-334FAB2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502-FB39-4CC1-9B1D-40F5A9B2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A66F-F0E2-477E-B8A4-34550B0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8EBC-0D30-4657-AD9A-536640A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103A-49DD-40AD-896B-BDF0AE22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B683-BA09-4792-860D-AAB640DD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23BC-45EB-404B-B23F-949231F3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C2F-4513-4FFC-8044-94454C1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45F-C052-46B9-95DA-BAAA0E22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C40-AB4D-4514-98F2-4C546BED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C4E-1C03-46C8-8A41-F8013B5C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485-E79C-492B-8B02-C5BE1F8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2B5-89EC-4B8C-A57C-195F991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8CB-461B-4EDF-8CAA-DD3035C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4C9F-BCAC-48D5-99E9-B9FBB51EF9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D0F3-2A28-4B4D-9118-7F55DA8106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Administración Estratégica: </a:t>
            </a: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onceptos y Casos</a:t>
            </a:r>
            <a:br>
              <a:rPr sz="4800"/>
            </a:b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:  Acciones Estratégicas:  Formul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:  Rivalidad Competitiva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ámica Compet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AF53-FAF1-42BB-AC2C-98FC455895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Rivalidad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n sobretiempo toman acciones y/o reaccione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atrón demuestra que las empresas son mutuamente inter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validad del nivel de empresas es usualmente dinámica y comple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undación para exitosamente construir y usar las capacidades y competencias centrales (core) para ganar una posición de ventaja en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 de eventos (Figura 5.2) son los componentes de este capít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C1F-B155-4810-9502-973DBB2907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076960" cy="27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BA3-12C4-41CF-B958-3876B17F7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de la Competen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mponentes a tomar en cuenta: Mercados en Común  y Similitud de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: ‘Hasta que extensión son las empresas competidoras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mercados en que las empresas compiten contra 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dor: Alto numero de mercados en común y similitud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, Dell y HP son competidore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ia directa no siempre implica rivalidad int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78A-7571-4C37-9C6A-6A4CBFCF79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dos en Comú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industria compuesta de varios mercados que pueden ser subdivididas 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, Industria Financi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itud de los Recurs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ón en la cual los recursos tangibles/intangibles de la empresa son comparables con los de la competencia en tipo y m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jemplo, FedEx y UPS – ambas tienen operaciones eficientes y se enfocan en reducción de costo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binación del mercado en común y la similitud de los recursos indican los competidores de la emp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85F-BC97-4536-9A45-9F2ED435AE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 del texto (pagina 1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362320"/>
          <a:ext cx="8077320" cy="3886200"/>
        </p:xfrm>
        <a:graphic>
          <a:graphicData uri="http://schemas.openxmlformats.org/drawingml/2006/table">
            <a:tbl>
              <a:tblPr/>
              <a:tblGrid>
                <a:gridCol w="1143000"/>
                <a:gridCol w="1760760"/>
                <a:gridCol w="1850760"/>
                <a:gridCol w="1722600"/>
                <a:gridCol w="1600200"/>
              </a:tblGrid>
              <a:tr h="91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 Geográf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,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ud,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, 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de intermed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es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907-7D8C-476E-B0DC-F314B42607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Un Marco del Análisis Competitiv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1641600"/>
            <a:ext cx="71629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F31-7F84-4206-84D4-785C96C163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3D8-D6F7-48ED-B055-D174C985D6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ercado en Común y la Similitud de los Recursos influyen tres impuls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erta, motivación y abilidad) del comportamiento compet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o a cualquier acción competi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con la cual los competidores reconocen el grado de mutua interdependencia que resulta del mercado en común y la similitud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ncentivo de una empresa a tomar acción o de responder al ataque de la competencia y como trata con las ganancias y pérdidas perci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recursos de la empresa que permiten las acciones competitivas y una respuesta flexib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850-BC82-4797-BEAC-7D66BDBD32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influencias incluy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imilitud de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yor desbalance de recursos entre las empresas actuantes y su competencia o potenciales respondientes, mayor sera la tardanza de la respue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,  Wal-Mart usó inicialmente la estrategia de lider en costos para competir solo en pequenas comunidad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on un sistema de logística y prácticas de compra extremadamente eficientes como ventajas compet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9DE-2528-4434-B799-087DE3862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49A-0914-4DC7-B964-B0CA064A79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l Proceso de Administración Estratégic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1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2D2-CD08-47D2-BFA6-BF61CBC6B3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importante entender la alerta, motivación y habilidad del competidor para poder predecir la probabilidad de un ataque – estudiar los factores ‘probabilidad de ataqu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es son las acciones estratégicas y tác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estratégicas: movidas basadas en el mercado que significan un compromiso de importantes recursos organizacionales para perseguir una estrategia específ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í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tácticas: movidas basadas en el mercado que involucran menos recursos para afinar una estrategia que ya está funcionan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5F6-9A91-40AA-9000-9723FD7E0F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es son las accion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tratégicas y táctic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Competi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la empresa para construir o defender sus ventajas competitivas o mejorar su posición de mercad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uestas Competitiv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una empresa para contrarestar los efectos de una acción de la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Táctica (o Respuest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da basada en el mercado que toma la empresa de manera de afinar una estrate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DD1-A002-4656-8C0F-948F27DB5C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Incentivos de la primera mo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u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EDB-8EFE-4B6B-BD1C-32023D2B3E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 que toma una acción competitiva inicial para construir o defender sus ventajas competitivas o para mejorar su posición de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tener recursos dispon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g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uffer o colchon provisto por los recursos actuales o recursos obtenibles actualmente no usados por la organización, recursos en exceso del mínimo necesarios para producir un nivel de output (entrega) da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DA6-219C-4BC9-9AA9-40315BFFC0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se construye en base a una fundación estratégica de investigación superior y el desarrollo de 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ser agresivo y dispuesto a experimentar con la innov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tomar riesgos mayores, sin embargo razon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ita tener recursos líquidos (con holgura) que pueden ser rapidamente puestos para apoyar las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beneficios pueden ser susbtanciales, pero acuérdese de la curva de aprendizaj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29B-AF30-4C42-98F2-8F3752256C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os de la primera mov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spuest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unda Movi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 primera movida, tipicamente por imi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as cauteloso que los de primera mo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las reacciones de los clientes a las innovaciones de los produc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de los errores de los que hacen la primera movida, reduciendo así sus ries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 ventaja del tiempo para desarrollar procesos y tecnologías que sean mas eficientes que el de la primera movida, reduciendo sus co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beneficiará de las ventajas de la primera movida, disminuyendo sus potenciale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ida Tardí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s oportunidades del mercado solo después de un tiempo considerable ha pasado desde las acciónes de la primera y la segunda mo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reducido sustancialmente los riesgos y lo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29A-BF02-4BEA-8B08-64D125C049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Pequen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r como competidores nimble y flex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r con la velocidad y la sorpresa para defender su posición de vent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r disponible una mayor variedad de opciones de comportamientos competi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Gr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nudo tienen una mayor hol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n una mayor probabilidad de iniciar acciones competitivas y estratégicas en el transcurso del tiem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basarse en una limitada variedad de acciones competitivas, que puede en final de cuentas reducir su éxito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C05-EF0F-4C1D-8175-244C2E986C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ción del cliente que los bienes o servicios funcionan en formas que son importante para los clientes, equiparando o superando sus expecta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F19-4CAE-44DC-8020-506D97070F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Respuest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adicionales afectan la probabilidad que una empresa responderá competitivamente a las acciones de la compet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ipos y efectividad de la acción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putación del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:  Empresa ejecutando una acción o respuesta (en el contexto de rivalidad competitiv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tación:atributo positivo o negativo adjudicado de un rival al otro basado en un pasado comportamiento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encia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por la cual las ventas o las utilidades de una empresa se derivan de un mercado en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, si la acción fortalece o debilita significativamente la posición competitiva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7FB-FBE7-46A0-AEF1-5018EE743F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105-B3F2-450B-8B18-E3DDCE6F88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114-6F09-4C1A-AC3D-63AD60317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Mercados de Ciclo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en que las ventajas competitivas de una empresa están protegidas de la imitación por un período largo de tiempo, y en que la imitación es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r una ventaja competitiva única en su clase que crea sustentabilidad (Ejemplo, de un propetiario y dificil de entender para los competi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vez que se desarrolla una ventaja de propiedad, se debería orientar el comportamiento competitivo a proteger, mantener y extender dicha ven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bería usar la estructura organizacional para apoyar efectivamente los esfuerzos estraté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964-AC88-4B83-A20B-8D35760B44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rosión Gradual de una Ventaja Competitiva Sostenida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248520" cy="35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5EA-F07E-4A90-8E17-0C1E5AEFB0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rcados de Ciclos Ráp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en que las capacidades de la empresa que contribuyen a las ventajas competitivas no están protegidas de la imitación y donde la imitación es a menudo y donde la imitación es normalemente rápida y ba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que: aprendiendo como rapida y continuamente desarrollar nuevas ventajas competitivas que son superiores a aquellas que reemplazan (creando innov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tar la lealtad a cualquier producto en particular, posiblemente canabilizando sus propios productos en curso para lanzar nuevos antes que la competencia aprenda a hacerllo a través de una imitación exi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mente tratar de avanzar hacia otra ventaja competitiva temporal antes que la competencia pueda responder a la pri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784-D470-463B-8478-3221D145E5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Desarrollando Ventajas Temporales para Crear una Ventaja Sostenida</a:t>
            </a:r>
            <a:br>
              <a:rPr sz="4200"/>
            </a:b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2185920"/>
            <a:ext cx="6172200" cy="32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95B-7D01-4472-BCE0-9BCC5E809F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Mercados de Cicl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donde las ventajas competitivas de la empresa están moderadamente protegidas de la imitación y donde la imitación es moderadamente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competitivas parcialmente sostenidas a medida que la calidad es continuamente el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 servir muchos clientes y obtener una gran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r fidelidad de marca a través de mar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peracional cuidadoso, administrar una experiencia consistente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51C-CC13-4C89-BE3A-EAC09C754F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ompetencia entre HP y Dell:  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a Batalla Continu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perdió su posición como vendedor global top de PC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s de 2006:  HP 18.1% vs. Dell 14.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y 2006:  32% de baja en el valor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a Dell: bypasear al hombre medio y vender computadores fabricados a lo sastre directamente al cl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singular modelo de negocios redujo los costos y por ende precios de los productos, creando valor a un grado distinto al histórico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qué?  Acciones y reacciones competitiv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P: encontró formas de innovar y reinventarse – dado que no podían competir con Dell en el campo de batalla de ventas directas usaron sus fortalezas y desarrollaron relaciones personales con los minorista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decide aventurarse en las ventas a minoristas – una reacción a H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61A-75D8-4388-A301-FBD9A83BD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060-6B62-405D-817A-F797793712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operando en el mismo mercado, ofreciendo productos similares y atendiendo clientes simi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validad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ocurriendo entre competidores a medida que compiten entre si por una posición de ventaja en el merca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rtamiento Competitiv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que toma la empresa para construir o defender sus ventajas competitivas y para mejorar su posi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017-6C8D-48CD-8A5E-B10DC387F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ción Multi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mpitiendo contra sí en varios mercados de productos o geográf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námica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total de acciones y respuestas de todas las empresas compitiendo dentro de un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FA4-B1E4-4D65-81DB-F72D471507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Desde los Competidores a la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FAA-1CF9-4FEA-BBA1-1088F3AD6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7BD-1D06-4734-AE23-54025605D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0:08:55Z</dcterms:created>
  <dc:creator>Kristi L. Marshall</dc:creator>
  <dc:description/>
  <dc:language>en-US</dc:language>
  <cp:lastModifiedBy>Usuario</cp:lastModifiedBy>
  <dcterms:modified xsi:type="dcterms:W3CDTF">2008-09-30T03:38:26Z</dcterms:modified>
  <cp:revision>389</cp:revision>
  <dc:subject/>
  <dc:title>Slide 1</dc:title>
</cp:coreProperties>
</file>