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545E-46B1-4C6C-9902-71F50FCF7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971-DA86-4CCD-A662-A6831F5C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7C61-873C-450C-9C64-92A79C56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9F6-A222-4EF2-AE45-D275B60C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84A6-8F7C-4E5A-AFC9-436321BC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6C44-A408-47AA-9E44-0718E094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20DE-C849-4621-A58D-B040CEE2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EAE5-1837-4074-97F4-9C9B06C8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7AA6-B864-4B7D-BE49-D176B1C4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CAC6-9DEA-428D-B7EB-50D7EBDB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54A6-1E6D-4FDD-9E72-24556AFE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4D56-9EA7-461A-8C07-4BAF617C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65AC-D2CE-43F4-B1D7-63187539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0EBB-AF15-402C-9701-5666410A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CEEE-F072-4477-836D-E141904C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EDF6-B79D-441C-9459-B1E1612F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73F0-553D-4EFD-851A-54AE426F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A95B-5C21-47ED-B293-A544DDBD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C21-14AD-4147-A94F-889F2722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CA1B-FBE2-412A-8BF8-3D561576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B22-C7D6-4089-8DB9-7112A89E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25D-B4EE-412F-9E18-A8B0C669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DB0-1C5B-416A-A8F6-A3B6AE1F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86FB-3F1F-4F3C-9431-4D908C18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FF1-267E-483D-B654-FFA7165A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463A-F922-489F-9DB6-E35315CEFD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C54E-86B8-4ADB-9240-2514DC2695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120" y="1143000"/>
            <a:ext cx="7162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Administración Estratégica: </a:t>
            </a:r>
            <a:br>
              <a:rPr sz="4800"/>
            </a:b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onceptos y Casos</a:t>
            </a:r>
            <a:br>
              <a:rPr sz="4800"/>
            </a:b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37720" y="38858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e II:  Acciones Estratégicas:  Formulac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ítulo 5:  Rivalidad Competitiva 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ámica Competi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13EA-18EC-4AB5-AADA-A299491366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Modelo de Rivalidad Competitiv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de Rivalidad Compet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con sobretiempo toman acciones y/o reacciones competi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patrón demuestra que las empresas son mutuamente interdepen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ivalidad del nivel de empresas es usualmente dinámica y comple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undación para exitosamente construir y usar las capacidades y competencias centrales (core) para ganar una posición de ventaja en 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encia de eventos (Figura 5.2) son los componentes de este capítu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A08-8ABF-428B-9BBA-14D2E787E8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Modelo de Rivalidad Competitiv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8076960" cy="270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9335-910B-41EF-B449-CE3F32A666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Análisis de la Competenci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is de la Competenc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omponentes a tomar en cuenta: Mercados en Común  y Similitud de los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egunta: ‘Hasta que extensión son las empresas competidoras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úmero de mercados en que las empresas compiten contra s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dor: Alto numero de mercados en común y similitud de recur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, Dell y HP son competidore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encia directa no siempre implica rivalidad inte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1D39-E340-4CF8-BF2A-6B4852D961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Análisis de la Competenci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ados en Comú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industria compuesta de varios mercados que pueden ser subdivididas 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g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, Industria Financi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itud de los Recurso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ón en la cual los recursos tangibles/intangibles de la empresa son comparables con los de la competencia en tipo y m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jemplo, FedEx y UPS – ambas tienen operaciones eficientes y se enfocan en reducción de costo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mbinación del mercado en común y la similitud de los recursos indican los competidores de la empre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DDA-EA92-4B35-91D6-0D1537B61D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Análisis de la Competenci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s del texto (pagina 1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2362320"/>
          <a:ext cx="8077320" cy="3886200"/>
        </p:xfrm>
        <a:graphic>
          <a:graphicData uri="http://schemas.openxmlformats.org/drawingml/2006/table">
            <a:tbl>
              <a:tblPr/>
              <a:tblGrid>
                <a:gridCol w="1143000"/>
                <a:gridCol w="1760760"/>
                <a:gridCol w="1850760"/>
                <a:gridCol w="1722600"/>
                <a:gridCol w="1600200"/>
              </a:tblGrid>
              <a:tr h="911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ación del Mer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mentación del Produc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ado Geográf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al, Consu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ud, V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e, Oe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de intermedi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r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est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9419-B3A9-46D3-9C79-394CD03F5A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Un Marco del Análisis Competitivo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71600" y="1641600"/>
            <a:ext cx="7162920" cy="40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3D22-8C4F-4DCE-8815-790D0457BA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 y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FB9-8B70-4DA9-A84C-8C8B3E5372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mpulsores de las Acciones/Respuestas Competitivas 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 Mercado en Común y la Similitud de los Recursos influyen tres impuls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lerta, motivación y abilidad) del comportamiento competiti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requisito a cualquier acción competi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ón con la cual los competidores reconocen el grado de mutua interdependencia que resulta del mercado en común y la similitud de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incentivo de una empresa a tomar acción o de responder al ataque de la competencia y como trata con las ganancias y pérdidas percib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recursos de la empresa que permiten las acciones competitivas y una respuesta flexibl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710E-D34E-450D-94A5-4818821CB0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mpulsores de las Acciones/Respuestas Competitivas 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ras influencias incluy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imilitud de recurs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yor desbalance de recursos entre las empresas actuantes y su competencia o potenciales respondientes, mayor sera la tardanza de la respues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jemplo,  Wal-Mart usó inicialmente la estrategia de lider en costos para competir solo en pequenas comunidad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ron un sistema de logística y prácticas de compra extremadamente eficientes como ventajas competi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4C7-FC04-43BA-8A09-6B0CB492E3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 y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69EE-142E-44CC-8929-3DFA727726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El Proceso de Administración Estratégic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562720" cy="510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28A7-2211-4A9C-880D-D31F3CFA32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importante entender la alerta, motivación y habilidad del competidor para poder predecir la probabilidad de un ataque – estudiar los factores ‘probabilidad de ataque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les son las acciones estratégicas y táctic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ones y respuestas estratégicas: movidas basadas en el mercado que significan un compromiso de importantes recursos organizacionales para perseguir una estrategia específic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ícil de implementar y revert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ones y respuestas tácticas: movidas basadas en el mercado que involucran menos recursos para afinar una estrategia que ya está funcionan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ácil de implementar y revert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71A5-FA7B-45FE-8188-CB366A8ACA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ales son las accion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stratégicas y táctic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ión Competi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ón estratégica o táctica que toma la empresa para construir o defender sus ventajas competitivas o mejorar su posición de mercado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puestas Competitiv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ón estratégica o táctica que toma una empresa para contrarestar los efectos de una acción de la compete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ión Táctica (o Respuest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da basada en el mercado que toma la empresa de manera de afinar una estrateg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99E-F1EA-424E-8BF5-1DFC0EC160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posibles acciones de ‘probabilidad de respuesta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Incentivos de la primera mo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Tamano de la Organ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Cu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5A11-5DCD-4772-8534-716AC608D8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906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posibles acciones de ‘probabilidad de respuesta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centivos de la primera mov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resa que toma una acción competitiva inicial para construir o defender sus ventajas competitivas o para mejorar su posición de merc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e tener recursos disponi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gu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buffer o colchon provisto por los recursos actuales o recursos obtenibles actualmente no usados por la organización, recursos en exceso del mínimo necesarios para producir un nivel de output (entrega) da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E6B-456C-481A-812C-A47C2D5293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posibles acciones de ‘probabilidad de respuesta‘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centivos de la primera movid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nudo se construye en base a una fundación estratégica de investigación superior y el desarrollo de habil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ende a ser agresivo y dispuesto a experimentar con la innov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ende a tomar riesgos mayores, sin embargo razonab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cesita tener recursos líquidos (con holgura) que pueden ser rapidamente puestos para apoyar las a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 beneficios pueden ser susbtanciales, pero acuérdese de la curva de aprendizaj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7C4-8E11-4509-96E5-3DB55B007C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s posibles acciones de ‘probabilidad de respuesta‘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os de la primera movi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Respuesta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gunda Movid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e a la primera movida, tipicamente por imit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mas cauteloso que los de primera movi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de a estudiar las reacciones de los clientes a las innovaciones de los product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de a estudiar de los errores de los que hacen la primera movida, reduciendo así sus riesg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 ventaja del tiempo para desarrollar procesos y tecnologías que sean mas eficientes que el de la primera movida, reduciendo sus cos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e beneficiará de las ventajas de la primera movida, disminuyendo sus potenciales retor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ida Tardí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e a las oportunidades del mercado solo después de un tiempo considerable ha pasado desde las acciónes de la primera y la segunda mov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reducido sustancialmente los riesgos y los retor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041-CEA6-4195-8CAE-E456F2AB2D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s posibles acciones de ‘probabilidad de respuesta‘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Tamano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Pequena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r como competidores nimble y flexi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r con la velocidad y la sorpresa para defender su posición de venta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er disponible una mayor variedad de opciones de comportamientos competi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Gran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nudo tienen una mayor holg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en una mayor probabilidad de iniciar acciones competitivas y estratégicas en el transcurso del tiem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95a3d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ende a basarse en una limitada variedad de acciones competitivas, que puede en final de cuentas reducir su éxito competi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55D3-A216-4F10-932E-05B4040023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un Ataque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posibles acciones de ‘probabilidad de respuesta‘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C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pción del cliente que los bienes o servicios funcionan en formas que son importante para los clientes, equiparando o superando sus expectativ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77A-3533-40B7-8E01-73FC44D3DF0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Inter Empresas:  Probabilidad de Respuest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es adicionales afectan la probabilidad que una empresa responderá competitivamente a las acciones de la compet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ipos y efectividad de la acción 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Reputación del 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or:  Empresa ejecutando una acción o respuesta (en el contexto de rivalidad competitiv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utación:atributo positivo o negativo adjudicado de un rival al otro basado en un pasado comportamiento compet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Dependencia en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ón por la cual las ventas o las utilidades de una empresa se derivan de un mercado en partic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mente, si la acción fortalece o debilita significativamente la posición competitiva de 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3452-84B6-4E92-BAE6-7ABE74EEA3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 y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9B08-A613-4160-926D-61044722AF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Rivalidad Competitiva y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28C8-C08B-4608-BD2D-AC060F90F3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Dinámica Competitiva: Mercado de 3 Ciclos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Mercados de Ciclo L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ados en que las ventajas competitivas de una empresa están protegidas de la imitación por un período largo de tiempo, y en que la imitación es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ir una ventaja competitiva única en su clase que crea sustentabilidad (Ejemplo, de un propetiario y dificil de entender para los competid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vez que se desarrolla una ventaja de propiedad, se debería orientar el comportamiento competitivo a proteger, mantener y extender dicha venta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debería usar la estructura organizacional para apoyar efectivamente los esfuerzos estratég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0BB8-2EB1-418A-96EF-48AE59CCEA0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Erosión Gradual de una Ventaja Competitiva Sostenida</a:t>
            </a:r>
            <a:br>
              <a:rPr sz="3600"/>
            </a:b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6248520" cy="359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B74-87D5-4C2C-9874-E3E2AF9CDB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Dinámica Competitiva: Mercado de 3 Ciclos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ercados de Ciclos Rápi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en que las capacidades de la empresa que contribuyen a las ventajas competitivas no están protegidas de la imitación y donde la imitación es a menudo y donde la imitación es normalemente rápida y ba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foque: aprendiendo como rapida y continuamente desarrollar nuevas ventajas competitivas que son superiores a aquellas que reemplazan (creando innov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tar la lealtad a cualquier producto en particular, posiblemente canabilizando sus propios productos en curso para lanzar nuevos antes que la competencia aprenda a hacerllo a través de una imitación exit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amente tratar de avanzar hacia otra ventaja competitiva temporal antes que la competencia pueda responder a la prim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C45-6ACD-413C-89A1-D007580A9C9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Desarrollando Ventajas Temporales para Crear una Ventaja Sostenida</a:t>
            </a:r>
            <a:br>
              <a:rPr sz="4200"/>
            </a:b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76520" y="2185920"/>
            <a:ext cx="6172200" cy="325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A5E-F358-4CB5-AC20-5984B0A4F74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Dinámica Competitiva: Mercado de 3 Ciclos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Mercados de Ciclo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ados donde las ventajas competitivas de la empresa están moderadamente protegidas de la imitación y donde la imitación es moderadamente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ajas competitivas parcialmente sostenidas a medida que la calidad es continuamente ele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ca servir muchos clientes y obtener una gran participación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ar fidelidad de marca a través de mar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operacional cuidadoso, administrar una experiencia consistente para 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1AB-6FA4-4AAB-88FC-2B7F5E554E1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ompetencia entre HP y Dell:  </a:t>
            </a:r>
            <a:br>
              <a:rPr sz="36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La Batalla Continua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l perdió su posición como vendedor global top de PC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es de 2006:  HP 18.1% vs. Dell 14.7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5 y 2006:  32% de baja en el valor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a Dell: bypasear al hombre medio y vender computadores fabricados a lo sastre directamente al cl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e singular modelo de negocios redujo los costos y por ende precios de los productos, creando valor a un grado distinto al histórico…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qué?  Acciones y reacciones competitiva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P: encontró formas de innovar y reinventarse – dado que no podían competir con Dell en el campo de batalla de ventas directas usaron sus fortalezas y desarrollaron relaciones personales con los minorista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l decide aventurarse en las ventas a minoristas – una reacción a H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0887-900A-42FE-8E3D-397748EC98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Rivalidad Competitiva y Dinámica Competitiva</a:t>
            </a:r>
            <a:br>
              <a:rPr sz="4600"/>
            </a:b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066-EDA9-4EDE-B855-487D45C46E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ntroducción y Definicion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eti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operando en el mismo mercado, ofreciendo productos similares y atendiendo clientes simil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validad Competitiv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 de acciones competitivas y respuestas competitivas ocurriendo entre competidores a medida que compiten entre si por una posición de ventaja en el mercad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rtamiento Competitiv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 de acciones competitivas y respuestas competitivas que toma la empresa para construir o defender sus ventajas competitivas y para mejorar su posición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046-AD2A-4C69-9366-BF001572E9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Introducción y Definiciones </a:t>
            </a:r>
            <a:r>
              <a:rPr b="0" lang="en-US" sz="1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(Cont’d)</a:t>
            </a:r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etición Multi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s compitiendo contra sí en varios mercados de productos o geográf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námica Competitiv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 total de acciones y respuestas de todas las empresas compitiendo dentro de un merc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0E5C-F546-44CC-9381-74520079EE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Desde los Competidores a la Dinámica Competitiva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848720" cy="440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13F-E272-463E-9569-645E8A1ADA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pítulo 5: Rivalidad Competitiva y Dinámica Competitiva</a:t>
            </a:r>
            <a:br>
              <a:rPr sz="4600"/>
            </a:b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orama:  Seis áreas de conteni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dores, rivalidad competitiva, comportamiento competitivo y dinámica competi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rcados en Común y similitud de recursos:  Bloques constructivos del análisis competitiv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iones competitivas:  Alerta, motivación y 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es que dirijen las acciones competitivas de la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uesta de los competidores frente a acciones tomadas contra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námica competitiva en ciclos de mercado lentos, rápidos y estánd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88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4E7-0FB2-4887-80CD-230F33AD92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20:08:55Z</dcterms:created>
  <dc:creator>Kristi L. Marshall</dc:creator>
  <dc:description/>
  <dc:language>en-US</dc:language>
  <cp:lastModifiedBy>Usuario</cp:lastModifiedBy>
  <dcterms:modified xsi:type="dcterms:W3CDTF">2008-09-30T03:38:26Z</dcterms:modified>
  <cp:revision>389</cp:revision>
  <dc:subject/>
  <dc:title>Slide 1</dc:title>
</cp:coreProperties>
</file>