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E7DE-C9A1-4232-A402-E05260891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AD1-85E0-4B0D-B0FD-9B03E33D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DA7-FC84-460E-BE11-19523EBF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211-CA28-4479-B04E-F541DB51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481-899A-4923-8198-B7B2768F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6460-A6CF-4C21-AAB2-C1B200BE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1DC1-5F7F-45FD-B116-D9247FDA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2C80-E05B-40C1-B1B7-C10ACBB9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360F-D20B-4863-9621-5B74BB6B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7D68-2C32-4D7E-8D15-E35E5661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873C-EB84-43AF-B0A6-5EE6FC0A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A104-FB07-423B-87D7-8053F294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F7F-97BC-400F-8A46-D372E2B0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3B94-5FCE-44EC-ACD5-E0AC776B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F36B-5F9B-4D1B-8B1D-EEC6F9A5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0832-BAAC-42FC-B869-2D573D05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52D6-EE48-42DA-A760-64B102E3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123C-4857-4DC4-90FA-7A30C671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AA5-19D0-4806-BD68-EF62BDFE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3AD-9110-44E3-A796-EDDD131F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EF2-89A7-4112-B5E7-EBE86A32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808-34BC-442A-B8AC-5CFE5C07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0D7-C30D-4DB0-965F-92CF231F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9F0-8D98-4452-9153-034B0EAC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F39-3FEC-40AD-9E9A-47CAC690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E832-1603-46AC-8738-07F5C6C1E8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0D88-95A0-45A2-A69A-6588D05301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1430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Administración Estratégica: </a:t>
            </a: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onceptos y Casos</a:t>
            </a:r>
            <a:br>
              <a:rPr sz="4800"/>
            </a:b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38858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I:  Acciones Estratégicas:  Formulac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5:  Rivalidad Competitiva 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ámica Competi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0ADF-4EBF-4CCB-9979-4A67590B0C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delo de 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de Rivalidad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con sobretiempo toman acciones y/o reacciones com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atrón demuestra que las empresas son mutuamente interde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ivalidad del nivel de empresas es usualmente dinámica y comple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undación para exitosamente construir y usar las capacidades y competencias centrales (core) para ganar una posición de ventaja en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 de eventos (Figura 5.2) son los componentes de este capít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3F8-A5B4-4489-8CF1-1A302C009B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delo de 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8076960" cy="27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844-96D5-4D46-87A5-E16E7EC308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de la Competenc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mponentes a tomar en cuenta: Mercados en Común  y Similitud de l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gunta: ‘Hasta que extensión son las empresas competidoras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mercados en que las empresas compiten contra 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dor: Alto numero de mercados en común y similitud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, Dell y HP son competidore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encia directa no siempre implica rivalidad int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5B5-BB71-430E-9A97-883A120AB7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dos en Comú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industria compuesta de varios mercados que pueden ser subdivididas 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g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, Industria Financi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itud de los Recurs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ón en la cual los recursos tangibles/intangibles de la empresa son comparables con los de la competencia en tipo y m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jemplo, FedEx y UPS – ambas tienen operaciones eficientes y se enfocan en reducción de costo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binación del mercado en común y la similitud de los recursos indican los competidores de la empr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872-F0E0-4B5D-AE85-6A518AEAF0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s del texto (pagina 1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362320"/>
          <a:ext cx="8077320" cy="3886200"/>
        </p:xfrm>
        <a:graphic>
          <a:graphicData uri="http://schemas.openxmlformats.org/drawingml/2006/table">
            <a:tbl>
              <a:tblPr/>
              <a:tblGrid>
                <a:gridCol w="1143000"/>
                <a:gridCol w="1760760"/>
                <a:gridCol w="1850760"/>
                <a:gridCol w="1722600"/>
                <a:gridCol w="1600200"/>
              </a:tblGrid>
              <a:tr h="91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ción del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ción del Produ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 Geográf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, 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ud,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e, O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de intermed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es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FE2-14BE-4540-B8BB-86419D7C72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Un Marco del Análisis Competitiv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1641600"/>
            <a:ext cx="716292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6DA-CC58-4197-A5EE-C7F43DAD65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EF8-A77D-482E-9FFA-0EFB2CF82D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mpulsores de las Acciones/Respuestas Competitivas 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Mercado en Común y la Similitud de los Recursos influyen tres impuls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lerta, motivación y abilidad) del comportamiento competi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requisito a cualquier acción competi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ón con la cual los competidores reconocen el grado de mutua interdependencia que resulta del mercado en común y la similitud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incentivo de una empresa a tomar acción o de responder al ataque de la competencia y como trata con las ganancias y pérdidas percib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recursos de la empresa que permiten las acciones competitivas y una respuesta flexibl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70F-05F7-45BE-8434-341777EFEC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mpulsores de las Acciones/Respuestas Competitivas 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as influencias incluy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imilitud de recur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yor desbalance de recursos entre las empresas actuantes y su competencia o potenciales respondientes, mayor sera la tardanza de la respues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,  Wal-Mart usó inicialmente la estrategia de lider en costos para competir solo en pequenas comunidad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ron un sistema de logística y prácticas de compra extremadamente eficientes como ventajas competi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218-7B9B-40BD-B073-EE48F7FD59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A5F-D804-41C1-9AD8-D549912F29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l Proceso de Administración Estratégic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562720" cy="51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E1C-4EBA-40C0-AAB6-F52AF4020B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importante entender la alerta, motivación y habilidad del competidor para poder predecir la probabilidad de un ataque – estudiar los factores ‘probabilidad de ataqu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les son las acciones estratégicas y táct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ones y respuestas estratégicas: movidas basadas en el mercado que significan un compromiso de importantes recursos organizacionales para perseguir una estrategia específic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ícil de implementar y rever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ones y respuestas tácticas: movidas basadas en el mercado que involucran menos recursos para afinar una estrategia que ya está funcionan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ácil de implementar y rever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40E-4A51-45F6-AC45-FA6F414A25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es son las accion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stratégicas y táctic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ón Competi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ón estratégica o táctica que toma la empresa para construir o defender sus ventajas competitivas o mejorar su posición de mercad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puestas Competitiv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ón estratégica o táctica que toma una empresa para contrarestar los efectos de una acción de la compet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ón Táctica (o Respuest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da basada en el mercado que toma la empresa de manera de afinar una estrateg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60B-27FD-4F3D-8A86-ABC0FD2B4C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Incentivos de la primera mo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amano de la Organ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u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C71-509A-4FA1-9AA7-6A3014CD0A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entivos de la primera mo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 que toma una acción competitiva inicial para construir o defender sus ventajas competitivas o para mejorar su posición de merc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 tener recursos disponi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g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buffer o colchon provisto por los recursos actuales o recursos obtenibles actualmente no usados por la organización, recursos en exceso del mínimo necesarios para producir un nivel de output (entrega) da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456-EBBC-42D4-820F-B40F1F9B27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entivos de la primera movi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nudo se construye en base a una fundación estratégica de investigación superior y el desarrollo de habil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de a ser agresivo y dispuesto a experimentar con la innov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de a tomar riesgos mayores, sin embargo razonab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cesita tener recursos líquidos (con holgura) que pueden ser rapidamente puestos para apoyar las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beneficios pueden ser susbtanciales, pero acuérdese de la curva de aprendizaj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176-3234-4D27-BD9F-82DBFD7790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os de la primera mov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Respuest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unda Movi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 a la primera movida, tipicamente por imi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mas cauteloso que los de primera mov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estudiar las reacciones de los clientes a las innovaciones de los produc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estudiar de los errores de los que hacen la primera movida, reduciendo así sus riesg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 ventaja del tiempo para desarrollar procesos y tecnologías que sean mas eficientes que el de la primera movida, reduciendo sus cos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 beneficiará de las ventajas de la primera movida, disminuyendo sus potenciales reto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ida Tardí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 a las oportunidades del mercado solo después de un tiempo considerable ha pasado desde las acciónes de la primera y la segunda mov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reducido sustancialmente los riesgos y los reto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A13-E160-4482-B575-0F89429800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amano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Pequen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r como competidores nimble y flexi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r con la velocidad y la sorpresa para defender su posición de venta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er disponible una mayor variedad de opciones de comportamientos competi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Gra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nudo tienen una mayor holg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en una mayor probabilidad de iniciar acciones competitivas y estratégicas en el transcurso del tiem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basarse en una limitada variedad de acciones competitivas, que puede en final de cuentas reducir su éxito com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608-571C-449C-872E-97254AF66C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pción del cliente que los bienes o servicios funcionan en formas que son importante para los clientes, equiparando o superando sus expectativ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092-4DD8-480C-8A0F-FDC2AA995A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Respuest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adicionales afectan la probabilidad que una empresa responderá competitivamente a las acciones de la compet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ipos y efectividad de la acción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Reputación del 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:  Empresa ejecutando una acción o respuesta (en el contexto de rivalidad competitiv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tación:atributo positivo o negativo adjudicado de un rival al otro basado en un pasado comportamiento 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pendencia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ón por la cual las ventas o las utilidades de una empresa se derivan de un mercado en part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mente, si la acción fortalece o debilita significativamente la posición competitiva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C04-0303-45BF-AB38-E6A7B4A7DC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0E1-4C5E-4F97-911E-984C0A6760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69C-A681-4372-88E3-017DEB0D5F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Mercados de Ciclo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s en que las ventajas competitivas de una empresa están protegidas de la imitación por un período largo de tiempo, y en que la imitación es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ir una ventaja competitiva única en su clase que crea sustentabilidad (Ejemplo, de un propetiario y dificil de entender para los competid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vez que se desarrolla una ventaja de propiedad, se debería orientar el comportamiento competitivo a proteger, mantener y extender dicha vent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ebería usar la estructura organizacional para apoyar efectivamente los esfuerzos estratég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805-6974-4FD0-A15A-AE61908031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rosión Gradual de una Ventaja Competitiva Sostenida</a:t>
            </a:r>
            <a:br>
              <a:rPr sz="3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248520" cy="359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CCF-91B6-4F41-B180-0E6BEAF500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rcados de Ciclos Ráp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en que las capacidades de la empresa que contribuyen a las ventajas competitivas no están protegidas de la imitación y donde la imitación es a menudo y donde la imitación es normalemente rápida y ba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oque: aprendiendo como rapida y continuamente desarrollar nuevas ventajas competitivas que son superiores a aquellas que reemplazan (creando innov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tar la lealtad a cualquier producto en particular, posiblemente canabilizando sus propios productos en curso para lanzar nuevos antes que la competencia aprenda a hacerllo a través de una imitación exi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mente tratar de avanzar hacia otra ventaja competitiva temporal antes que la competencia pueda responder a la prim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E77-69E6-4704-976A-9E26BA2270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Desarrollando Ventajas Temporales para Crear una Ventaja Sostenida</a:t>
            </a:r>
            <a:br>
              <a:rPr sz="4200"/>
            </a:b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2185920"/>
            <a:ext cx="6172200" cy="325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7AE-4004-4019-92CB-CAC111C482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Mercados de Ciclo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s donde las ventajas competitivas de la empresa están moderadamente protegidas de la imitación y donde la imitación es moderadamente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jas competitivas parcialmente sostenidas a medida que la calidad es continuamente ele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 servir muchos clientes y obtener una gran participa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ar fidelidad de marca a través de mar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peracional cuidadoso, administrar una experiencia consistente para 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13D-00AC-4FB1-92F5-CC80760C5D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ompetencia entre HP y Dell:  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La Batalla Continu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 perdió su posición como vendedor global top de PC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s de 2006:  HP 18.1% vs. Dell 14.7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y 2006:  32% de baja en el valor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a Dell: bypasear al hombre medio y vender computadores fabricados a lo sastre directamente al cl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 singular modelo de negocios redujo los costos y por ende precios de los productos, creando valor a un grado distinto al histórico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qué?  Acciones y reacciones competitiva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P: encontró formas de innovar y reinventarse – dado que no podían competir con Dell en el campo de batalla de ventas directas usaron sus fortalezas y desarrollaron relaciones personales con los minorista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 decide aventurarse en las ventas a minoristas – una reacción a H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7C7-878B-4E61-BAF1-725FCE1B67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Rivalidad Competitiva y Dinámica Competitiva</a:t>
            </a:r>
            <a:br>
              <a:rPr sz="4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F08-B458-4C62-BB54-65DCED8E57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troducción y Definicion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operando en el mismo mercado, ofreciendo productos similares y atendiendo clientes simil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validad Competit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acciones competitivas y respuestas competitivas ocurriendo entre competidores a medida que compiten entre si por una posición de ventaja en el merca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rtamiento Competitiv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acciones competitivas y respuestas competitivas que toma la empresa para construir o defender sus ventajas competitivas y para mejorar su posi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7A1-7C23-4798-BA65-9EEEE1CEEE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troducción y Definicione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ción Multi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compitiendo contra sí en varios mercados de productos o geográf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námica Competit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total de acciones y respuestas de todas las empresas compitiendo dentro de un mer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54A-69D4-4137-93B6-4AD4B67992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Desde los Competidores a la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84872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063-E3F0-4D41-AFDE-95C5BE9371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Rivalidad Competitiva y Dinámica Competitiva</a:t>
            </a:r>
            <a:br>
              <a:rPr sz="4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D20-337E-41F1-8460-C10F720046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0:08:55Z</dcterms:created>
  <dc:creator>Kristi L. Marshall</dc:creator>
  <dc:description/>
  <dc:language>en-US</dc:language>
  <cp:lastModifiedBy>Usuario</cp:lastModifiedBy>
  <dcterms:modified xsi:type="dcterms:W3CDTF">2008-09-30T03:38:26Z</dcterms:modified>
  <cp:revision>389</cp:revision>
  <dc:subject/>
  <dc:title>Slide 1</dc:title>
</cp:coreProperties>
</file>