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AMERA.WAV" ContentType="audio/x-wav"/>
  <Override PartName="/ppt/media/LASER.WAV" ContentType="audio/x-wav"/>
  <Override PartName="/ppt/media/image2.png" ContentType="image/png"/>
  <Override PartName="/ppt/media/DRUMROLL.WAV" ContentType="audio/x-wav"/>
  <Override PartName="/ppt/media/APPLAUSE.WAV" ContentType="audio/x-wav"/>
  <Override PartName="/ppt/media/CHIMES.WAV" ContentType="audio/x-wav"/>
  <Override PartName="/ppt/media/CASHREG.WAV" ContentType="audio/x-wav"/>
  <Override PartName="/ppt/media/TYPE.WAV" ContentType="audio/x-wav"/>
  <Override PartName="/ppt/media/GUNSHOT.WAV" ContentType="audio/x-wav"/>
  <Override PartName="/ppt/media/WHOOSH.WAV" ContentType="audio/x-wav"/>
  <Override PartName="/ppt/media/DRIVEBY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CD2E-A09D-4B40-B933-DFD5CECD9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10D6-BE28-4125-8D65-74779E73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8B59-A353-4040-AD3F-4D364194B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985F-9C07-4CAB-93C3-1931FA506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344B-0418-4C1A-8E9C-EB62C1C3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D177-D246-4739-9D81-D5204E7E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578E-FDA5-420D-B868-62DF4CC0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BF4D-5D66-45C9-BEEE-9623C8F9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124080" y="151920"/>
            <a:ext cx="55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2FF8-C3D6-4184-B423-2F3A297B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9F04-400A-4A86-BEF0-DC33906A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7731-DCDD-4B37-BAEB-FDEA6533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9B06-4DB3-4067-8A5E-4CB23321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Unit-Medium"/>
              </a:rPr>
              <a:t>Click to edit the title text format</a:t>
            </a: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F084-72C4-4B4E-BA55-5DA71D745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GUNSHOT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IVEBY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DRIVEBY.WAV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2311560"/>
            <a:ext cx="7772400" cy="1404720"/>
          </a:xfrm>
          <a:prstGeom prst="rect">
            <a:avLst/>
          </a:prstGeom>
          <a:blipFill rotWithShape="0">
            <a:blip r:embed="rId1">
              <a:alphaModFix amt="80000"/>
            </a:blip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LIDERAZGO SITUACIONAL </a:t>
            </a:r>
            <a:endParaRPr b="0" lang="en-US" sz="32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76360" y="4268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Unit-Light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Octubre 2008</a:t>
            </a:r>
            <a:endParaRPr b="0" lang="en-US" sz="20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Nivel de Desarrollo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99"/>
                </a:solidFill>
                <a:latin typeface="Trebuchet MS"/>
              </a:rPr>
              <a:t>Competencia</a:t>
            </a: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99"/>
                </a:solidFill>
                <a:latin typeface="Trebuchet MS"/>
              </a:rPr>
              <a:t>Compromiso</a:t>
            </a: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Competencia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Trebuchet MS"/>
              </a:rPr>
              <a:t>Conocimientos y habilidades para la tarea o meta.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Trebuchet MS"/>
              </a:rPr>
              <a:t>Conocimientos y habilidades transferibles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Compromiso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99"/>
                </a:solidFill>
                <a:latin typeface="Trebuchet MS"/>
              </a:rPr>
              <a:t>Motivación </a:t>
            </a: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99"/>
                </a:solidFill>
                <a:latin typeface="Trebuchet MS"/>
              </a:rPr>
              <a:t>Confianza</a:t>
            </a: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755640" y="1341360"/>
          <a:ext cx="7543800" cy="4611600"/>
        </p:xfrm>
        <a:graphic>
          <a:graphicData uri="http://schemas.openxmlformats.org/drawingml/2006/table">
            <a:tbl>
              <a:tblPr/>
              <a:tblGrid>
                <a:gridCol w="1886040"/>
                <a:gridCol w="1886040"/>
                <a:gridCol w="1885680"/>
                <a:gridCol w="188604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APREND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ENTUSIAST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APREND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DESILUSION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D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COMPET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INSEGU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COMPET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AUTÓNO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72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 rot="19528200">
            <a:off x="3632400" y="4580640"/>
            <a:ext cx="26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COMPROM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9643400">
            <a:off x="2794320" y="3223800"/>
            <a:ext cx="23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COMPETENCI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5480" y="2567160"/>
            <a:ext cx="7458120" cy="2597040"/>
          </a:xfrm>
          <a:custGeom>
            <a:avLst/>
            <a:gdLst/>
            <a:ahLst/>
            <a:rect l="l" t="t" r="r" b="b"/>
            <a:pathLst>
              <a:path w="4698" h="1636">
                <a:moveTo>
                  <a:pt x="0" y="124"/>
                </a:moveTo>
                <a:cubicBezTo>
                  <a:pt x="15" y="118"/>
                  <a:pt x="64" y="94"/>
                  <a:pt x="92" y="85"/>
                </a:cubicBezTo>
                <a:cubicBezTo>
                  <a:pt x="120" y="76"/>
                  <a:pt x="127" y="70"/>
                  <a:pt x="170" y="72"/>
                </a:cubicBezTo>
                <a:cubicBezTo>
                  <a:pt x="213" y="74"/>
                  <a:pt x="283" y="70"/>
                  <a:pt x="353" y="98"/>
                </a:cubicBezTo>
                <a:cubicBezTo>
                  <a:pt x="423" y="126"/>
                  <a:pt x="502" y="172"/>
                  <a:pt x="589" y="242"/>
                </a:cubicBezTo>
                <a:cubicBezTo>
                  <a:pt x="676" y="312"/>
                  <a:pt x="805" y="439"/>
                  <a:pt x="877" y="517"/>
                </a:cubicBezTo>
                <a:cubicBezTo>
                  <a:pt x="949" y="595"/>
                  <a:pt x="984" y="665"/>
                  <a:pt x="1021" y="713"/>
                </a:cubicBezTo>
                <a:cubicBezTo>
                  <a:pt x="1058" y="761"/>
                  <a:pt x="1070" y="761"/>
                  <a:pt x="1100" y="805"/>
                </a:cubicBezTo>
                <a:cubicBezTo>
                  <a:pt x="1130" y="849"/>
                  <a:pt x="1160" y="901"/>
                  <a:pt x="1204" y="975"/>
                </a:cubicBezTo>
                <a:cubicBezTo>
                  <a:pt x="1248" y="1049"/>
                  <a:pt x="1300" y="1148"/>
                  <a:pt x="1361" y="1250"/>
                </a:cubicBezTo>
                <a:cubicBezTo>
                  <a:pt x="1422" y="1352"/>
                  <a:pt x="1486" y="1544"/>
                  <a:pt x="1571" y="1590"/>
                </a:cubicBezTo>
                <a:cubicBezTo>
                  <a:pt x="1656" y="1636"/>
                  <a:pt x="1722" y="1606"/>
                  <a:pt x="1872" y="1525"/>
                </a:cubicBezTo>
                <a:cubicBezTo>
                  <a:pt x="2022" y="1444"/>
                  <a:pt x="2376" y="1206"/>
                  <a:pt x="2474" y="1106"/>
                </a:cubicBezTo>
                <a:cubicBezTo>
                  <a:pt x="2572" y="1006"/>
                  <a:pt x="2417" y="929"/>
                  <a:pt x="2461" y="923"/>
                </a:cubicBezTo>
                <a:cubicBezTo>
                  <a:pt x="2505" y="917"/>
                  <a:pt x="2721" y="1087"/>
                  <a:pt x="2736" y="1067"/>
                </a:cubicBezTo>
                <a:cubicBezTo>
                  <a:pt x="2751" y="1047"/>
                  <a:pt x="2533" y="809"/>
                  <a:pt x="2553" y="805"/>
                </a:cubicBezTo>
                <a:cubicBezTo>
                  <a:pt x="2573" y="801"/>
                  <a:pt x="2830" y="1046"/>
                  <a:pt x="2854" y="1040"/>
                </a:cubicBezTo>
                <a:cubicBezTo>
                  <a:pt x="2878" y="1034"/>
                  <a:pt x="2677" y="783"/>
                  <a:pt x="2697" y="766"/>
                </a:cubicBezTo>
                <a:cubicBezTo>
                  <a:pt x="2717" y="749"/>
                  <a:pt x="2959" y="949"/>
                  <a:pt x="2972" y="936"/>
                </a:cubicBezTo>
                <a:cubicBezTo>
                  <a:pt x="2985" y="923"/>
                  <a:pt x="2758" y="707"/>
                  <a:pt x="2775" y="687"/>
                </a:cubicBezTo>
                <a:cubicBezTo>
                  <a:pt x="2792" y="667"/>
                  <a:pt x="3052" y="829"/>
                  <a:pt x="3076" y="818"/>
                </a:cubicBezTo>
                <a:cubicBezTo>
                  <a:pt x="3100" y="807"/>
                  <a:pt x="2904" y="646"/>
                  <a:pt x="2919" y="622"/>
                </a:cubicBezTo>
                <a:cubicBezTo>
                  <a:pt x="2934" y="598"/>
                  <a:pt x="3120" y="689"/>
                  <a:pt x="3168" y="674"/>
                </a:cubicBezTo>
                <a:cubicBezTo>
                  <a:pt x="3216" y="659"/>
                  <a:pt x="3096" y="619"/>
                  <a:pt x="3207" y="530"/>
                </a:cubicBezTo>
                <a:cubicBezTo>
                  <a:pt x="3318" y="441"/>
                  <a:pt x="3611" y="224"/>
                  <a:pt x="3836" y="137"/>
                </a:cubicBezTo>
                <a:cubicBezTo>
                  <a:pt x="4061" y="50"/>
                  <a:pt x="4414" y="12"/>
                  <a:pt x="4556" y="6"/>
                </a:cubicBezTo>
                <a:cubicBezTo>
                  <a:pt x="4698" y="0"/>
                  <a:pt x="4660" y="79"/>
                  <a:pt x="4687" y="98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11080" y="2284560"/>
            <a:ext cx="7461360" cy="3006720"/>
          </a:xfrm>
          <a:custGeom>
            <a:avLst/>
            <a:gdLst/>
            <a:ahLst/>
            <a:rect l="l" t="t" r="r" b="b"/>
            <a:pathLst>
              <a:path w="4700" h="1894">
                <a:moveTo>
                  <a:pt x="0" y="1894"/>
                </a:moveTo>
                <a:cubicBezTo>
                  <a:pt x="144" y="1846"/>
                  <a:pt x="559" y="1754"/>
                  <a:pt x="864" y="1593"/>
                </a:cubicBezTo>
                <a:cubicBezTo>
                  <a:pt x="1169" y="1432"/>
                  <a:pt x="1593" y="1092"/>
                  <a:pt x="1833" y="926"/>
                </a:cubicBezTo>
                <a:cubicBezTo>
                  <a:pt x="2073" y="760"/>
                  <a:pt x="2112" y="711"/>
                  <a:pt x="2304" y="598"/>
                </a:cubicBezTo>
                <a:cubicBezTo>
                  <a:pt x="2496" y="485"/>
                  <a:pt x="2697" y="341"/>
                  <a:pt x="2985" y="245"/>
                </a:cubicBezTo>
                <a:cubicBezTo>
                  <a:pt x="3273" y="149"/>
                  <a:pt x="3746" y="44"/>
                  <a:pt x="4032" y="22"/>
                </a:cubicBezTo>
                <a:cubicBezTo>
                  <a:pt x="4318" y="0"/>
                  <a:pt x="4561" y="95"/>
                  <a:pt x="4700" y="114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rebuchet MS"/>
              </a:rPr>
              <a:t>Niveles de Madurez </a:t>
            </a:r>
            <a:br>
              <a:rPr sz="2600"/>
            </a:br>
            <a:r>
              <a:rPr b="1" lang="en-US" sz="2600" spc="-1" strike="noStrike">
                <a:solidFill>
                  <a:srgbClr val="003399"/>
                </a:solidFill>
                <a:latin typeface="Trebuchet MS"/>
              </a:rPr>
              <a:t>Colaboradores y Tareas / Metas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85440" y="259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Los cuatro niveles </a:t>
            </a:r>
            <a:br>
              <a:rPr sz="3400"/>
            </a:b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de desarrollo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8000" y="1557360"/>
            <a:ext cx="8856720" cy="475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ts val="4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1: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Baja competencia y alto compromiso                 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(aprendiz 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entusiasta)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2: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Baja a alguna competencia y bajo compromiso    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(aprendiz  desilusionado)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3: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Moderada a alta competencia y compromiso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variable 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(competente inseguro)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4: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Alta competencia y alto compromiso 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(competente 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autónomo)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1886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Las necesidades de un D1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80360" cy="51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conocimiento del entusiasmo y de las habilidades transferible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Metas clara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Normas que definan qué es un trabajo bien hech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nformación acerca de cómo se registrarán y comunicarán los datos relativos al desempeñ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Conocimiento de las reglas no escritas sobre “cómo funcionan las cosas por aquí”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nformación sobre la tarea y la organización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1886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Las necesidades de un D2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60240" y="137160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Metas clara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erspectiva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troalimentación frecuente sobre los resultado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logio ante el progreso manifiest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Sentir que los errores son comprendido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Las necesidades de un D3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Un consejero o asesor accesible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Oportunidades para expresar las preocupacione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Apoyo y estímulo para desarrollar habilidades para la solución de problema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Las necesidades de un D4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9440" y="1557000"/>
            <a:ext cx="8062920" cy="281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iversidad y desafío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Un líder que sea un consejero y colega más que un jefe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conocimiento de sus contribuciones. 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Autonomía y autoridad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Confianza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036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Flexibilidad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652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3399"/>
                </a:solidFill>
                <a:latin typeface="Trebuchet MS"/>
              </a:rPr>
              <a:t>La habilidad para utilizar con naturalidad una variedad de estilos de liderazgo.</a:t>
            </a: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ransition>
    <p:dissolv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01440" y="4852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3399"/>
                </a:solidFill>
                <a:latin typeface="Trebuchet MS"/>
              </a:rPr>
              <a:t>Liderazgo para el cambio</a:t>
            </a:r>
            <a:endParaRPr b="0" lang="en-US" sz="30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4920" y="152388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Trebuchet MS"/>
              </a:rPr>
              <a:t>Las organizaciones no pueden esperar ser diferentes mientras continúen haciendo lo mismo una y otra vez.</a:t>
            </a:r>
            <a:endParaRPr b="0" lang="en-US" sz="2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Trebuchet MS"/>
              </a:rPr>
              <a:t>El cambio es una oportunidad de crecimiento.</a:t>
            </a:r>
            <a:endParaRPr b="0" lang="en-US" sz="2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Trebuchet MS"/>
              </a:rPr>
              <a:t>Para iniciar el cambio los líderes deben definir la visión y los valores.</a:t>
            </a:r>
            <a:endParaRPr b="0" lang="en-US" sz="2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Trebuchet MS"/>
              </a:rPr>
              <a:t>El cambio crea la necesidad de desarrollar nuevas habilidades.</a:t>
            </a:r>
            <a:endParaRPr b="0" lang="en-US" sz="22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57440" y="1886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Comportamiento directivo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7880" y="1905120"/>
            <a:ext cx="7766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Es el grado en que un líder: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Le dice al colaborador qué hacer, cuándo y cómo hacerl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fine los papeles del líder y del colaborador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Supervisa de cerca el desempeñ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ransition>
    <p:dissolv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1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6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1080" y="33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Comportamiento de apoyo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28120" y="1700280"/>
            <a:ext cx="8075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Es el grado en que un líder: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Se compromete más en la comunicación bilateral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scucha y proporciona apoyo y estímul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nvolucra al colaborador en la toma de decisione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stimula y facilita la autonomía en la solución de problema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ransition>
    <p:dissolv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9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9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195640" y="3816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Comportamiento del líd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1557360"/>
            <a:ext cx="769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Los cuatro estilos difieren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l grado de dirección que proporciona el lí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l grado de apoyo que proporciona el lí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l grado de participación del colaborador en la toma de decis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600" spc="-1" strike="noStrike">
                <a:solidFill>
                  <a:srgbClr val="003399"/>
                </a:solidFill>
                <a:latin typeface="Trebuchet MS"/>
              </a:rPr>
              <a:t>Estilo de liderazgo</a:t>
            </a:r>
            <a:endParaRPr b="0" lang="en-US" sz="4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32880" y="1628640"/>
            <a:ext cx="7734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Patrón de comportamientos que usted utiliza con sus colaboradores tal como ellos lo perciben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432080" y="414360"/>
            <a:ext cx="7387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Los Cuatro Estil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Del Liderazg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098080" y="1219320"/>
            <a:ext cx="5542200" cy="5081040"/>
            <a:chOff x="2098080" y="1219320"/>
            <a:chExt cx="5542200" cy="5081040"/>
          </a:xfrm>
        </p:grpSpPr>
        <p:sp>
          <p:nvSpPr>
            <p:cNvPr id="140" name=""/>
            <p:cNvSpPr/>
            <p:nvPr/>
          </p:nvSpPr>
          <p:spPr>
            <a:xfrm flipV="1">
              <a:off x="2486160" y="1620720"/>
              <a:ext cx="0" cy="4292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46440" y="3720960"/>
              <a:ext cx="2179440" cy="217656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55800" y="1584360"/>
              <a:ext cx="2170080" cy="2122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41720" y="1584360"/>
              <a:ext cx="2222640" cy="21225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41720" y="3733920"/>
              <a:ext cx="2210040" cy="21762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60560" y="6165720"/>
              <a:ext cx="40258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55800" y="1590840"/>
              <a:ext cx="4397400" cy="43272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98080" y="5983200"/>
              <a:ext cx="72252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500" spc="-1" strike="noStrike">
                  <a:solidFill>
                    <a:srgbClr val="003399"/>
                  </a:solidFill>
                  <a:latin typeface="Arial"/>
                </a:rPr>
                <a:t>(Bajo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960600" y="5983200"/>
              <a:ext cx="67968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500" spc="-1" strike="noStrike">
                  <a:solidFill>
                    <a:srgbClr val="003399"/>
                  </a:solidFill>
                  <a:latin typeface="Arial"/>
                </a:rPr>
                <a:t>(Alto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33920" y="5943600"/>
              <a:ext cx="2536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99"/>
                  </a:solidFill>
                  <a:latin typeface="Arial"/>
                </a:rPr>
                <a:t>COMPORTAMIENTO DIRECTIV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20040" y="1219320"/>
              <a:ext cx="67968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500" spc="-1" strike="noStrike">
                  <a:solidFill>
                    <a:srgbClr val="003399"/>
                  </a:solidFill>
                  <a:latin typeface="Arial"/>
                </a:rPr>
                <a:t>(Alto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52880" y="1600200"/>
              <a:ext cx="0" cy="4343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86040" y="3708360"/>
              <a:ext cx="4376880" cy="25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88880" y="5038560"/>
              <a:ext cx="161568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Comport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bajo en apoyo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bajo en dire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60840" y="1609560"/>
              <a:ext cx="162360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Comportamient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alto en apoyo 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bajo en dire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97480" y="1619280"/>
              <a:ext cx="171648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Comport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alto en dirección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alto en apoy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72760" y="5038560"/>
              <a:ext cx="176688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Comportamient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alto en dirección 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bajo en apoy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96000" y="1916280"/>
              <a:ext cx="2190600" cy="3109680"/>
            </a:xfrm>
            <a:custGeom>
              <a:avLst/>
              <a:gdLst/>
              <a:ahLst/>
              <a:rect l="l" t="t" r="r" b="b"/>
              <a:pathLst>
                <a:path w="1348" h="1959">
                  <a:moveTo>
                    <a:pt x="0" y="120"/>
                  </a:moveTo>
                  <a:lnTo>
                    <a:pt x="25" y="121"/>
                  </a:lnTo>
                  <a:lnTo>
                    <a:pt x="41" y="124"/>
                  </a:lnTo>
                  <a:lnTo>
                    <a:pt x="52" y="125"/>
                  </a:lnTo>
                  <a:lnTo>
                    <a:pt x="63" y="128"/>
                  </a:lnTo>
                  <a:lnTo>
                    <a:pt x="71" y="131"/>
                  </a:lnTo>
                  <a:lnTo>
                    <a:pt x="82" y="135"/>
                  </a:lnTo>
                  <a:lnTo>
                    <a:pt x="92" y="140"/>
                  </a:lnTo>
                  <a:lnTo>
                    <a:pt x="103" y="146"/>
                  </a:lnTo>
                  <a:lnTo>
                    <a:pt x="122" y="154"/>
                  </a:lnTo>
                  <a:lnTo>
                    <a:pt x="141" y="166"/>
                  </a:lnTo>
                  <a:lnTo>
                    <a:pt x="159" y="177"/>
                  </a:lnTo>
                  <a:lnTo>
                    <a:pt x="180" y="191"/>
                  </a:lnTo>
                  <a:lnTo>
                    <a:pt x="197" y="202"/>
                  </a:lnTo>
                  <a:lnTo>
                    <a:pt x="231" y="230"/>
                  </a:lnTo>
                  <a:lnTo>
                    <a:pt x="265" y="264"/>
                  </a:lnTo>
                  <a:lnTo>
                    <a:pt x="295" y="298"/>
                  </a:lnTo>
                  <a:lnTo>
                    <a:pt x="333" y="350"/>
                  </a:lnTo>
                  <a:lnTo>
                    <a:pt x="361" y="397"/>
                  </a:lnTo>
                  <a:lnTo>
                    <a:pt x="391" y="446"/>
                  </a:lnTo>
                  <a:lnTo>
                    <a:pt x="409" y="493"/>
                  </a:lnTo>
                  <a:lnTo>
                    <a:pt x="425" y="538"/>
                  </a:lnTo>
                  <a:lnTo>
                    <a:pt x="447" y="590"/>
                  </a:lnTo>
                  <a:lnTo>
                    <a:pt x="463" y="640"/>
                  </a:lnTo>
                  <a:lnTo>
                    <a:pt x="483" y="718"/>
                  </a:lnTo>
                  <a:lnTo>
                    <a:pt x="500" y="790"/>
                  </a:lnTo>
                  <a:lnTo>
                    <a:pt x="511" y="860"/>
                  </a:lnTo>
                  <a:lnTo>
                    <a:pt x="524" y="946"/>
                  </a:lnTo>
                  <a:lnTo>
                    <a:pt x="532" y="1004"/>
                  </a:lnTo>
                  <a:lnTo>
                    <a:pt x="542" y="1072"/>
                  </a:lnTo>
                  <a:lnTo>
                    <a:pt x="551" y="1117"/>
                  </a:lnTo>
                  <a:lnTo>
                    <a:pt x="556" y="1158"/>
                  </a:lnTo>
                  <a:lnTo>
                    <a:pt x="567" y="1210"/>
                  </a:lnTo>
                  <a:lnTo>
                    <a:pt x="581" y="1262"/>
                  </a:lnTo>
                  <a:lnTo>
                    <a:pt x="591" y="1304"/>
                  </a:lnTo>
                  <a:lnTo>
                    <a:pt x="604" y="1354"/>
                  </a:lnTo>
                  <a:lnTo>
                    <a:pt x="618" y="1402"/>
                  </a:lnTo>
                  <a:lnTo>
                    <a:pt x="630" y="1443"/>
                  </a:lnTo>
                  <a:lnTo>
                    <a:pt x="648" y="1480"/>
                  </a:lnTo>
                  <a:lnTo>
                    <a:pt x="661" y="1510"/>
                  </a:lnTo>
                  <a:lnTo>
                    <a:pt x="675" y="1541"/>
                  </a:lnTo>
                  <a:lnTo>
                    <a:pt x="696" y="1574"/>
                  </a:lnTo>
                  <a:lnTo>
                    <a:pt x="718" y="1612"/>
                  </a:lnTo>
                  <a:lnTo>
                    <a:pt x="743" y="1647"/>
                  </a:lnTo>
                  <a:lnTo>
                    <a:pt x="776" y="1691"/>
                  </a:lnTo>
                  <a:lnTo>
                    <a:pt x="809" y="1728"/>
                  </a:lnTo>
                  <a:lnTo>
                    <a:pt x="844" y="1763"/>
                  </a:lnTo>
                  <a:lnTo>
                    <a:pt x="883" y="1793"/>
                  </a:lnTo>
                  <a:lnTo>
                    <a:pt x="912" y="1812"/>
                  </a:lnTo>
                  <a:lnTo>
                    <a:pt x="935" y="1826"/>
                  </a:lnTo>
                  <a:lnTo>
                    <a:pt x="959" y="1838"/>
                  </a:lnTo>
                  <a:lnTo>
                    <a:pt x="988" y="1853"/>
                  </a:lnTo>
                  <a:lnTo>
                    <a:pt x="1021" y="1868"/>
                  </a:lnTo>
                  <a:lnTo>
                    <a:pt x="1056" y="1882"/>
                  </a:lnTo>
                  <a:lnTo>
                    <a:pt x="1094" y="1898"/>
                  </a:lnTo>
                  <a:lnTo>
                    <a:pt x="1129" y="1908"/>
                  </a:lnTo>
                  <a:lnTo>
                    <a:pt x="1161" y="1918"/>
                  </a:lnTo>
                  <a:lnTo>
                    <a:pt x="1193" y="1927"/>
                  </a:lnTo>
                  <a:lnTo>
                    <a:pt x="1228" y="1936"/>
                  </a:lnTo>
                  <a:lnTo>
                    <a:pt x="1260" y="1944"/>
                  </a:lnTo>
                  <a:lnTo>
                    <a:pt x="1304" y="1951"/>
                  </a:lnTo>
                  <a:lnTo>
                    <a:pt x="1347" y="1958"/>
                  </a:lnTo>
                  <a:lnTo>
                    <a:pt x="1347" y="1829"/>
                  </a:lnTo>
                  <a:lnTo>
                    <a:pt x="1315" y="1819"/>
                  </a:lnTo>
                  <a:lnTo>
                    <a:pt x="1270" y="1811"/>
                  </a:lnTo>
                  <a:lnTo>
                    <a:pt x="1237" y="1804"/>
                  </a:lnTo>
                  <a:lnTo>
                    <a:pt x="1199" y="1793"/>
                  </a:lnTo>
                  <a:lnTo>
                    <a:pt x="1171" y="1785"/>
                  </a:lnTo>
                  <a:lnTo>
                    <a:pt x="1149" y="1775"/>
                  </a:lnTo>
                  <a:lnTo>
                    <a:pt x="1122" y="1767"/>
                  </a:lnTo>
                  <a:lnTo>
                    <a:pt x="1090" y="1758"/>
                  </a:lnTo>
                  <a:lnTo>
                    <a:pt x="1063" y="1747"/>
                  </a:lnTo>
                  <a:lnTo>
                    <a:pt x="1038" y="1736"/>
                  </a:lnTo>
                  <a:lnTo>
                    <a:pt x="1019" y="1724"/>
                  </a:lnTo>
                  <a:lnTo>
                    <a:pt x="992" y="1709"/>
                  </a:lnTo>
                  <a:lnTo>
                    <a:pt x="957" y="1685"/>
                  </a:lnTo>
                  <a:lnTo>
                    <a:pt x="931" y="1669"/>
                  </a:lnTo>
                  <a:lnTo>
                    <a:pt x="907" y="1649"/>
                  </a:lnTo>
                  <a:lnTo>
                    <a:pt x="880" y="1623"/>
                  </a:lnTo>
                  <a:lnTo>
                    <a:pt x="851" y="1587"/>
                  </a:lnTo>
                  <a:lnTo>
                    <a:pt x="826" y="1551"/>
                  </a:lnTo>
                  <a:lnTo>
                    <a:pt x="795" y="1500"/>
                  </a:lnTo>
                  <a:lnTo>
                    <a:pt x="767" y="1450"/>
                  </a:lnTo>
                  <a:lnTo>
                    <a:pt x="745" y="1401"/>
                  </a:lnTo>
                  <a:lnTo>
                    <a:pt x="732" y="1365"/>
                  </a:lnTo>
                  <a:lnTo>
                    <a:pt x="720" y="1322"/>
                  </a:lnTo>
                  <a:lnTo>
                    <a:pt x="710" y="1290"/>
                  </a:lnTo>
                  <a:lnTo>
                    <a:pt x="699" y="1233"/>
                  </a:lnTo>
                  <a:lnTo>
                    <a:pt x="687" y="1176"/>
                  </a:lnTo>
                  <a:lnTo>
                    <a:pt x="678" y="1134"/>
                  </a:lnTo>
                  <a:lnTo>
                    <a:pt x="668" y="1075"/>
                  </a:lnTo>
                  <a:lnTo>
                    <a:pt x="660" y="1016"/>
                  </a:lnTo>
                  <a:lnTo>
                    <a:pt x="650" y="951"/>
                  </a:lnTo>
                  <a:lnTo>
                    <a:pt x="641" y="890"/>
                  </a:lnTo>
                  <a:lnTo>
                    <a:pt x="627" y="809"/>
                  </a:lnTo>
                  <a:lnTo>
                    <a:pt x="619" y="758"/>
                  </a:lnTo>
                  <a:lnTo>
                    <a:pt x="609" y="704"/>
                  </a:lnTo>
                  <a:lnTo>
                    <a:pt x="598" y="657"/>
                  </a:lnTo>
                  <a:lnTo>
                    <a:pt x="584" y="601"/>
                  </a:lnTo>
                  <a:lnTo>
                    <a:pt x="570" y="565"/>
                  </a:lnTo>
                  <a:lnTo>
                    <a:pt x="556" y="525"/>
                  </a:lnTo>
                  <a:lnTo>
                    <a:pt x="532" y="471"/>
                  </a:lnTo>
                  <a:lnTo>
                    <a:pt x="518" y="440"/>
                  </a:lnTo>
                  <a:lnTo>
                    <a:pt x="502" y="397"/>
                  </a:lnTo>
                  <a:lnTo>
                    <a:pt x="468" y="339"/>
                  </a:lnTo>
                  <a:lnTo>
                    <a:pt x="443" y="294"/>
                  </a:lnTo>
                  <a:lnTo>
                    <a:pt x="423" y="266"/>
                  </a:lnTo>
                  <a:lnTo>
                    <a:pt x="397" y="236"/>
                  </a:lnTo>
                  <a:lnTo>
                    <a:pt x="352" y="184"/>
                  </a:lnTo>
                  <a:lnTo>
                    <a:pt x="323" y="151"/>
                  </a:lnTo>
                  <a:lnTo>
                    <a:pt x="295" y="127"/>
                  </a:lnTo>
                  <a:lnTo>
                    <a:pt x="257" y="97"/>
                  </a:lnTo>
                  <a:lnTo>
                    <a:pt x="219" y="74"/>
                  </a:lnTo>
                  <a:lnTo>
                    <a:pt x="169" y="49"/>
                  </a:lnTo>
                  <a:lnTo>
                    <a:pt x="154" y="41"/>
                  </a:lnTo>
                  <a:lnTo>
                    <a:pt x="136" y="33"/>
                  </a:lnTo>
                  <a:lnTo>
                    <a:pt x="124" y="29"/>
                  </a:lnTo>
                  <a:lnTo>
                    <a:pt x="110" y="25"/>
                  </a:lnTo>
                  <a:lnTo>
                    <a:pt x="98" y="19"/>
                  </a:lnTo>
                  <a:lnTo>
                    <a:pt x="87" y="15"/>
                  </a:lnTo>
                  <a:lnTo>
                    <a:pt x="74" y="14"/>
                  </a:lnTo>
                  <a:lnTo>
                    <a:pt x="53" y="8"/>
                  </a:lnTo>
                  <a:lnTo>
                    <a:pt x="36" y="5"/>
                  </a:lnTo>
                  <a:lnTo>
                    <a:pt x="22" y="3"/>
                  </a:lnTo>
                  <a:lnTo>
                    <a:pt x="0" y="0"/>
                  </a:lnTo>
                  <a:lnTo>
                    <a:pt x="0" y="120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19520" y="1916280"/>
              <a:ext cx="2133360" cy="3109680"/>
            </a:xfrm>
            <a:custGeom>
              <a:avLst/>
              <a:gdLst/>
              <a:ahLst/>
              <a:rect l="l" t="t" r="r" b="b"/>
              <a:pathLst>
                <a:path w="1348" h="1959">
                  <a:moveTo>
                    <a:pt x="1347" y="120"/>
                  </a:moveTo>
                  <a:lnTo>
                    <a:pt x="1320" y="121"/>
                  </a:lnTo>
                  <a:lnTo>
                    <a:pt x="1306" y="124"/>
                  </a:lnTo>
                  <a:lnTo>
                    <a:pt x="1295" y="125"/>
                  </a:lnTo>
                  <a:lnTo>
                    <a:pt x="1284" y="128"/>
                  </a:lnTo>
                  <a:lnTo>
                    <a:pt x="1276" y="131"/>
                  </a:lnTo>
                  <a:lnTo>
                    <a:pt x="1264" y="135"/>
                  </a:lnTo>
                  <a:lnTo>
                    <a:pt x="1255" y="140"/>
                  </a:lnTo>
                  <a:lnTo>
                    <a:pt x="1243" y="146"/>
                  </a:lnTo>
                  <a:lnTo>
                    <a:pt x="1225" y="154"/>
                  </a:lnTo>
                  <a:lnTo>
                    <a:pt x="1206" y="166"/>
                  </a:lnTo>
                  <a:lnTo>
                    <a:pt x="1188" y="177"/>
                  </a:lnTo>
                  <a:lnTo>
                    <a:pt x="1167" y="191"/>
                  </a:lnTo>
                  <a:lnTo>
                    <a:pt x="1150" y="202"/>
                  </a:lnTo>
                  <a:lnTo>
                    <a:pt x="1115" y="230"/>
                  </a:lnTo>
                  <a:lnTo>
                    <a:pt x="1081" y="264"/>
                  </a:lnTo>
                  <a:lnTo>
                    <a:pt x="1052" y="298"/>
                  </a:lnTo>
                  <a:lnTo>
                    <a:pt x="1013" y="350"/>
                  </a:lnTo>
                  <a:lnTo>
                    <a:pt x="988" y="397"/>
                  </a:lnTo>
                  <a:lnTo>
                    <a:pt x="955" y="446"/>
                  </a:lnTo>
                  <a:lnTo>
                    <a:pt x="937" y="493"/>
                  </a:lnTo>
                  <a:lnTo>
                    <a:pt x="922" y="538"/>
                  </a:lnTo>
                  <a:lnTo>
                    <a:pt x="899" y="590"/>
                  </a:lnTo>
                  <a:lnTo>
                    <a:pt x="885" y="640"/>
                  </a:lnTo>
                  <a:lnTo>
                    <a:pt x="863" y="718"/>
                  </a:lnTo>
                  <a:lnTo>
                    <a:pt x="848" y="790"/>
                  </a:lnTo>
                  <a:lnTo>
                    <a:pt x="834" y="860"/>
                  </a:lnTo>
                  <a:lnTo>
                    <a:pt x="822" y="946"/>
                  </a:lnTo>
                  <a:lnTo>
                    <a:pt x="814" y="1004"/>
                  </a:lnTo>
                  <a:lnTo>
                    <a:pt x="804" y="1072"/>
                  </a:lnTo>
                  <a:lnTo>
                    <a:pt x="796" y="1117"/>
                  </a:lnTo>
                  <a:lnTo>
                    <a:pt x="790" y="1158"/>
                  </a:lnTo>
                  <a:lnTo>
                    <a:pt x="781" y="1210"/>
                  </a:lnTo>
                  <a:lnTo>
                    <a:pt x="767" y="1262"/>
                  </a:lnTo>
                  <a:lnTo>
                    <a:pt x="755" y="1304"/>
                  </a:lnTo>
                  <a:lnTo>
                    <a:pt x="743" y="1354"/>
                  </a:lnTo>
                  <a:lnTo>
                    <a:pt x="729" y="1402"/>
                  </a:lnTo>
                  <a:lnTo>
                    <a:pt x="716" y="1443"/>
                  </a:lnTo>
                  <a:lnTo>
                    <a:pt x="699" y="1480"/>
                  </a:lnTo>
                  <a:lnTo>
                    <a:pt x="685" y="1510"/>
                  </a:lnTo>
                  <a:lnTo>
                    <a:pt x="671" y="1541"/>
                  </a:lnTo>
                  <a:lnTo>
                    <a:pt x="650" y="1574"/>
                  </a:lnTo>
                  <a:lnTo>
                    <a:pt x="629" y="1612"/>
                  </a:lnTo>
                  <a:lnTo>
                    <a:pt x="603" y="1647"/>
                  </a:lnTo>
                  <a:lnTo>
                    <a:pt x="572" y="1691"/>
                  </a:lnTo>
                  <a:lnTo>
                    <a:pt x="539" y="1728"/>
                  </a:lnTo>
                  <a:lnTo>
                    <a:pt x="502" y="1763"/>
                  </a:lnTo>
                  <a:lnTo>
                    <a:pt x="463" y="1793"/>
                  </a:lnTo>
                  <a:lnTo>
                    <a:pt x="434" y="1812"/>
                  </a:lnTo>
                  <a:lnTo>
                    <a:pt x="413" y="1826"/>
                  </a:lnTo>
                  <a:lnTo>
                    <a:pt x="387" y="1838"/>
                  </a:lnTo>
                  <a:lnTo>
                    <a:pt x="359" y="1853"/>
                  </a:lnTo>
                  <a:lnTo>
                    <a:pt x="326" y="1868"/>
                  </a:lnTo>
                  <a:lnTo>
                    <a:pt x="291" y="1882"/>
                  </a:lnTo>
                  <a:lnTo>
                    <a:pt x="252" y="1898"/>
                  </a:lnTo>
                  <a:lnTo>
                    <a:pt x="218" y="1908"/>
                  </a:lnTo>
                  <a:lnTo>
                    <a:pt x="186" y="1918"/>
                  </a:lnTo>
                  <a:lnTo>
                    <a:pt x="154" y="1927"/>
                  </a:lnTo>
                  <a:lnTo>
                    <a:pt x="119" y="1936"/>
                  </a:lnTo>
                  <a:lnTo>
                    <a:pt x="87" y="1944"/>
                  </a:lnTo>
                  <a:lnTo>
                    <a:pt x="43" y="1951"/>
                  </a:lnTo>
                  <a:lnTo>
                    <a:pt x="0" y="1958"/>
                  </a:lnTo>
                  <a:lnTo>
                    <a:pt x="0" y="1829"/>
                  </a:lnTo>
                  <a:lnTo>
                    <a:pt x="34" y="1819"/>
                  </a:lnTo>
                  <a:lnTo>
                    <a:pt x="77" y="1811"/>
                  </a:lnTo>
                  <a:lnTo>
                    <a:pt x="109" y="1804"/>
                  </a:lnTo>
                  <a:lnTo>
                    <a:pt x="148" y="1793"/>
                  </a:lnTo>
                  <a:lnTo>
                    <a:pt x="176" y="1785"/>
                  </a:lnTo>
                  <a:lnTo>
                    <a:pt x="200" y="1775"/>
                  </a:lnTo>
                  <a:lnTo>
                    <a:pt x="227" y="1767"/>
                  </a:lnTo>
                  <a:lnTo>
                    <a:pt x="256" y="1758"/>
                  </a:lnTo>
                  <a:lnTo>
                    <a:pt x="283" y="1747"/>
                  </a:lnTo>
                  <a:lnTo>
                    <a:pt x="309" y="1736"/>
                  </a:lnTo>
                  <a:lnTo>
                    <a:pt x="329" y="1724"/>
                  </a:lnTo>
                  <a:lnTo>
                    <a:pt x="355" y="1709"/>
                  </a:lnTo>
                  <a:lnTo>
                    <a:pt x="390" y="1685"/>
                  </a:lnTo>
                  <a:lnTo>
                    <a:pt x="417" y="1669"/>
                  </a:lnTo>
                  <a:lnTo>
                    <a:pt x="441" y="1649"/>
                  </a:lnTo>
                  <a:lnTo>
                    <a:pt x="467" y="1623"/>
                  </a:lnTo>
                  <a:lnTo>
                    <a:pt x="497" y="1587"/>
                  </a:lnTo>
                  <a:lnTo>
                    <a:pt x="522" y="1551"/>
                  </a:lnTo>
                  <a:lnTo>
                    <a:pt x="553" y="1500"/>
                  </a:lnTo>
                  <a:lnTo>
                    <a:pt x="579" y="1450"/>
                  </a:lnTo>
                  <a:lnTo>
                    <a:pt x="601" y="1401"/>
                  </a:lnTo>
                  <a:lnTo>
                    <a:pt x="615" y="1365"/>
                  </a:lnTo>
                  <a:lnTo>
                    <a:pt x="627" y="1322"/>
                  </a:lnTo>
                  <a:lnTo>
                    <a:pt x="635" y="1290"/>
                  </a:lnTo>
                  <a:lnTo>
                    <a:pt x="648" y="1233"/>
                  </a:lnTo>
                  <a:lnTo>
                    <a:pt x="660" y="1176"/>
                  </a:lnTo>
                  <a:lnTo>
                    <a:pt x="669" y="1134"/>
                  </a:lnTo>
                  <a:lnTo>
                    <a:pt x="680" y="1075"/>
                  </a:lnTo>
                  <a:lnTo>
                    <a:pt x="688" y="1016"/>
                  </a:lnTo>
                  <a:lnTo>
                    <a:pt x="697" y="951"/>
                  </a:lnTo>
                  <a:lnTo>
                    <a:pt x="706" y="890"/>
                  </a:lnTo>
                  <a:lnTo>
                    <a:pt x="719" y="809"/>
                  </a:lnTo>
                  <a:lnTo>
                    <a:pt x="727" y="758"/>
                  </a:lnTo>
                  <a:lnTo>
                    <a:pt x="739" y="704"/>
                  </a:lnTo>
                  <a:lnTo>
                    <a:pt x="750" y="657"/>
                  </a:lnTo>
                  <a:lnTo>
                    <a:pt x="762" y="601"/>
                  </a:lnTo>
                  <a:lnTo>
                    <a:pt x="776" y="565"/>
                  </a:lnTo>
                  <a:lnTo>
                    <a:pt x="790" y="525"/>
                  </a:lnTo>
                  <a:lnTo>
                    <a:pt x="814" y="471"/>
                  </a:lnTo>
                  <a:lnTo>
                    <a:pt x="828" y="440"/>
                  </a:lnTo>
                  <a:lnTo>
                    <a:pt x="846" y="397"/>
                  </a:lnTo>
                  <a:lnTo>
                    <a:pt x="878" y="339"/>
                  </a:lnTo>
                  <a:lnTo>
                    <a:pt x="904" y="294"/>
                  </a:lnTo>
                  <a:lnTo>
                    <a:pt x="923" y="266"/>
                  </a:lnTo>
                  <a:lnTo>
                    <a:pt x="950" y="236"/>
                  </a:lnTo>
                  <a:lnTo>
                    <a:pt x="995" y="184"/>
                  </a:lnTo>
                  <a:lnTo>
                    <a:pt x="1024" y="151"/>
                  </a:lnTo>
                  <a:lnTo>
                    <a:pt x="1052" y="127"/>
                  </a:lnTo>
                  <a:lnTo>
                    <a:pt x="1091" y="97"/>
                  </a:lnTo>
                  <a:lnTo>
                    <a:pt x="1127" y="74"/>
                  </a:lnTo>
                  <a:lnTo>
                    <a:pt x="1178" y="49"/>
                  </a:lnTo>
                  <a:lnTo>
                    <a:pt x="1193" y="41"/>
                  </a:lnTo>
                  <a:lnTo>
                    <a:pt x="1211" y="33"/>
                  </a:lnTo>
                  <a:lnTo>
                    <a:pt x="1224" y="29"/>
                  </a:lnTo>
                  <a:lnTo>
                    <a:pt x="1236" y="25"/>
                  </a:lnTo>
                  <a:lnTo>
                    <a:pt x="1250" y="19"/>
                  </a:lnTo>
                  <a:lnTo>
                    <a:pt x="1260" y="15"/>
                  </a:lnTo>
                  <a:lnTo>
                    <a:pt x="1273" y="14"/>
                  </a:lnTo>
                  <a:lnTo>
                    <a:pt x="1294" y="8"/>
                  </a:lnTo>
                  <a:lnTo>
                    <a:pt x="1309" y="5"/>
                  </a:lnTo>
                  <a:lnTo>
                    <a:pt x="1323" y="3"/>
                  </a:lnTo>
                  <a:lnTo>
                    <a:pt x="1347" y="0"/>
                  </a:lnTo>
                  <a:lnTo>
                    <a:pt x="1347" y="120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60800" y="2782800"/>
              <a:ext cx="1461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99"/>
                  </a:solidFill>
                  <a:latin typeface="Arial Black"/>
                </a:rPr>
                <a:t>Apoy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88120" y="4195800"/>
              <a:ext cx="1463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99"/>
                  </a:solidFill>
                  <a:latin typeface="Arial Black"/>
                </a:rPr>
                <a:t>Dirig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00640" y="2782800"/>
              <a:ext cx="1461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99"/>
                  </a:solidFill>
                  <a:latin typeface="Arial Black"/>
                </a:rPr>
                <a:t>Orient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73320" y="4195800"/>
              <a:ext cx="1462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99"/>
                  </a:solidFill>
                  <a:latin typeface="Arial Black"/>
                </a:rPr>
                <a:t>Deleg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6200000">
              <a:off x="1420560" y="3474720"/>
              <a:ext cx="25038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99"/>
                  </a:solidFill>
                  <a:latin typeface="Arial"/>
                </a:rPr>
                <a:t>COMPORTAMIENTO</a:t>
              </a:r>
              <a:r>
                <a:rPr b="1" lang="es-ES_tradnl" sz="10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lang="es-ES_tradnl" sz="1200" spc="-1" strike="noStrike">
                  <a:solidFill>
                    <a:srgbClr val="003399"/>
                  </a:solidFill>
                  <a:latin typeface="Arial"/>
                </a:rPr>
                <a:t>DE APOY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3560" y="260280"/>
            <a:ext cx="91188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uando un líder utiliza el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 estilo de liderazgo </a:t>
            </a:r>
            <a:r>
              <a:rPr b="1" lang="es-CL" sz="2200" spc="-1" strike="noStrike" u="sng">
                <a:solidFill>
                  <a:srgbClr val="003399"/>
                </a:solidFill>
                <a:uFillTx/>
                <a:latin typeface="Trebuchet MS"/>
              </a:rPr>
              <a:t>DIRIGIR</a:t>
            </a:r>
            <a:r>
              <a:rPr b="1" lang="es-CL" sz="1600" spc="-1" strike="noStrike">
                <a:solidFill>
                  <a:srgbClr val="808080"/>
                </a:solidFill>
                <a:latin typeface="Trebuchet MS"/>
              </a:rPr>
              <a:t>:</a:t>
            </a:r>
            <a:br>
              <a:rPr sz="1600"/>
            </a:br>
            <a:endParaRPr b="0" lang="en-US" sz="1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63008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conoce el entusiasmo del colabor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conoce las habilidades transferibles del colaborador y su progreso hasta la fech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dentifica los resultados, objetivos y plazos dese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fine que es un buen trabajo y como se registrara y controlara el desempe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sarrolla un plan para que el colaborador aprenda nuevas habil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irige la planificación de ac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Toma la mayoría de las decisiones relacionadas con que hacer , cuando y con qui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directrices e instrucciones especif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irige la solución de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6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9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2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5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8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1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4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7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40000" y="189000"/>
            <a:ext cx="680400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uando un líder utiliza el 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estilo de liderazgo </a:t>
            </a:r>
            <a:r>
              <a:rPr b="1" lang="es-CL" sz="2600" spc="-1" strike="noStrike" u="sng">
                <a:solidFill>
                  <a:srgbClr val="003399"/>
                </a:solidFill>
                <a:uFillTx/>
                <a:latin typeface="Trebuchet MS"/>
              </a:rPr>
              <a:t>Entrenar</a:t>
            </a: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:</a:t>
            </a:r>
            <a:br>
              <a:rPr sz="2600"/>
            </a:b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295280"/>
            <a:ext cx="8640720" cy="52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nvolucra al  colaborador en la identificación de problemas y en fijar me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apoyo, seguridad y elog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scucha : brinda al colaborador una oportunidad para discutir preocupaciones  y compartir id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nvolucra al colaborador en la solución de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Toma de decisiones finales relativas a los planes de acción luego de escuchar las ideas y los sentimientos del colabor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dirección y adiestramiento  para continuar  desarrollando y perfeccionando las habil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xplica la razón para tomar un enfoque partic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fine que es un trajo bien hecho y como el desempeño será control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Continua haciendo seguimiento y proporcionando retroalimentación frecuente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9118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uando un líder utiliza el 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estilo de liderazgo  </a:t>
            </a:r>
            <a:r>
              <a:rPr b="1" lang="es-CL" sz="2600" spc="-1" strike="noStrike" u="sng">
                <a:solidFill>
                  <a:srgbClr val="003399"/>
                </a:solidFill>
                <a:uFillTx/>
                <a:latin typeface="Trebuchet MS"/>
              </a:rPr>
              <a:t>Apoyar</a:t>
            </a: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: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280" y="1614240"/>
            <a:ext cx="7620120" cy="483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Comparte con  el colaborador tomar la iniciativa en la planificación de acciones y solución de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Sirve como elemento de reflexión, estimulando al colaborador a discutir sus preocupaciones e id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scucha y estimula al colaborador a resolver problemas y tomar decisiones autónom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seguridad, apoyo, estímulo y elogio al colabor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xplica maneras para hacer la meta o tarea mas interesante y desafiante, cuando la motivación es ba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ayuda en la solución de problemas compartiendo ideas, cuando se la solicit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Trabaja con el colaborador en la evaluación de su probl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37920" y="228240"/>
            <a:ext cx="9118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uando un líder utiliza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 el estilo de liderazgo </a:t>
            </a:r>
            <a:r>
              <a:rPr b="1" lang="es-CL" sz="2600" spc="-1" strike="noStrike" u="sng">
                <a:solidFill>
                  <a:srgbClr val="003399"/>
                </a:solidFill>
                <a:uFillTx/>
                <a:latin typeface="Trebuchet MS"/>
              </a:rPr>
              <a:t>Delegar</a:t>
            </a: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: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96600" y="1542600"/>
            <a:ext cx="7620120" cy="483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ermite al colaborador hacerse car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fine con el colaborador los problemas y los resultados dese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stimula al colaborador a evaluar su propio  tra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oportunidades para que el colaborador comparta y celebre éxitos y prepare a o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conoce, valora y premia las contribuciones del colaborador a la organ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safía al colaborador a alcanzar niveles de desempeño aun mas al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4120" y="71100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Estilos de toma de decisiones</a:t>
            </a: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73" name=""/>
          <p:cNvSpPr/>
          <p:nvPr/>
        </p:nvSpPr>
        <p:spPr>
          <a:xfrm>
            <a:off x="2424240" y="2384280"/>
            <a:ext cx="2070000" cy="12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El líder en el estilo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Trebuchet MS"/>
              </a:rPr>
              <a:t>Apo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3399"/>
                </a:solidFill>
                <a:latin typeface="Trebuchet MS"/>
              </a:rPr>
              <a:t>Hablemos, ambos decidim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57600" y="2384280"/>
            <a:ext cx="207036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El líder en el estilo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Trebuchet MS"/>
              </a:rPr>
              <a:t>Entr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3399"/>
                </a:solidFill>
                <a:latin typeface="Trebuchet MS"/>
              </a:rPr>
              <a:t>Hablemos, yo dec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24240" y="4365720"/>
            <a:ext cx="207000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El líder en el estilo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Trebuchet MS"/>
              </a:rPr>
              <a:t>Del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3399"/>
                </a:solidFill>
                <a:latin typeface="Trebuchet MS"/>
              </a:rPr>
              <a:t>Tú dec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57600" y="4365720"/>
            <a:ext cx="207036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El líder en el estilo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Trebuchet MS"/>
              </a:rPr>
              <a:t>Diri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i="1" lang="es-CL" sz="1400" spc="-1" strike="noStrike">
                <a:solidFill>
                  <a:srgbClr val="003399"/>
                </a:solidFill>
                <a:latin typeface="Trebuchet MS"/>
              </a:rPr>
              <a:t>Yo dec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87520" y="1854360"/>
            <a:ext cx="4292640" cy="42922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854360"/>
            <a:ext cx="0" cy="4292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87520" y="3962520"/>
            <a:ext cx="4292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72720" y="304560"/>
            <a:ext cx="7162920" cy="74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Liderazgo eficaz</a:t>
            </a:r>
            <a:endParaRPr b="0" lang="en-US" sz="30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47" name=""/>
          <p:cNvSpPr/>
          <p:nvPr/>
        </p:nvSpPr>
        <p:spPr>
          <a:xfrm>
            <a:off x="618480" y="3705120"/>
            <a:ext cx="1527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Trebuchet MS"/>
              </a:rPr>
              <a:t>INFLUYE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41360" y="4205160"/>
            <a:ext cx="2011320" cy="427320"/>
            <a:chOff x="441360" y="4205160"/>
            <a:chExt cx="2011320" cy="427320"/>
          </a:xfrm>
        </p:grpSpPr>
        <p:grpSp>
          <p:nvGrpSpPr>
            <p:cNvPr id="49" name=""/>
            <p:cNvGrpSpPr/>
            <p:nvPr/>
          </p:nvGrpSpPr>
          <p:grpSpPr>
            <a:xfrm>
              <a:off x="441360" y="4205160"/>
              <a:ext cx="426960" cy="427320"/>
              <a:chOff x="441360" y="4205160"/>
              <a:chExt cx="426960" cy="427320"/>
            </a:xfrm>
          </p:grpSpPr>
          <p:sp>
            <p:nvSpPr>
              <p:cNvPr id="50" name=""/>
              <p:cNvSpPr/>
              <p:nvPr/>
            </p:nvSpPr>
            <p:spPr>
              <a:xfrm>
                <a:off x="441360" y="4205160"/>
                <a:ext cx="426960" cy="427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94280" y="4268880"/>
                <a:ext cx="2923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6600" rIns="66600" tIns="33480" bIns="334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73040"/>
                    <a:tab algn="l" pos="946080"/>
                    <a:tab algn="l" pos="1419120"/>
                    <a:tab algn="l" pos="1892160"/>
                    <a:tab algn="l" pos="2365200"/>
                    <a:tab algn="l" pos="2838600"/>
                    <a:tab algn="l" pos="3311640"/>
                    <a:tab algn="l" pos="3784680"/>
                    <a:tab algn="l" pos="4257720"/>
                    <a:tab algn="l" pos="4730760"/>
                    <a:tab algn="l" pos="5203800"/>
                    <a:tab algn="l" pos="5676840"/>
                    <a:tab algn="l" pos="6149880"/>
                    <a:tab algn="l" pos="6622920"/>
                    <a:tab algn="l" pos="7095960"/>
                    <a:tab algn="l" pos="7569360"/>
                    <a:tab algn="l" pos="8042400"/>
                    <a:tab algn="l" pos="8515440"/>
                    <a:tab algn="l" pos="8988480"/>
                    <a:tab algn="l" pos="9461520"/>
                  </a:tabLst>
                </a:pPr>
                <a:r>
                  <a:rPr b="1" lang="es-CL" sz="1800" spc="-1" strike="noStrike">
                    <a:solidFill>
                      <a:srgbClr val="003399"/>
                    </a:solidFill>
                    <a:latin typeface="Trebuchet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2025720" y="4205160"/>
              <a:ext cx="426960" cy="427320"/>
              <a:chOff x="2025720" y="4205160"/>
              <a:chExt cx="426960" cy="427320"/>
            </a:xfrm>
          </p:grpSpPr>
          <p:sp>
            <p:nvSpPr>
              <p:cNvPr id="53" name=""/>
              <p:cNvSpPr/>
              <p:nvPr/>
            </p:nvSpPr>
            <p:spPr>
              <a:xfrm>
                <a:off x="2025720" y="4205160"/>
                <a:ext cx="426960" cy="427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081880" y="4268880"/>
                <a:ext cx="2880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6600" rIns="66600" tIns="33480" bIns="334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73040"/>
                    <a:tab algn="l" pos="946080"/>
                    <a:tab algn="l" pos="1419120"/>
                    <a:tab algn="l" pos="1892160"/>
                    <a:tab algn="l" pos="2365200"/>
                    <a:tab algn="l" pos="2838600"/>
                    <a:tab algn="l" pos="3311640"/>
                    <a:tab algn="l" pos="3784680"/>
                    <a:tab algn="l" pos="4257720"/>
                    <a:tab algn="l" pos="4730760"/>
                    <a:tab algn="l" pos="5203800"/>
                    <a:tab algn="l" pos="5676840"/>
                    <a:tab algn="l" pos="6149880"/>
                    <a:tab algn="l" pos="6622920"/>
                    <a:tab algn="l" pos="7095960"/>
                    <a:tab algn="l" pos="7569360"/>
                    <a:tab algn="l" pos="8042400"/>
                    <a:tab algn="l" pos="8515440"/>
                    <a:tab algn="l" pos="8988480"/>
                    <a:tab algn="l" pos="9461520"/>
                  </a:tabLst>
                </a:pPr>
                <a:r>
                  <a:rPr b="1" lang="es-CL" sz="1800" spc="-1" strike="noStrike">
                    <a:solidFill>
                      <a:srgbClr val="003399"/>
                    </a:solidFill>
                    <a:latin typeface="Trebuchet MS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971640" y="4419720"/>
              <a:ext cx="95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5967360" y="1382760"/>
            <a:ext cx="2549520" cy="3943800"/>
            <a:chOff x="5967360" y="1382760"/>
            <a:chExt cx="2549520" cy="3943800"/>
          </a:xfrm>
        </p:grpSpPr>
        <p:sp>
          <p:nvSpPr>
            <p:cNvPr id="57" name=""/>
            <p:cNvSpPr/>
            <p:nvPr/>
          </p:nvSpPr>
          <p:spPr>
            <a:xfrm>
              <a:off x="7130160" y="1382760"/>
              <a:ext cx="75636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400" spc="-1" strike="noStrike">
                  <a:solidFill>
                    <a:srgbClr val="003399"/>
                  </a:solidFill>
                  <a:latin typeface="Trebuchet MS"/>
                </a:rPr>
                <a:t>EFICA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23880" y="5040360"/>
              <a:ext cx="97128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400" spc="-1" strike="noStrike">
                  <a:solidFill>
                    <a:srgbClr val="003399"/>
                  </a:solidFill>
                  <a:latin typeface="Trebuchet MS"/>
                </a:rPr>
                <a:t>INEFICA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5967360" y="1671480"/>
              <a:ext cx="2549520" cy="3302280"/>
              <a:chOff x="5967360" y="1671480"/>
              <a:chExt cx="2549520" cy="3302280"/>
            </a:xfrm>
          </p:grpSpPr>
          <p:sp>
            <p:nvSpPr>
              <p:cNvPr id="60" name=""/>
              <p:cNvSpPr/>
              <p:nvPr/>
            </p:nvSpPr>
            <p:spPr>
              <a:xfrm rot="16200000">
                <a:off x="5540400" y="2201400"/>
                <a:ext cx="3095640" cy="2241720"/>
              </a:xfrm>
              <a:prstGeom prst="triangle">
                <a:avLst>
                  <a:gd name="adj" fmla="val 50625"/>
                </a:avLst>
              </a:prstGeom>
              <a:solidFill>
                <a:srgbClr val="bbe0e3"/>
              </a:solidFill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217000" y="1671480"/>
                <a:ext cx="0" cy="330228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42200" y="183024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242200" y="487692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253360" y="208440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263080" y="233856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253360" y="259092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242200" y="284472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253360" y="309888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253360" y="335268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253360" y="360684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263080" y="386064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253360" y="411480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263080" y="436896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263080" y="462276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6806880" y="2967120"/>
              <a:ext cx="1489680" cy="9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400" spc="-1" strike="noStrike">
                  <a:solidFill>
                    <a:srgbClr val="003399"/>
                  </a:solidFill>
                  <a:latin typeface="Trebuchet MS"/>
                </a:rPr>
                <a:t>ACTITUD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400" spc="-1" strike="noStrike">
                  <a:solidFill>
                    <a:srgbClr val="003399"/>
                  </a:solidFill>
                  <a:latin typeface="Trebuchet MS"/>
                </a:rPr>
                <a:t>COMPROMI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400" spc="-1" strike="noStrike">
                  <a:solidFill>
                    <a:srgbClr val="003399"/>
                  </a:solidFill>
                  <a:latin typeface="Trebuchet MS"/>
                </a:rPr>
                <a:t>SENTIMIEN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753000" y="2525760"/>
            <a:ext cx="112824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CON ÉX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67240" y="6183360"/>
            <a:ext cx="104004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SIN ÉX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417760" y="2814480"/>
            <a:ext cx="3095640" cy="3302280"/>
            <a:chOff x="2417760" y="2814480"/>
            <a:chExt cx="3095640" cy="3302280"/>
          </a:xfrm>
        </p:grpSpPr>
        <p:sp>
          <p:nvSpPr>
            <p:cNvPr id="79" name=""/>
            <p:cNvSpPr/>
            <p:nvPr/>
          </p:nvSpPr>
          <p:spPr>
            <a:xfrm rot="16200000">
              <a:off x="2844000" y="2916720"/>
              <a:ext cx="2243160" cy="3095640"/>
            </a:xfrm>
            <a:prstGeom prst="triangle">
              <a:avLst>
                <a:gd name="adj" fmla="val 50625"/>
              </a:avLst>
            </a:prstGeom>
            <a:solidFill>
              <a:srgbClr val="bbe0e3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092560" y="2814480"/>
              <a:ext cx="0" cy="330228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18120" y="297324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18120" y="601992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129280" y="322740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38640" y="348156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129280" y="373392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18120" y="398772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29280" y="424188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129280" y="449568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29280" y="474984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138640" y="500364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29280" y="525780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38640" y="551196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38640" y="576576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89680" y="4110120"/>
            <a:ext cx="1896480" cy="7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COMPORT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DESEMP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RESULT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6984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Un líder tiene tres opciones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47720" y="2057400"/>
            <a:ext cx="764064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Utilizar el estilo requerido.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457200" indent="-4572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Supervisar excesivamente.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457200" indent="-4572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Supervisar insuficientemente.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onsecuencias de la 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supervisión excesiva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4880" y="1925280"/>
            <a:ext cx="6985080" cy="418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Participación disminuida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Frustración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Resentimiento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Menor iniciativa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Menor autonomía en el desempeño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6360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onsecuencias de l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supervisión insufici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32000" y="1989000"/>
            <a:ext cx="71294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Menor éx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Frus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Resent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Menor inici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Reacciones de rechazo o eva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Menor eficiencia en el desemp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0280" y="43920"/>
            <a:ext cx="9118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Alianza para el desempeño/Acuerdo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sobre el Estilo de Liderazgo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720" y="11872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   </a:t>
            </a: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omunicarse con sus colaboradores y llegar a acuerdos sobre el estilo de liderazgo a utilizar, para ayudarles a desarrollar su competencia y compromiso; y a alcanzar sus metas personales y las de la organización.</a:t>
            </a:r>
            <a:endParaRPr b="0" lang="en-US" sz="26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50640" y="115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El Proceso de administración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del desempeño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51000" y="206064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64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1.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Planificación del desempeño.</a:t>
            </a:r>
            <a:endParaRPr b="0" lang="en-US" sz="3000" spc="-1" strike="noStrike">
              <a:solidFill>
                <a:srgbClr val="808080"/>
              </a:solidFill>
              <a:latin typeface="Unit-Light"/>
            </a:endParaRPr>
          </a:p>
          <a:p>
            <a:pPr marL="4064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2.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Asesoría día a día utilizando el estilo de liderazgo acordado.</a:t>
            </a:r>
            <a:endParaRPr b="0" lang="en-US" sz="3000" spc="-1" strike="noStrike">
              <a:solidFill>
                <a:srgbClr val="808080"/>
              </a:solidFill>
              <a:latin typeface="Unit-Light"/>
            </a:endParaRPr>
          </a:p>
          <a:p>
            <a:pPr marL="4064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3.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Evaluación del desempeño.</a:t>
            </a:r>
            <a:endParaRPr b="0" lang="en-US" sz="30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9118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Alianza para el desempeño/Acuerdo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sobre el estilo de liderazgo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1.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nseñe a sus colaboradores el modelo del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Liderazgo Situacional II (SLII®)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4572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2.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dentifique las áreas claves de responsabilidad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4572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3.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fina las meta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192" name=""/>
          <p:cNvSpPr/>
          <p:nvPr/>
        </p:nvSpPr>
        <p:spPr>
          <a:xfrm>
            <a:off x="3174480" y="3429000"/>
            <a:ext cx="265176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M—Motiv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E—Especí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T—Trascen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A—Alcanz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S—Segu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03280" y="53316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Alianza para el desempeño/Acuerdo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sobre el estilo de liderazgo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4000" y="1905120"/>
            <a:ext cx="843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4. Evalúe el nivel de desarrollo del colaborador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5. Discuta con el colaborador el estilo de liderazgo utilizado anteriormente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6. Llegue a un acuerdo sobre el estilo de liderazgo a utilizar en el futuro y especifique las acciones que tomará, como líder, para dirigir y apoyar los esfuerzos del colaborador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7. Sea consistente en la utilización del estilo de liderazgo acordad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90720" y="15238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3399"/>
                </a:solidFill>
                <a:latin typeface="Trebuchet MS"/>
              </a:rPr>
              <a:t>Lo importante como líder no es lo que sucede cuando usted está supervisando; es lo que sucede cuando usted no está presente.</a:t>
            </a:r>
            <a:endParaRPr b="0" lang="en-US" sz="40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Creencias y valores</a:t>
            </a:r>
            <a:br>
              <a:rPr sz="3000"/>
            </a:b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acerca de las personas</a:t>
            </a:r>
            <a:endParaRPr b="0" lang="en-US" sz="30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Las personas pueden y quieren desarrollarse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El liderazgo es una alianza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Las personas prosperan mediante la participación y la comunicación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4080" y="41400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600" spc="-1" strike="noStrike">
                <a:solidFill>
                  <a:srgbClr val="003399"/>
                </a:solidFill>
                <a:latin typeface="Trebuchet MS"/>
              </a:rPr>
              <a:t>Liderazgo</a:t>
            </a:r>
            <a:br>
              <a:rPr sz="3000"/>
            </a:br>
            <a:endParaRPr b="0" lang="en-US" sz="4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El liderazgo es un proceso de influencia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Es trabajar con los colaboradores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para alcanzar sus metas personales y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las metas de la organización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Las tres habilidades de </a:t>
            </a:r>
            <a:br>
              <a:rPr sz="3000"/>
            </a:b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un líder situacional</a:t>
            </a:r>
            <a:endParaRPr b="0" lang="en-US" sz="30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3640" y="1371600"/>
            <a:ext cx="8569080" cy="493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Diagnosticar: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 determinar las necesidades de desarroll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Flexibilidad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: utilizar una variedad de estilos de liderazg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Alianza para el desempeño/Acuerdo sobre el estilo de liderazgo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: lograr acuerdos con los colaboradores acerca del estilo de liderazgo a utilizar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2760" y="269640"/>
            <a:ext cx="7780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Las cuatro funciones</a:t>
            </a:r>
            <a:br>
              <a:rPr sz="3000"/>
            </a:b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del liderazgo</a:t>
            </a:r>
            <a:endParaRPr b="0" lang="en-US" sz="30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47640" y="1773360"/>
            <a:ext cx="658656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1. Fijar metas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2. Retroalimentar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3. Solucionar problemas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4. Proporcionar reconocimiento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90720" y="60948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Diagnostic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141300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ts val="4799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Es la disposición y habilidad para observar una situación y evaluar las necesidades de desarrollo de los colaboradores, con el fin de decidir qué estilo de liderazgo utiliz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20:51:25Z</dcterms:created>
  <dc:creator>usuario</dc:creator>
  <dc:description/>
  <dc:language>en-US</dc:language>
  <cp:lastModifiedBy>usuario</cp:lastModifiedBy>
  <dcterms:modified xsi:type="dcterms:W3CDTF">2008-10-14T01:16:46Z</dcterms:modified>
  <cp:revision>35</cp:revision>
  <dc:subject/>
  <dc:title>Título </dc:title>
</cp:coreProperties>
</file>