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7410E1-F4C1-4B08-8857-426F6DF66D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5A1090-3472-4659-A85D-D3A91E5167D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BFF9-2520-4FCA-A1B7-E1FDDF11A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2B8CC-FCD9-46FA-B50F-7B964BCF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7E53-79A7-449F-B1A4-3A4988C4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9D15-91F0-4638-AE49-3FBF84970A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5943-63C6-43C5-ADD4-DF35C25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D398-C482-4418-84B6-5165C70B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1C65-A513-4AC6-BB1B-6C2295E8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815F-D009-40B8-BC49-60FF965C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A99F-6734-450A-A21F-392F32A9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3657-AC70-4009-9A7A-1494F2D2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60B6-37BD-4997-8D18-E81CFE78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2427-7625-4BBA-8F3A-0C0B9C9A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B2ED-08F7-41EC-875B-6B1538A49FA4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873920" y="404640"/>
            <a:ext cx="12351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000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Teorías de Motivación </a:t>
            </a: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1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33000"/>
            <a:ext cx="66769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Teoría de Jerarquía de </a:t>
            </a:r>
            <a:br>
              <a:rPr sz="2600"/>
            </a:b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Necesidades A. Maslow</a:t>
            </a:r>
            <a:r>
              <a:rPr b="1" lang="es-ES" sz="26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1" lang="en-US" sz="2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Necesidades Fisiológicas     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Necesidades físicas básicas: la habilidad para adquirir alimento, abrigo, descanso, ropa o tras necesidades básicas para sobrevivir.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Necesidades de Seguridad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Un ambiente seguro y no amenazante: seguridad en el empleo, equipo y lugar seguro, estabilidad, protección, orden y límites.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Necesidades Social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Pertenencia, contacto y cordialidad con los compañeros de trabajo, actividades sociales y oportunidade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Ego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Autoestima, respeto y reconocimiento de los demás.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Autorrealización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Desarrollo de potencialidades creatividad y talentos.</a:t>
            </a:r>
            <a:r>
              <a:rPr b="0" lang="es-ES" sz="1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6369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 </a:t>
            </a: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Teoría de Motivación – </a:t>
            </a:r>
            <a:br>
              <a:rPr sz="2600"/>
            </a:b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Higiene de F. Herzberg</a:t>
            </a:r>
            <a:endParaRPr b="1" lang="en-US" sz="2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84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rebuchet MS"/>
                <a:ea typeface="Arial"/>
              </a:rPr>
              <a:t>Factores de motivación que aumentan la satisfacción de trabajo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a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Trabajo Estimulante: posibilidad de manifestar la propia personalidad y de desarrollarse plenamente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b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Sentimiento de Autorrealización: la certeza de contribuir en la realización de algo de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c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Reconocimiento: La confirmación de que se ha realizado un trabajo importante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d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Logros y cumplimiento: La oportunidad de llevar a cabo cosas interesante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e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Responsabilidad Mayor: La consecución de nuevas tareas y labores que amplíen el puesto y den alindividuo mayor control del mismo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    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62864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rebuchet MS"/>
                <a:ea typeface="Arial"/>
              </a:rPr>
              <a:t>Factores de Higiene que ante su ausencia crean insatisfacción en el trabajo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a.  Factores económicos: sueldos, salarios, prestacione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b. Condiciones Laborales: iluminación y temperatura adecuada, entorno físico seguro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c. Seguridad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rebuchet MS"/>
                <a:ea typeface="Arial"/>
              </a:rPr>
              <a:t>: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 privilegios, antigüedad, procedimientode quejas, reglas de trabajo justas, políticas y procedimiento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d. Factores Sociales: Oportunidades para interactuar con los demás trabajadores y convivir con loscompañeros de trabajo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e. Categoría y status: Títulos de los puestos, oficinas, etc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6440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s-ES_tradnl" sz="2600" spc="-1" strike="noStrike">
                <a:solidFill>
                  <a:srgbClr val="333399"/>
                </a:solidFill>
                <a:latin typeface="Trebuchet MS"/>
              </a:rPr>
              <a:t>Teoría de Motivación – </a:t>
            </a:r>
            <a:br>
              <a:rPr sz="2600"/>
            </a:br>
            <a:r>
              <a:rPr b="1" lang="es-ES_tradnl" sz="2600" spc="-1" strike="noStrike">
                <a:solidFill>
                  <a:srgbClr val="333399"/>
                </a:solidFill>
                <a:latin typeface="Trebuchet MS"/>
              </a:rPr>
              <a:t>Higiene de F. Herzberg</a:t>
            </a:r>
            <a:endParaRPr b="1" lang="en-US" sz="26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33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La Teoría de las Tres </a:t>
            </a:r>
            <a:br>
              <a:rPr sz="2600"/>
            </a:b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Necesidades D. Mclelland)</a:t>
            </a:r>
            <a:endParaRPr b="1" lang="en-US" sz="2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Su teoría se enfoca principalmente a tres necesidades: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	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-609480"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Necesidades de logro o realización: El impulso de sobresalir, de tener logros en relación con un conjunto de norma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-609480"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Necesidad de Poder: La necesidad de hacer lo que otros se comporten de determinada manera, diferente a como hubiesen actuado de manera natural (Influencia)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-609480"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Necesidad de Afiliación: El deseo de tener relaciones interpersonales amistosas y cercana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uzzle4"/>
          <p:cNvSpPr/>
          <p:nvPr/>
        </p:nvSpPr>
        <p:spPr>
          <a:xfrm>
            <a:off x="5292720" y="4681440"/>
            <a:ext cx="1700280" cy="2060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297080"/>
            <a:ext cx="10429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297080"/>
            <a:ext cx="1042920" cy="610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297080"/>
            <a:ext cx="973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297080"/>
            <a:ext cx="97308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1297080"/>
            <a:ext cx="15811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297080"/>
            <a:ext cx="158112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 sicológic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y sicosoci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297080"/>
            <a:ext cx="244800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71640" y="1585800"/>
            <a:ext cx="1225440" cy="3382920"/>
            <a:chOff x="2771640" y="1585800"/>
            <a:chExt cx="1225440" cy="3382920"/>
          </a:xfrm>
        </p:grpSpPr>
        <p:sp>
          <p:nvSpPr>
            <p:cNvPr id="70" name=""/>
            <p:cNvSpPr/>
            <p:nvPr/>
          </p:nvSpPr>
          <p:spPr>
            <a:xfrm>
              <a:off x="2771640" y="1585800"/>
              <a:ext cx="1225440" cy="33829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71640" y="1585800"/>
              <a:ext cx="1225440" cy="354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924360" y="1585800"/>
            <a:ext cx="1297080" cy="3382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1585800"/>
            <a:ext cx="1297080" cy="35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1297080"/>
            <a:ext cx="1657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rganiz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5" name=""/>
          <p:cNvSpPr/>
          <p:nvPr/>
        </p:nvSpPr>
        <p:spPr>
          <a:xfrm>
            <a:off x="7236000" y="1297080"/>
            <a:ext cx="1657080" cy="33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6" name=""/>
          <p:cNvSpPr/>
          <p:nvPr/>
        </p:nvSpPr>
        <p:spPr>
          <a:xfrm>
            <a:off x="7236000" y="1566720"/>
            <a:ext cx="7934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7" name=""/>
          <p:cNvSpPr/>
          <p:nvPr/>
        </p:nvSpPr>
        <p:spPr>
          <a:xfrm>
            <a:off x="8029440" y="1566720"/>
            <a:ext cx="8636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4796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1944720"/>
            <a:ext cx="315720" cy="3024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4537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1" name=""/>
          <p:cNvSpPr/>
          <p:nvPr/>
        </p:nvSpPr>
        <p:spPr>
          <a:xfrm>
            <a:off x="2341440" y="453708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2" name=""/>
          <p:cNvSpPr/>
          <p:nvPr/>
        </p:nvSpPr>
        <p:spPr>
          <a:xfrm>
            <a:off x="500544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32908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5" name="Puzzle1"/>
          <p:cNvSpPr/>
          <p:nvPr/>
        </p:nvSpPr>
        <p:spPr>
          <a:xfrm>
            <a:off x="2700360" y="5041800"/>
            <a:ext cx="2158920" cy="165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tOT-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1-24T16:35:03Z</dcterms:modified>
  <cp:revision>295</cp:revision>
  <dc:subject/>
  <dc:title>Título </dc:title>
</cp:coreProperties>
</file>