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F69879-2837-46C7-8B0C-C1D9DE9342D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77CA9D-B689-4410-9115-114233E81DC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8C07-B307-426E-8C97-807E4C55D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EC51-827B-46C6-BE22-97545BE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F9DD-F7D0-4CDE-82AF-3671759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51CA-3433-4379-82B1-F4F8B613A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383A-C990-421D-BE27-428711F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8A0B-2FB5-4B18-8E7E-CB0B3690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BAD5-3A03-479A-92A9-B894927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B585-727F-4014-9018-381D962D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6B21-41CF-409C-943D-2A8D2A18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6E22-F297-41DC-B85E-282B25A7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A6F3-5EFD-47C1-8021-35C49D2B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2382-CAD5-471B-9A36-814B0899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B07-8876-46A7-A989-B0EF6AB692AE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873920" y="404640"/>
            <a:ext cx="12351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000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Teorías de Motivación 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1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33000"/>
            <a:ext cx="6676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Teoría de Jerarquía de </a:t>
            </a:r>
            <a:br>
              <a:rPr sz="2600"/>
            </a:b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Necesidades A. Maslow</a:t>
            </a:r>
            <a:r>
              <a:rPr b="1" lang="es-ES" sz="26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Necesidades Fisiológicas     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Necesidades físicas básicas: la habilidad para adquirir alimento, abrigo, descanso, ropa o tras necesidades básicas para sobrevivir.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Necesidades de Seguridad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Un ambiente seguro y no amenazante: seguridad en el empleo, equipo y lugar seguro, estabilidad, protección, orden y límites.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Necesidades Social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Pertenencia, contacto y cordialidad con los compañeros de trabajo, actividades sociales y oportunidade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Ego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Autoestima, respeto y reconocimiento de los demás.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</a:rPr>
              <a:t>Autorrealización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Trebuchet MS"/>
              </a:rPr>
              <a:t>Desarrollo de potencialidades creatividad y talentos.</a:t>
            </a:r>
            <a:r>
              <a:rPr b="0" lang="es-ES" sz="1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369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 </a:t>
            </a: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Teoría de Motivación – </a:t>
            </a:r>
            <a:br>
              <a:rPr sz="2600"/>
            </a:b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Higiene de F. Herzberg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84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rebuchet MS"/>
                <a:ea typeface="Arial"/>
              </a:rPr>
              <a:t>Factores de motivación que aumentan la satisfacción de trabajo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a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Trabajo Estimulante: posibilidad de manifestar la propia personalidad y de desarrollarse plenamente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b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Sentimiento de Autorrealización: la certeza de contribuir en la realización de algo de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c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Reconocimiento: La confirmación de que se ha realizado un trabajo importante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d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Logros y cumplimiento: La oportunidad de llevar a cabo cosas interesante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e.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Responsabilidad Mayor: La consecución de nuevas tareas y labores que amplíen el puesto y den alindividuo mayor control del mismo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    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62864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rebuchet MS"/>
                <a:ea typeface="Arial"/>
              </a:rPr>
              <a:t>Factores de Higiene que ante su ausencia crean insatisfacción en el trabajo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a.  Factores económicos: sueldos, salarios, prestacione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b. Condiciones Laborales: iluminación y temperatura adecuada, entorno físico seguro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c. Seguridad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rebuchet MS"/>
                <a:ea typeface="Arial"/>
              </a:rPr>
              <a:t>:</a:t>
            </a: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 privilegios, antigüedad, procedimientode quejas, reglas de trabajo justas, políticas y procedimiento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d. Factores Sociales: Oportunidades para interactuar con los demás trabajadores y convivir con loscompañeros de trabajo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rebuchet MS"/>
                <a:ea typeface="Arial"/>
              </a:rPr>
              <a:t>e. Categoría y status: Títulos de los puestos, oficinas, etc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440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s-ES_tradnl" sz="2600" spc="-1" strike="noStrike">
                <a:solidFill>
                  <a:srgbClr val="333399"/>
                </a:solidFill>
                <a:latin typeface="Trebuchet MS"/>
              </a:rPr>
              <a:t>Teoría de Motivación – </a:t>
            </a:r>
            <a:br>
              <a:rPr sz="2600"/>
            </a:br>
            <a:r>
              <a:rPr b="1" lang="es-ES_tradnl" sz="2600" spc="-1" strike="noStrike">
                <a:solidFill>
                  <a:srgbClr val="333399"/>
                </a:solidFill>
                <a:latin typeface="Trebuchet MS"/>
              </a:rPr>
              <a:t>Higiene de F. Herzberg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33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La Teoría de las Tres </a:t>
            </a:r>
            <a:br>
              <a:rPr sz="2600"/>
            </a:br>
            <a:r>
              <a:rPr b="1" lang="es-ES_tradnl" sz="26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es D. Mclelland)</a:t>
            </a:r>
            <a:endParaRPr b="1" lang="en-US" sz="2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Su teoría se enfoca principalmente a tres necesidades: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	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-609480"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es de logro o realización: El impulso de sobresalir, de tener logros en relación con un conjunto de norma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-609480"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 de Poder: La necesidad de hacer lo que otros se comporten de determinada manera, diferente a como hubiesen actuado de manera natural (Influencia)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-609480">
              <a:spcBef>
                <a:spcPts val="451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rebuchet MS"/>
                <a:ea typeface="Arial"/>
              </a:rPr>
              <a:t>Necesidad de Afiliación: El deseo de tener relaciones interpersonales amistosas y cercana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uzzle4"/>
          <p:cNvSpPr/>
          <p:nvPr/>
        </p:nvSpPr>
        <p:spPr>
          <a:xfrm>
            <a:off x="5292720" y="4681440"/>
            <a:ext cx="1700280" cy="206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97080"/>
            <a:ext cx="10429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297080"/>
            <a:ext cx="1042920" cy="610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297080"/>
            <a:ext cx="973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297080"/>
            <a:ext cx="97308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1297080"/>
            <a:ext cx="15811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297080"/>
            <a:ext cx="158112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297080"/>
            <a:ext cx="244800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71640" y="1585800"/>
            <a:ext cx="1225440" cy="3382920"/>
            <a:chOff x="2771640" y="1585800"/>
            <a:chExt cx="1225440" cy="3382920"/>
          </a:xfrm>
        </p:grpSpPr>
        <p:sp>
          <p:nvSpPr>
            <p:cNvPr id="70" name=""/>
            <p:cNvSpPr/>
            <p:nvPr/>
          </p:nvSpPr>
          <p:spPr>
            <a:xfrm>
              <a:off x="2771640" y="1585800"/>
              <a:ext cx="1225440" cy="3382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71640" y="1585800"/>
              <a:ext cx="122544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924360" y="1585800"/>
            <a:ext cx="1297080" cy="3382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1585800"/>
            <a:ext cx="12970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297080"/>
            <a:ext cx="1657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5" name=""/>
          <p:cNvSpPr/>
          <p:nvPr/>
        </p:nvSpPr>
        <p:spPr>
          <a:xfrm>
            <a:off x="7236000" y="1297080"/>
            <a:ext cx="1657080" cy="33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566720"/>
            <a:ext cx="7934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7" name=""/>
          <p:cNvSpPr/>
          <p:nvPr/>
        </p:nvSpPr>
        <p:spPr>
          <a:xfrm>
            <a:off x="8029440" y="1566720"/>
            <a:ext cx="8636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796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944720"/>
            <a:ext cx="315720" cy="3024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4537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1" name=""/>
          <p:cNvSpPr/>
          <p:nvPr/>
        </p:nvSpPr>
        <p:spPr>
          <a:xfrm>
            <a:off x="2341440" y="453708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2" name=""/>
          <p:cNvSpPr/>
          <p:nvPr/>
        </p:nvSpPr>
        <p:spPr>
          <a:xfrm>
            <a:off x="500544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32908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5" name="Puzzle1"/>
          <p:cNvSpPr/>
          <p:nvPr/>
        </p:nvSpPr>
        <p:spPr>
          <a:xfrm>
            <a:off x="2700360" y="5041800"/>
            <a:ext cx="2158920" cy="16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tOT-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1-24T16:35:03Z</dcterms:modified>
  <cp:revision>295</cp:revision>
  <dc:subject/>
  <dc:title>Título </dc:title>
</cp:coreProperties>
</file>