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2C15-5EDC-43E6-88AD-C1E5D70B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3A58-0674-4048-A4D7-31983F37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AF3-F6F5-489D-BA77-79B867FB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DDCF-7E85-492F-B278-224C603E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0ED2-C9F6-479E-BCC5-0A7AA2BD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9F9B-A32C-4902-ACAB-19DC61C7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94C8-E86E-4510-A0D3-16B52841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053-FF91-47B6-B130-E33E6C13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2C78-25D3-4F29-A838-85F9EC3B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CB84-5507-4527-AF50-C1A9AC26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E30D-E0E1-4AEA-9D58-4390BDC9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C37A-2C47-479F-914F-9AEF3D0B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A290-4C6C-45EA-A6B1-AA9E3FF14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6840" y="96840"/>
            <a:ext cx="730080" cy="73008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1341360"/>
            <a:ext cx="8002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estión de Recursos Hu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3476520"/>
            <a:ext cx="640080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BA / D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nti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tubre de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uzzle4"/>
          <p:cNvSpPr/>
          <p:nvPr/>
        </p:nvSpPr>
        <p:spPr>
          <a:xfrm>
            <a:off x="5292720" y="4437000"/>
            <a:ext cx="1700280" cy="206064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24000" y="1052640"/>
            <a:ext cx="1042920" cy="3671640"/>
            <a:chOff x="324000" y="1052640"/>
            <a:chExt cx="1042920" cy="3671640"/>
          </a:xfrm>
        </p:grpSpPr>
        <p:sp>
          <p:nvSpPr>
            <p:cNvPr id="47" name=""/>
            <p:cNvSpPr/>
            <p:nvPr/>
          </p:nvSpPr>
          <p:spPr>
            <a:xfrm>
              <a:off x="324000" y="1052640"/>
              <a:ext cx="1042920" cy="367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eográf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erc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Tecnológ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olít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Leg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4000" y="1052640"/>
              <a:ext cx="1042920" cy="6102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ntor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1619280" y="1052640"/>
            <a:ext cx="973080" cy="3671640"/>
            <a:chOff x="1619280" y="1052640"/>
            <a:chExt cx="973080" cy="3671640"/>
          </a:xfrm>
        </p:grpSpPr>
        <p:sp>
          <p:nvSpPr>
            <p:cNvPr id="50" name=""/>
            <p:cNvSpPr/>
            <p:nvPr/>
          </p:nvSpPr>
          <p:spPr>
            <a:xfrm>
              <a:off x="1619280" y="1052640"/>
              <a:ext cx="973080" cy="367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Vi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i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bjetiv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Val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19280" y="1052640"/>
              <a:ext cx="973080" cy="6102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strateg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435640" y="1052640"/>
            <a:ext cx="1581120" cy="3671640"/>
            <a:chOff x="5435640" y="1052640"/>
            <a:chExt cx="1581120" cy="3671640"/>
          </a:xfrm>
        </p:grpSpPr>
        <p:sp>
          <p:nvSpPr>
            <p:cNvPr id="53" name=""/>
            <p:cNvSpPr/>
            <p:nvPr/>
          </p:nvSpPr>
          <p:spPr>
            <a:xfrm>
              <a:off x="5435640" y="1052640"/>
              <a:ext cx="1581120" cy="367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Trabajo en equi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omunica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onflic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Rel. Interperson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li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Lideraz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35640" y="1052640"/>
              <a:ext cx="1581120" cy="6102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Procesos sicológic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y sicosoci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771640" y="1052640"/>
            <a:ext cx="2448000" cy="288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771640" y="1341360"/>
            <a:ext cx="1225440" cy="3382920"/>
            <a:chOff x="2771640" y="1341360"/>
            <a:chExt cx="1225440" cy="3382920"/>
          </a:xfrm>
        </p:grpSpPr>
        <p:sp>
          <p:nvSpPr>
            <p:cNvPr id="57" name=""/>
            <p:cNvSpPr/>
            <p:nvPr/>
          </p:nvSpPr>
          <p:spPr>
            <a:xfrm>
              <a:off x="2771640" y="1341360"/>
              <a:ext cx="1225440" cy="3382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l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iramid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atri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st. Pues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st. Tare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71640" y="1341360"/>
              <a:ext cx="1225440" cy="35424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structu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924360" y="1341360"/>
            <a:ext cx="1296720" cy="3382920"/>
            <a:chOff x="3924360" y="1341360"/>
            <a:chExt cx="1296720" cy="3382920"/>
          </a:xfrm>
        </p:grpSpPr>
        <p:sp>
          <p:nvSpPr>
            <p:cNvPr id="60" name=""/>
            <p:cNvSpPr/>
            <p:nvPr/>
          </p:nvSpPr>
          <p:spPr>
            <a:xfrm>
              <a:off x="3924360" y="1341360"/>
              <a:ext cx="1296720" cy="3382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Selección</a:t>
              </a: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apacit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v. Desemp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Remunera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Incentiv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lan Carre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v. Poten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Desv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24360" y="1341360"/>
              <a:ext cx="1296720" cy="35424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Sistem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7236000" y="1052640"/>
            <a:ext cx="1657080" cy="3671640"/>
            <a:chOff x="7236000" y="1052640"/>
            <a:chExt cx="1657080" cy="3671640"/>
          </a:xfrm>
        </p:grpSpPr>
        <p:sp>
          <p:nvSpPr>
            <p:cNvPr id="63" name=""/>
            <p:cNvSpPr/>
            <p:nvPr/>
          </p:nvSpPr>
          <p:spPr>
            <a:xfrm>
              <a:off x="7236000" y="1052640"/>
              <a:ext cx="1657080" cy="367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rganiz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rup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Individ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36000" y="1052640"/>
              <a:ext cx="1657080" cy="252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Result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36000" y="1323000"/>
              <a:ext cx="793440" cy="3398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RR.H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029440" y="1323000"/>
              <a:ext cx="863280" cy="3398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fect. Org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4680" y="404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Modelo Comportamiento Organiz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1700280"/>
            <a:ext cx="315720" cy="30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429264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41440" y="4292640"/>
            <a:ext cx="935280" cy="504720"/>
          </a:xfrm>
          <a:custGeom>
            <a:avLst/>
            <a:gdLst>
              <a:gd name="textAreaLeft" fmla="*/ 146160 w 935280"/>
              <a:gd name="textAreaRight" fmla="*/ 818640 w 9352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05440" y="4221000"/>
            <a:ext cx="934920" cy="50508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32720" y="4221000"/>
            <a:ext cx="934920" cy="50508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68360" y="5084640"/>
            <a:ext cx="1582920" cy="108108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uzzle1"/>
          <p:cNvSpPr/>
          <p:nvPr/>
        </p:nvSpPr>
        <p:spPr>
          <a:xfrm>
            <a:off x="2700360" y="4797360"/>
            <a:ext cx="2158920" cy="165600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éc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Arial"/>
              </a:rPr>
              <a:t>Selección de Pers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Preguntas de discu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Deberían las empresas realizar tests psicológicos o deberían centrarse sólo en habilidades específicas (competencias) respecto al car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Para qué tipo de trabajo es justificado aplicar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Se justifican los exámenes de pelo, orina, embarazo u otros a la hora de llevar a cabo la selección de pers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En qué medida usted considera que las evaluaciones a las que ha sido sometido no han sido consistentes (test-retest) o confiables para el cargo al cual postuló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419200" y="723960"/>
            <a:ext cx="47851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Selección Eficaz es</a:t>
            </a: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 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990800"/>
            <a:ext cx="766116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spAutoFit/>
          </a:bodyPr>
          <a:p>
            <a:pPr marL="353880" indent="-35388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Un proceso organizado para recopilar información sobre competencias de los candidatos (nuevo ingreso o promoción), tomando en cuenta comportamientos pasados para predecir comportamientos futuros y asegurar la imparcialidad, efectividad y aceptación en la toma de decisiones de selec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95280" y="260280"/>
            <a:ext cx="725508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 Narrow"/>
              </a:rPr>
              <a:t>MODELO BASICO DE COMPETENCI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 Narro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981000"/>
            <a:ext cx="2133720" cy="4876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981000"/>
            <a:ext cx="3962160" cy="4876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981000"/>
            <a:ext cx="2133720" cy="4876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26668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141720"/>
            <a:ext cx="6095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4724280"/>
            <a:ext cx="6095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588000" y="1905120"/>
            <a:ext cx="2098800" cy="3971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7680" y="2406600"/>
            <a:ext cx="19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I.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ONOCIMI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7680" y="3716280"/>
            <a:ext cx="19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I. HABIL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494172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II. ACTITU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Y  VAL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905120"/>
            <a:ext cx="8229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3050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LASIFICACIÓN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MPET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1268280"/>
            <a:ext cx="381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EJEMPL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NER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55680" y="1268280"/>
            <a:ext cx="19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LO SELECCIONABLE V/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LO ENTRENABLE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51040" y="2044800"/>
            <a:ext cx="390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Conocimientos técnicos propios de la activ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Marketing - finanzas - recursos humanos - proc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Enfasis en la formación y/o la experi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3284640"/>
            <a:ext cx="390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Trabajo en equipo (hacer en conjun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Comunicación efectiva (saber escuchar y transmiti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Capacidad para la interacción/vincu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Negociación (ganar - gan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Orientación al cl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Consultoría  -  Aseso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4724280"/>
            <a:ext cx="3886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Capacidad de aprendizaje y adap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Pensamiento individual (local) v/s sistémico (glob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Actitud de servicio (sirvo, no hag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Tolerancia, respeto, empatía, lealtad, honestidad, (valo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2057400"/>
            <a:ext cx="16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SISTEM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ENTRE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Y APRENDIZ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50418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SISTEM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RECLUTAMIENTO Y SELECCIÓN</a:t>
            </a:r>
            <a:r>
              <a:rPr b="0" lang="en-US" sz="16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asificación de T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4051440"/>
            <a:ext cx="3721320" cy="18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Test de Potenc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apacidades y habilidad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respuestas correct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se cronometra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da un número (Cl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1949400"/>
            <a:ext cx="7704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Test de Personalid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aracterísticas y rasgos de persona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no posee respuestas correctas e incorrectas, sino preferenc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no se cronometra el 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da como resultado un perf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Test Psicológ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ivel Intelectual: Test Multifac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alidad lógicamente estructu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alidad proy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11280" y="765000"/>
            <a:ext cx="8281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38440" y="3332160"/>
            <a:ext cx="16779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44800" y="283860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92640" y="3832200"/>
            <a:ext cx="18237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98880" y="4413240"/>
            <a:ext cx="21175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85920" y="2252520"/>
            <a:ext cx="2908080" cy="743040"/>
          </a:xfrm>
          <a:custGeom>
            <a:avLst/>
            <a:gdLst/>
            <a:ahLst/>
            <a:rect l="l" t="t" r="r" b="b"/>
            <a:pathLst>
              <a:path w="1984" h="503">
                <a:moveTo>
                  <a:pt x="0" y="0"/>
                </a:moveTo>
                <a:lnTo>
                  <a:pt x="148" y="343"/>
                </a:lnTo>
                <a:lnTo>
                  <a:pt x="200" y="381"/>
                </a:lnTo>
                <a:lnTo>
                  <a:pt x="252" y="408"/>
                </a:lnTo>
                <a:lnTo>
                  <a:pt x="306" y="422"/>
                </a:lnTo>
                <a:lnTo>
                  <a:pt x="371" y="440"/>
                </a:lnTo>
                <a:lnTo>
                  <a:pt x="455" y="455"/>
                </a:lnTo>
                <a:lnTo>
                  <a:pt x="590" y="478"/>
                </a:lnTo>
                <a:lnTo>
                  <a:pt x="758" y="496"/>
                </a:lnTo>
                <a:lnTo>
                  <a:pt x="890" y="499"/>
                </a:lnTo>
                <a:lnTo>
                  <a:pt x="1000" y="502"/>
                </a:lnTo>
                <a:lnTo>
                  <a:pt x="1106" y="502"/>
                </a:lnTo>
                <a:lnTo>
                  <a:pt x="1228" y="496"/>
                </a:lnTo>
                <a:lnTo>
                  <a:pt x="1370" y="484"/>
                </a:lnTo>
                <a:lnTo>
                  <a:pt x="1490" y="472"/>
                </a:lnTo>
                <a:lnTo>
                  <a:pt x="1609" y="452"/>
                </a:lnTo>
                <a:lnTo>
                  <a:pt x="1648" y="440"/>
                </a:lnTo>
                <a:lnTo>
                  <a:pt x="1741" y="419"/>
                </a:lnTo>
                <a:lnTo>
                  <a:pt x="1806" y="390"/>
                </a:lnTo>
                <a:lnTo>
                  <a:pt x="1828" y="378"/>
                </a:lnTo>
                <a:lnTo>
                  <a:pt x="1860" y="340"/>
                </a:lnTo>
                <a:lnTo>
                  <a:pt x="19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87360" y="2013120"/>
            <a:ext cx="2901960" cy="506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08040" y="2017800"/>
            <a:ext cx="2443320" cy="4903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1360" y="2359080"/>
            <a:ext cx="1719000" cy="1396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7720" y="3265560"/>
            <a:ext cx="1639800" cy="741240"/>
          </a:xfrm>
          <a:custGeom>
            <a:avLst/>
            <a:gdLst/>
            <a:ahLst/>
            <a:rect l="l" t="t" r="r" b="b"/>
            <a:pathLst>
              <a:path w="1119" h="502">
                <a:moveTo>
                  <a:pt x="0" y="0"/>
                </a:moveTo>
                <a:lnTo>
                  <a:pt x="84" y="342"/>
                </a:lnTo>
                <a:lnTo>
                  <a:pt x="113" y="380"/>
                </a:lnTo>
                <a:lnTo>
                  <a:pt x="142" y="407"/>
                </a:lnTo>
                <a:lnTo>
                  <a:pt x="173" y="421"/>
                </a:lnTo>
                <a:lnTo>
                  <a:pt x="209" y="439"/>
                </a:lnTo>
                <a:lnTo>
                  <a:pt x="256" y="454"/>
                </a:lnTo>
                <a:lnTo>
                  <a:pt x="333" y="477"/>
                </a:lnTo>
                <a:lnTo>
                  <a:pt x="427" y="495"/>
                </a:lnTo>
                <a:lnTo>
                  <a:pt x="502" y="498"/>
                </a:lnTo>
                <a:lnTo>
                  <a:pt x="564" y="501"/>
                </a:lnTo>
                <a:lnTo>
                  <a:pt x="624" y="501"/>
                </a:lnTo>
                <a:lnTo>
                  <a:pt x="693" y="495"/>
                </a:lnTo>
                <a:lnTo>
                  <a:pt x="773" y="483"/>
                </a:lnTo>
                <a:lnTo>
                  <a:pt x="840" y="472"/>
                </a:lnTo>
                <a:lnTo>
                  <a:pt x="907" y="451"/>
                </a:lnTo>
                <a:lnTo>
                  <a:pt x="929" y="439"/>
                </a:lnTo>
                <a:lnTo>
                  <a:pt x="982" y="418"/>
                </a:lnTo>
                <a:lnTo>
                  <a:pt x="1018" y="389"/>
                </a:lnTo>
                <a:lnTo>
                  <a:pt x="1031" y="377"/>
                </a:lnTo>
                <a:lnTo>
                  <a:pt x="1049" y="339"/>
                </a:lnTo>
                <a:lnTo>
                  <a:pt x="1118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30320" y="3025800"/>
            <a:ext cx="1613160" cy="503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2720" y="3030480"/>
            <a:ext cx="1358640" cy="490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63680" y="3368520"/>
            <a:ext cx="952560" cy="1447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1504800" y="2763360"/>
            <a:ext cx="416160" cy="514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556080" y="2787120"/>
            <a:ext cx="417600" cy="498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68520" y="2592000"/>
            <a:ext cx="2457000" cy="46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8280" y="2595960"/>
            <a:ext cx="246240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8" y="11483"/>
                </a:moveTo>
                <a:arcTo wR="10800" hR="10800" stAng="217511" swAng="5186602"/>
                <a:lnTo>
                  <a:pt x="10800" y="10800"/>
                </a:lnTo>
                <a:close/>
              </a:path>
              <a:path fill="none" w="21600" h="21600">
                <a:moveTo>
                  <a:pt x="21578" y="11483"/>
                </a:moveTo>
                <a:arcTo wR="10800" hR="10800" stAng="217511" swAng="518660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0040" y="2773800"/>
            <a:ext cx="2251080" cy="37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696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696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64560" y="2773800"/>
            <a:ext cx="2248920" cy="37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8"/>
                </a:moveTo>
                <a:arcTo wR="10800" hR="10800" stAng="215981" swAng="5184019"/>
                <a:lnTo>
                  <a:pt x="10800" y="10800"/>
                </a:lnTo>
                <a:close/>
              </a:path>
              <a:path fill="none" w="21600" h="21600">
                <a:moveTo>
                  <a:pt x="21579" y="11478"/>
                </a:moveTo>
                <a:arcTo wR="10800" hR="10800" stAng="215981" swAng="5184019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7520" y="2876400"/>
            <a:ext cx="2053800" cy="37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696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696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57080" y="2876400"/>
            <a:ext cx="2057760" cy="37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8"/>
                </a:moveTo>
                <a:arcTo wR="10800" hR="10800" stAng="216034" swAng="5183966"/>
                <a:lnTo>
                  <a:pt x="10800" y="10800"/>
                </a:lnTo>
                <a:close/>
              </a:path>
              <a:path fill="none" w="21600" h="21600">
                <a:moveTo>
                  <a:pt x="21579" y="11478"/>
                </a:moveTo>
                <a:arcTo wR="10800" hR="10800" stAng="216034" swAng="5183966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43200" y="2976840"/>
            <a:ext cx="1878840" cy="37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3" y="21600"/>
                </a:moveTo>
                <a:arcTo wR="10800" hR="10800" stAng="5405368" swAng="5394632"/>
                <a:lnTo>
                  <a:pt x="10800" y="10800"/>
                </a:lnTo>
                <a:close/>
              </a:path>
              <a:path fill="none" w="21600" h="21600">
                <a:moveTo>
                  <a:pt x="10783" y="21600"/>
                </a:moveTo>
                <a:arcTo wR="10800" hR="10800" stAng="5405368" swAng="539463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0680" y="2981520"/>
            <a:ext cx="1880280" cy="37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9"/>
                </a:moveTo>
                <a:arcTo wR="10800" hR="10800" stAng="216261" swAng="5189128"/>
                <a:lnTo>
                  <a:pt x="10800" y="10800"/>
                </a:lnTo>
                <a:close/>
              </a:path>
              <a:path fill="none" w="21600" h="21600">
                <a:moveTo>
                  <a:pt x="21579" y="11479"/>
                </a:moveTo>
                <a:arcTo wR="10800" hR="10800" stAng="216261" swAng="5189128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20960" y="3073320"/>
            <a:ext cx="1713960" cy="37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1" y="21600"/>
                </a:moveTo>
                <a:arcTo wR="10800" hR="10800" stAng="5405915" swAng="5421024"/>
                <a:lnTo>
                  <a:pt x="10800" y="10800"/>
                </a:lnTo>
                <a:close/>
              </a:path>
              <a:path fill="none" w="21600" h="21600">
                <a:moveTo>
                  <a:pt x="10781" y="21600"/>
                </a:moveTo>
                <a:arcTo wR="10800" hR="10800" stAng="5405915" swAng="5421024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36720" y="3070440"/>
            <a:ext cx="171432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9"/>
                </a:moveTo>
                <a:arcTo wR="10800" hR="10800" stAng="216158" swAng="5183842"/>
                <a:lnTo>
                  <a:pt x="10800" y="10800"/>
                </a:lnTo>
                <a:close/>
              </a:path>
              <a:path fill="none" w="21600" h="21600">
                <a:moveTo>
                  <a:pt x="21579" y="11479"/>
                </a:moveTo>
                <a:arcTo wR="10800" hR="10800" stAng="216158" swAng="518384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28840" y="4361040"/>
            <a:ext cx="817560" cy="693720"/>
          </a:xfrm>
          <a:custGeom>
            <a:avLst/>
            <a:gdLst/>
            <a:ahLst/>
            <a:rect l="l" t="t" r="r" b="b"/>
            <a:pathLst>
              <a:path w="558" h="469">
                <a:moveTo>
                  <a:pt x="0" y="0"/>
                </a:moveTo>
                <a:lnTo>
                  <a:pt x="42" y="319"/>
                </a:lnTo>
                <a:lnTo>
                  <a:pt x="56" y="355"/>
                </a:lnTo>
                <a:lnTo>
                  <a:pt x="71" y="380"/>
                </a:lnTo>
                <a:lnTo>
                  <a:pt x="86" y="394"/>
                </a:lnTo>
                <a:lnTo>
                  <a:pt x="104" y="410"/>
                </a:lnTo>
                <a:lnTo>
                  <a:pt x="128" y="424"/>
                </a:lnTo>
                <a:lnTo>
                  <a:pt x="166" y="446"/>
                </a:lnTo>
                <a:lnTo>
                  <a:pt x="213" y="462"/>
                </a:lnTo>
                <a:lnTo>
                  <a:pt x="250" y="465"/>
                </a:lnTo>
                <a:lnTo>
                  <a:pt x="281" y="468"/>
                </a:lnTo>
                <a:lnTo>
                  <a:pt x="311" y="468"/>
                </a:lnTo>
                <a:lnTo>
                  <a:pt x="345" y="462"/>
                </a:lnTo>
                <a:lnTo>
                  <a:pt x="385" y="451"/>
                </a:lnTo>
                <a:lnTo>
                  <a:pt x="418" y="440"/>
                </a:lnTo>
                <a:lnTo>
                  <a:pt x="452" y="421"/>
                </a:lnTo>
                <a:lnTo>
                  <a:pt x="463" y="410"/>
                </a:lnTo>
                <a:lnTo>
                  <a:pt x="489" y="391"/>
                </a:lnTo>
                <a:lnTo>
                  <a:pt x="507" y="363"/>
                </a:lnTo>
                <a:lnTo>
                  <a:pt x="514" y="352"/>
                </a:lnTo>
                <a:lnTo>
                  <a:pt x="523" y="317"/>
                </a:lnTo>
                <a:lnTo>
                  <a:pt x="557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33520" y="4202280"/>
            <a:ext cx="806400" cy="299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94000" y="4206960"/>
            <a:ext cx="677880" cy="2872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98760" y="4408560"/>
            <a:ext cx="474480" cy="824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2034720" y="3758760"/>
            <a:ext cx="298440" cy="593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141720" y="3814560"/>
            <a:ext cx="280800" cy="56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03480" y="3678480"/>
            <a:ext cx="1463400" cy="399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537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537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9000" y="3674880"/>
            <a:ext cx="1390320" cy="403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20"/>
                </a:moveTo>
                <a:arcTo wR="10800" hR="10800" stAng="-25397" swAng="5432669"/>
                <a:lnTo>
                  <a:pt x="10800" y="10800"/>
                </a:lnTo>
                <a:close/>
              </a:path>
              <a:path fill="none" w="21600" h="21600">
                <a:moveTo>
                  <a:pt x="21600" y="10720"/>
                </a:moveTo>
                <a:arcTo wR="10800" hR="10800" stAng="-25397" swAng="5432669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85920" y="3913560"/>
            <a:ext cx="127260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5" y="21600"/>
                </a:moveTo>
                <a:arcTo wR="10800" hR="10800" stAng="5407912" swAng="5392088"/>
                <a:lnTo>
                  <a:pt x="10800" y="10800"/>
                </a:lnTo>
                <a:close/>
              </a:path>
              <a:path fill="none" w="21600" h="21600">
                <a:moveTo>
                  <a:pt x="10775" y="21600"/>
                </a:moveTo>
                <a:arcTo wR="10800" hR="10800" stAng="5407912" swAng="5392088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87280" y="3913560"/>
            <a:ext cx="121608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8294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8294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28760" y="4003920"/>
            <a:ext cx="117108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5160" y="4003920"/>
            <a:ext cx="112032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8988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8988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74840" y="4097520"/>
            <a:ext cx="1060200" cy="24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90600" y="4097520"/>
            <a:ext cx="1012680" cy="24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20920" y="4200840"/>
            <a:ext cx="95508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46040" y="4200840"/>
            <a:ext cx="91116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rot="16200000">
            <a:off x="2581200" y="5099760"/>
            <a:ext cx="353880" cy="336600"/>
          </a:xfrm>
          <a:prstGeom prst="rightArrow">
            <a:avLst>
              <a:gd name="adj1" fmla="val 50000"/>
              <a:gd name="adj2" fmla="val 52571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rot="16200000">
            <a:off x="2483280" y="1835640"/>
            <a:ext cx="468360" cy="333360"/>
          </a:xfrm>
          <a:prstGeom prst="rightArrow">
            <a:avLst>
              <a:gd name="adj1" fmla="val 50000"/>
              <a:gd name="adj2" fmla="val 70255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5076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rot="17220000">
            <a:off x="2931840" y="1842840"/>
            <a:ext cx="466920" cy="339840"/>
          </a:xfrm>
          <a:prstGeom prst="rightArrow">
            <a:avLst>
              <a:gd name="adj1" fmla="val 50000"/>
              <a:gd name="adj2" fmla="val 68703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4380000">
            <a:off x="2048400" y="1846800"/>
            <a:ext cx="468360" cy="339840"/>
          </a:xfrm>
          <a:prstGeom prst="rightArrow">
            <a:avLst>
              <a:gd name="adj1" fmla="val 50000"/>
              <a:gd name="adj2" fmla="val 68915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08080" y="1125360"/>
            <a:ext cx="31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ff9900"/>
                </a:solidFill>
                <a:latin typeface="Arial"/>
              </a:rPr>
              <a:t>50 candidat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84960" y="2938320"/>
            <a:ext cx="662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5680" y="346068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6160" y="401328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60120" y="449892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2924280"/>
            <a:ext cx="49276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ts val="2475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Entrevistas profundas y simu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68800" y="2327400"/>
            <a:ext cx="429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Revisión de Antecedentes o C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64000" y="3429000"/>
            <a:ext cx="3117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Evaluación Psic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94000" y="3932280"/>
            <a:ext cx="5813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Revisión de referencias y exámenes méd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58840" y="5479920"/>
            <a:ext cx="318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ff9900"/>
                </a:solidFill>
                <a:latin typeface="Arial"/>
              </a:rPr>
              <a:t>Ofer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52840" y="5445000"/>
            <a:ext cx="2553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Book Antiqua"/>
              </a:rPr>
              <a:t>Flujograma</a:t>
            </a:r>
            <a:r>
              <a:rPr b="0" lang="es-MX" sz="1600" spc="-1" strike="noStrike">
                <a:solidFill>
                  <a:srgbClr val="ffff00"/>
                </a:solidFill>
                <a:latin typeface="Book Antiqua"/>
              </a:rPr>
              <a:t> Contra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0T18:37:01Z</dcterms:created>
  <dc:creator>María José Varela </dc:creator>
  <dc:description/>
  <dc:language>en-US</dc:language>
  <cp:lastModifiedBy>usuario</cp:lastModifiedBy>
  <dcterms:modified xsi:type="dcterms:W3CDTF">2008-11-14T12:25:43Z</dcterms:modified>
  <cp:revision>55</cp:revision>
  <dc:subject/>
  <dc:title>TALLER DE SELEC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97487603</vt:r8>
  </property>
  <property fmtid="{D5CDD505-2E9C-101B-9397-08002B2CF9AE}" pid="3" name="_AuthorEmail">
    <vt:lpwstr>cbinimel@dii.uchile.cl</vt:lpwstr>
  </property>
  <property fmtid="{D5CDD505-2E9C-101B-9397-08002B2CF9AE}" pid="4" name="_AuthorEmailDisplayName">
    <vt:lpwstr>Cristian Binimelli</vt:lpwstr>
  </property>
  <property fmtid="{D5CDD505-2E9C-101B-9397-08002B2CF9AE}" pid="5" name="_EmailSubject">
    <vt:lpwstr>Clase Sistemas de RR.HH Stgo2008.ppt</vt:lpwstr>
  </property>
  <property fmtid="{D5CDD505-2E9C-101B-9397-08002B2CF9AE}" pid="6" name="_ReviewingToolsShownOnce">
    <vt:lpwstr/>
  </property>
</Properties>
</file>